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98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1.xml.rels" ContentType="application/vnd.openxmlformats-package.relationships+xml"/>
  <Override PartName="/ppt/slides/_rels/slide17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54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7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55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37.xml" ContentType="application/vnd.openxmlformats-officedocument.presentationml.slide+xml"/>
  <Override PartName="/ppt/slides/slide231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232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233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148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  <p:sldId id="407" r:id="rId170"/>
    <p:sldId id="408" r:id="rId171"/>
    <p:sldId id="409" r:id="rId172"/>
    <p:sldId id="410" r:id="rId173"/>
    <p:sldId id="411" r:id="rId174"/>
    <p:sldId id="412" r:id="rId175"/>
    <p:sldId id="413" r:id="rId176"/>
    <p:sldId id="414" r:id="rId177"/>
    <p:sldId id="415" r:id="rId178"/>
    <p:sldId id="416" r:id="rId179"/>
    <p:sldId id="417" r:id="rId180"/>
    <p:sldId id="418" r:id="rId181"/>
    <p:sldId id="419" r:id="rId182"/>
    <p:sldId id="420" r:id="rId183"/>
    <p:sldId id="421" r:id="rId184"/>
    <p:sldId id="422" r:id="rId185"/>
    <p:sldId id="423" r:id="rId186"/>
    <p:sldId id="424" r:id="rId187"/>
    <p:sldId id="425" r:id="rId188"/>
    <p:sldId id="426" r:id="rId189"/>
    <p:sldId id="427" r:id="rId190"/>
    <p:sldId id="428" r:id="rId191"/>
    <p:sldId id="429" r:id="rId192"/>
    <p:sldId id="430" r:id="rId193"/>
    <p:sldId id="431" r:id="rId194"/>
    <p:sldId id="432" r:id="rId195"/>
    <p:sldId id="433" r:id="rId196"/>
    <p:sldId id="434" r:id="rId197"/>
    <p:sldId id="435" r:id="rId198"/>
    <p:sldId id="436" r:id="rId199"/>
    <p:sldId id="437" r:id="rId200"/>
    <p:sldId id="438" r:id="rId201"/>
    <p:sldId id="439" r:id="rId202"/>
    <p:sldId id="440" r:id="rId203"/>
    <p:sldId id="441" r:id="rId204"/>
    <p:sldId id="442" r:id="rId205"/>
    <p:sldId id="443" r:id="rId206"/>
    <p:sldId id="444" r:id="rId207"/>
    <p:sldId id="445" r:id="rId208"/>
    <p:sldId id="446" r:id="rId209"/>
    <p:sldId id="447" r:id="rId210"/>
    <p:sldId id="448" r:id="rId211"/>
    <p:sldId id="449" r:id="rId212"/>
    <p:sldId id="450" r:id="rId213"/>
    <p:sldId id="451" r:id="rId214"/>
    <p:sldId id="452" r:id="rId215"/>
    <p:sldId id="453" r:id="rId216"/>
    <p:sldId id="454" r:id="rId217"/>
    <p:sldId id="455" r:id="rId218"/>
    <p:sldId id="456" r:id="rId219"/>
    <p:sldId id="457" r:id="rId220"/>
    <p:sldId id="458" r:id="rId221"/>
    <p:sldId id="459" r:id="rId222"/>
    <p:sldId id="460" r:id="rId223"/>
    <p:sldId id="461" r:id="rId224"/>
    <p:sldId id="462" r:id="rId225"/>
    <p:sldId id="463" r:id="rId226"/>
    <p:sldId id="464" r:id="rId227"/>
    <p:sldId id="465" r:id="rId228"/>
    <p:sldId id="466" r:id="rId229"/>
    <p:sldId id="467" r:id="rId230"/>
    <p:sldId id="468" r:id="rId231"/>
    <p:sldId id="469" r:id="rId232"/>
    <p:sldId id="470" r:id="rId233"/>
    <p:sldId id="471" r:id="rId234"/>
    <p:sldId id="472" r:id="rId235"/>
    <p:sldId id="473" r:id="rId236"/>
    <p:sldId id="474" r:id="rId237"/>
    <p:sldId id="475" r:id="rId238"/>
    <p:sldId id="476" r:id="rId239"/>
    <p:sldId id="477" r:id="rId240"/>
    <p:sldId id="478" r:id="rId241"/>
    <p:sldId id="479" r:id="rId242"/>
    <p:sldId id="480" r:id="rId243"/>
    <p:sldId id="481" r:id="rId244"/>
    <p:sldId id="482" r:id="rId245"/>
    <p:sldId id="483" r:id="rId246"/>
    <p:sldId id="484" r:id="rId247"/>
    <p:sldId id="485" r:id="rId248"/>
    <p:sldId id="486" r:id="rId249"/>
    <p:sldId id="487" r:id="rId250"/>
    <p:sldId id="488" r:id="rId2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slide" Target="slides/slide152.xml"/><Relationship Id="rId171" Type="http://schemas.openxmlformats.org/officeDocument/2006/relationships/slide" Target="slides/slide153.xml"/><Relationship Id="rId172" Type="http://schemas.openxmlformats.org/officeDocument/2006/relationships/slide" Target="slides/slide154.xml"/><Relationship Id="rId173" Type="http://schemas.openxmlformats.org/officeDocument/2006/relationships/slide" Target="slides/slide155.xml"/><Relationship Id="rId174" Type="http://schemas.openxmlformats.org/officeDocument/2006/relationships/slide" Target="slides/slide156.xml"/><Relationship Id="rId175" Type="http://schemas.openxmlformats.org/officeDocument/2006/relationships/slide" Target="slides/slide157.xml"/><Relationship Id="rId176" Type="http://schemas.openxmlformats.org/officeDocument/2006/relationships/slide" Target="slides/slide158.xml"/><Relationship Id="rId177" Type="http://schemas.openxmlformats.org/officeDocument/2006/relationships/slide" Target="slides/slide159.xml"/><Relationship Id="rId178" Type="http://schemas.openxmlformats.org/officeDocument/2006/relationships/slide" Target="slides/slide160.xml"/><Relationship Id="rId179" Type="http://schemas.openxmlformats.org/officeDocument/2006/relationships/slide" Target="slides/slide161.xml"/><Relationship Id="rId180" Type="http://schemas.openxmlformats.org/officeDocument/2006/relationships/slide" Target="slides/slide162.xml"/><Relationship Id="rId181" Type="http://schemas.openxmlformats.org/officeDocument/2006/relationships/slide" Target="slides/slide163.xml"/><Relationship Id="rId182" Type="http://schemas.openxmlformats.org/officeDocument/2006/relationships/slide" Target="slides/slide164.xml"/><Relationship Id="rId183" Type="http://schemas.openxmlformats.org/officeDocument/2006/relationships/slide" Target="slides/slide165.xml"/><Relationship Id="rId184" Type="http://schemas.openxmlformats.org/officeDocument/2006/relationships/slide" Target="slides/slide166.xml"/><Relationship Id="rId185" Type="http://schemas.openxmlformats.org/officeDocument/2006/relationships/slide" Target="slides/slide167.xml"/><Relationship Id="rId186" Type="http://schemas.openxmlformats.org/officeDocument/2006/relationships/slide" Target="slides/slide168.xml"/><Relationship Id="rId187" Type="http://schemas.openxmlformats.org/officeDocument/2006/relationships/slide" Target="slides/slide169.xml"/><Relationship Id="rId188" Type="http://schemas.openxmlformats.org/officeDocument/2006/relationships/slide" Target="slides/slide170.xml"/><Relationship Id="rId189" Type="http://schemas.openxmlformats.org/officeDocument/2006/relationships/slide" Target="slides/slide171.xml"/><Relationship Id="rId190" Type="http://schemas.openxmlformats.org/officeDocument/2006/relationships/slide" Target="slides/slide172.xml"/><Relationship Id="rId191" Type="http://schemas.openxmlformats.org/officeDocument/2006/relationships/slide" Target="slides/slide173.xml"/><Relationship Id="rId192" Type="http://schemas.openxmlformats.org/officeDocument/2006/relationships/slide" Target="slides/slide174.xml"/><Relationship Id="rId193" Type="http://schemas.openxmlformats.org/officeDocument/2006/relationships/slide" Target="slides/slide175.xml"/><Relationship Id="rId194" Type="http://schemas.openxmlformats.org/officeDocument/2006/relationships/slide" Target="slides/slide176.xml"/><Relationship Id="rId195" Type="http://schemas.openxmlformats.org/officeDocument/2006/relationships/slide" Target="slides/slide177.xml"/><Relationship Id="rId196" Type="http://schemas.openxmlformats.org/officeDocument/2006/relationships/slide" Target="slides/slide178.xml"/><Relationship Id="rId197" Type="http://schemas.openxmlformats.org/officeDocument/2006/relationships/slide" Target="slides/slide179.xml"/><Relationship Id="rId198" Type="http://schemas.openxmlformats.org/officeDocument/2006/relationships/slide" Target="slides/slide180.xml"/><Relationship Id="rId199" Type="http://schemas.openxmlformats.org/officeDocument/2006/relationships/slide" Target="slides/slide181.xml"/><Relationship Id="rId200" Type="http://schemas.openxmlformats.org/officeDocument/2006/relationships/slide" Target="slides/slide182.xml"/><Relationship Id="rId201" Type="http://schemas.openxmlformats.org/officeDocument/2006/relationships/slide" Target="slides/slide183.xml"/><Relationship Id="rId202" Type="http://schemas.openxmlformats.org/officeDocument/2006/relationships/slide" Target="slides/slide184.xml"/><Relationship Id="rId203" Type="http://schemas.openxmlformats.org/officeDocument/2006/relationships/slide" Target="slides/slide185.xml"/><Relationship Id="rId204" Type="http://schemas.openxmlformats.org/officeDocument/2006/relationships/slide" Target="slides/slide186.xml"/><Relationship Id="rId205" Type="http://schemas.openxmlformats.org/officeDocument/2006/relationships/slide" Target="slides/slide187.xml"/><Relationship Id="rId206" Type="http://schemas.openxmlformats.org/officeDocument/2006/relationships/slide" Target="slides/slide188.xml"/><Relationship Id="rId207" Type="http://schemas.openxmlformats.org/officeDocument/2006/relationships/slide" Target="slides/slide189.xml"/><Relationship Id="rId208" Type="http://schemas.openxmlformats.org/officeDocument/2006/relationships/slide" Target="slides/slide190.xml"/><Relationship Id="rId209" Type="http://schemas.openxmlformats.org/officeDocument/2006/relationships/slide" Target="slides/slide191.xml"/><Relationship Id="rId210" Type="http://schemas.openxmlformats.org/officeDocument/2006/relationships/slide" Target="slides/slide192.xml"/><Relationship Id="rId211" Type="http://schemas.openxmlformats.org/officeDocument/2006/relationships/slide" Target="slides/slide193.xml"/><Relationship Id="rId212" Type="http://schemas.openxmlformats.org/officeDocument/2006/relationships/slide" Target="slides/slide194.xml"/><Relationship Id="rId213" Type="http://schemas.openxmlformats.org/officeDocument/2006/relationships/slide" Target="slides/slide195.xml"/><Relationship Id="rId214" Type="http://schemas.openxmlformats.org/officeDocument/2006/relationships/slide" Target="slides/slide196.xml"/><Relationship Id="rId215" Type="http://schemas.openxmlformats.org/officeDocument/2006/relationships/slide" Target="slides/slide197.xml"/><Relationship Id="rId216" Type="http://schemas.openxmlformats.org/officeDocument/2006/relationships/slide" Target="slides/slide198.xml"/><Relationship Id="rId217" Type="http://schemas.openxmlformats.org/officeDocument/2006/relationships/slide" Target="slides/slide199.xml"/><Relationship Id="rId218" Type="http://schemas.openxmlformats.org/officeDocument/2006/relationships/slide" Target="slides/slide200.xml"/><Relationship Id="rId219" Type="http://schemas.openxmlformats.org/officeDocument/2006/relationships/slide" Target="slides/slide201.xml"/><Relationship Id="rId220" Type="http://schemas.openxmlformats.org/officeDocument/2006/relationships/slide" Target="slides/slide202.xml"/><Relationship Id="rId221" Type="http://schemas.openxmlformats.org/officeDocument/2006/relationships/slide" Target="slides/slide203.xml"/><Relationship Id="rId222" Type="http://schemas.openxmlformats.org/officeDocument/2006/relationships/slide" Target="slides/slide204.xml"/><Relationship Id="rId223" Type="http://schemas.openxmlformats.org/officeDocument/2006/relationships/slide" Target="slides/slide205.xml"/><Relationship Id="rId224" Type="http://schemas.openxmlformats.org/officeDocument/2006/relationships/slide" Target="slides/slide206.xml"/><Relationship Id="rId225" Type="http://schemas.openxmlformats.org/officeDocument/2006/relationships/slide" Target="slides/slide207.xml"/><Relationship Id="rId226" Type="http://schemas.openxmlformats.org/officeDocument/2006/relationships/slide" Target="slides/slide208.xml"/><Relationship Id="rId227" Type="http://schemas.openxmlformats.org/officeDocument/2006/relationships/slide" Target="slides/slide209.xml"/><Relationship Id="rId228" Type="http://schemas.openxmlformats.org/officeDocument/2006/relationships/slide" Target="slides/slide210.xml"/><Relationship Id="rId229" Type="http://schemas.openxmlformats.org/officeDocument/2006/relationships/slide" Target="slides/slide211.xml"/><Relationship Id="rId230" Type="http://schemas.openxmlformats.org/officeDocument/2006/relationships/slide" Target="slides/slide212.xml"/><Relationship Id="rId231" Type="http://schemas.openxmlformats.org/officeDocument/2006/relationships/slide" Target="slides/slide213.xml"/><Relationship Id="rId232" Type="http://schemas.openxmlformats.org/officeDocument/2006/relationships/slide" Target="slides/slide214.xml"/><Relationship Id="rId233" Type="http://schemas.openxmlformats.org/officeDocument/2006/relationships/slide" Target="slides/slide215.xml"/><Relationship Id="rId234" Type="http://schemas.openxmlformats.org/officeDocument/2006/relationships/slide" Target="slides/slide216.xml"/><Relationship Id="rId235" Type="http://schemas.openxmlformats.org/officeDocument/2006/relationships/slide" Target="slides/slide217.xml"/><Relationship Id="rId236" Type="http://schemas.openxmlformats.org/officeDocument/2006/relationships/slide" Target="slides/slide218.xml"/><Relationship Id="rId237" Type="http://schemas.openxmlformats.org/officeDocument/2006/relationships/slide" Target="slides/slide219.xml"/><Relationship Id="rId238" Type="http://schemas.openxmlformats.org/officeDocument/2006/relationships/slide" Target="slides/slide220.xml"/><Relationship Id="rId239" Type="http://schemas.openxmlformats.org/officeDocument/2006/relationships/slide" Target="slides/slide221.xml"/><Relationship Id="rId240" Type="http://schemas.openxmlformats.org/officeDocument/2006/relationships/slide" Target="slides/slide222.xml"/><Relationship Id="rId241" Type="http://schemas.openxmlformats.org/officeDocument/2006/relationships/slide" Target="slides/slide223.xml"/><Relationship Id="rId242" Type="http://schemas.openxmlformats.org/officeDocument/2006/relationships/slide" Target="slides/slide224.xml"/><Relationship Id="rId243" Type="http://schemas.openxmlformats.org/officeDocument/2006/relationships/slide" Target="slides/slide225.xml"/><Relationship Id="rId244" Type="http://schemas.openxmlformats.org/officeDocument/2006/relationships/slide" Target="slides/slide226.xml"/><Relationship Id="rId245" Type="http://schemas.openxmlformats.org/officeDocument/2006/relationships/slide" Target="slides/slide227.xml"/><Relationship Id="rId246" Type="http://schemas.openxmlformats.org/officeDocument/2006/relationships/slide" Target="slides/slide228.xml"/><Relationship Id="rId247" Type="http://schemas.openxmlformats.org/officeDocument/2006/relationships/slide" Target="slides/slide229.xml"/><Relationship Id="rId248" Type="http://schemas.openxmlformats.org/officeDocument/2006/relationships/slide" Target="slides/slide230.xml"/><Relationship Id="rId249" Type="http://schemas.openxmlformats.org/officeDocument/2006/relationships/slide" Target="slides/slide231.xml"/><Relationship Id="rId250" Type="http://schemas.openxmlformats.org/officeDocument/2006/relationships/slide" Target="slides/slide232.xml"/><Relationship Id="rId251" Type="http://schemas.openxmlformats.org/officeDocument/2006/relationships/slide" Target="slides/slide233.xml"/><Relationship Id="rId2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851-8094-496F-9EA6-01C96597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F6C-83C3-4788-BB06-EE09C2F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A90B1-4659-459A-90F0-3E018815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46856-324B-4435-96B5-661625F2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E58ED-DF2B-4EDC-B5C5-ABDD7DA1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1D4E-8B81-4153-ACD3-18219A0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61C3B-7226-426B-BCFD-7FC019D1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BC94B-7FF5-45E5-9071-D17B131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A98EC-2633-4BD4-9573-E5C7EDD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394FD-1AA4-4B05-BB4A-DA566498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3464C-13B0-4860-A7AC-0F5D8E10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FABA1-F9C7-44F7-8ABA-1AC532A4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D1E-E454-4259-A389-9E5AC856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C058C-C7CE-4C6D-9075-29F0CDF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541DC-B4F8-43A7-BC6E-E58DEC68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0091B-CE3D-404E-BD6F-523DCFE1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65874-548C-495F-8478-BFCF5CC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E4E5-E3DC-48BF-9E4F-24E0E39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BBCBB-82F1-40B8-8194-388B0229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457BB-E029-4729-808D-1D15A14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93684-6A41-4835-9EFE-5D9473D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BC427-FD68-4D34-8DEF-8260A4FD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1CBF7-DC4F-41ED-8AB7-4861D1AA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D5E-E17C-4638-8E5D-24DB40AD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91F10-28F0-4027-8060-68DB8CDF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D6C3-60D6-4336-8862-64F26C7C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1F43B-2821-4851-A841-6A77598F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27B4F-DE2F-41CA-A6B3-B28EF6A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B396B-40A8-418D-8374-C20B95F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4F61B-32C6-4D77-A958-628B351E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68727-3AD2-4002-AD2D-A7D7EB5A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B379-4E56-48A0-A67A-68AFF5C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37480-E4EE-46BC-ABC8-27DFA845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00DAF-6ED0-432E-9719-5630F60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9A4-6896-4CDB-AAB4-40674CB4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3E0F-2E80-4757-B756-20A4249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9F7A0-D19E-4897-97CA-08BC2071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9E4FF-3104-4E27-8C9B-EC953B9D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FF05C-E309-4336-ACAE-9144934F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9C230-56B4-4AA6-8F77-70F3C98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38474-9795-469F-B8D1-097AF94B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C223B-7D67-4985-A3A4-B1BA490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E90B8-C471-4323-8DA7-38BB0478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2D1B1-808D-4C43-9A58-05093923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30899-0DEB-4451-BEC6-50DB76F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A9C7-ABA5-4DD8-B8FE-3B086703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4054E-9CC2-415C-BD1B-020CFB7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C099C-D7DF-4C00-A993-D1AFD24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2EE52-095C-403F-826A-07B1E31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3DA3B-188D-4079-8785-17DFD62A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08A91-83A4-4FD8-83A9-4B02AEDC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87D37-ECAA-478B-8238-A96994F2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3C875-321B-4985-BA4F-21A0FE2D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DEF45-EDE4-4E34-9E77-0221CF1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63415-F113-4CAE-93F6-31401FD2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6A0CC-F8E0-4BE8-886C-3FB66D3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C46-931C-41F8-B2B5-AA365A5F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AE60F-F1CE-4563-9118-89CC65E1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B38C4-8597-4CD0-8321-14CFC30D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0E224-1D0A-46F2-B823-6EBE2B3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92C08-DC0D-4F9A-AC86-6FE2092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E4E5D-8BAE-479C-9039-626B685F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6C88C-66DF-4BF0-AE1D-93D708D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1786B-447A-4BAE-B7A3-EAE7AB69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A55E7-7D0C-4652-A44B-FC3AD1DE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BBA09-C28C-4F4C-A2FE-A6DF0753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FF0E1-082D-4B2B-B5BD-7D5D04DC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A676-DBB5-4027-A710-CBA4736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35ABF-67CF-4A18-9514-7E753786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C028B2-02D8-43FE-9DDC-10995CBE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97968-0DBB-4DB1-98AC-2CED5D9C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7E273-73C5-4780-BFC2-63CEF040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3CDB3-F5E6-4718-9BF4-8206ABF4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BBE19-666D-477D-91DC-D8051FE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D3064-EACE-4EB3-A56F-888600AD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6F77D-0CC2-4C8B-BBC2-983E1C3F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38CE6-AD0E-4BDA-B617-B93EAA3B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94A4E-21DD-4BFA-9648-C6F8195B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376A-1D52-44CA-B014-29178B42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8F879-AB65-4009-81D5-D9A7A448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9FE83-5C3C-4684-9E97-A52749FB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74320-61C0-421F-A408-4E3758F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D8D5C-5B60-4329-A7AB-2D578B9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8790B-E98B-4746-8A67-6F78F7FC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43858B-4C9B-47C2-90FA-19CBD9A4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B735A-8E5A-4B7C-B960-82347AF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D4706-2D17-4F8B-8980-62A0CE9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00DC7-7997-4A11-91E8-5F5E60B3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F261A-5A00-4AE8-9172-CBC4FE26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2672-E02E-40B2-89FA-CFCDCA57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E10EC-7F1B-41DB-B87B-76E7D7A3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A1497-80DE-4302-AE62-B4F1AC2F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F7827-F725-4C05-B772-3B4A6C4F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AA62B-9483-44AD-8A20-E0BAF699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97B48-C9B1-41FA-94F7-A61F8A5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F2A6B-F355-4C15-8D0C-18D536C6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B67390-305D-42F2-9AFE-E651C092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B73DA-B087-460A-8BFA-DEA5B7D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28F27-B355-4DBD-8806-454E1E6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F8C8C-7E63-4015-ADA9-F10E13A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DE4E-05D6-4501-8FF2-4430DB8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A27DE-04E8-4A4C-BAAC-3C4580BC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4F5B7-B73A-4CC6-9802-3CB10508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91545-1AA8-4B26-B6B9-206C893C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5D442-65C7-4488-96F2-044080B8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75927-1B41-4705-B021-579DCD5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1889C-786F-4BB3-9003-5F07DC8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7377D-F8C5-48B3-8A5D-F80DA47C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C111B-FBD1-49CA-9893-AA47B104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FC7A4-5BC7-42F5-8256-9FBAF97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1D995-3FBC-4011-B9A9-760916C0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536-4085-4253-A346-B6EC5230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2ACA-1106-4331-9211-EBB2C13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562F4-85EF-495F-A133-C24514D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2857A-F764-4ACD-A37E-20681A0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C061F-316C-4A3A-A148-2826968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CC402-BF51-4AAC-8C41-CDD4E284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6264E-8E69-456A-92E6-B5BE74E1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A66F-7433-40CA-A5BB-45F76730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F91-6B77-4C42-A7E5-9993DD30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67C-AF04-4FC4-B523-B992AE65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8152-0E4F-4CDA-BB10-840D2ECF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3D86-473E-48AF-B511-061B901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E66E-6C3A-4051-B51E-635363D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8F36-5380-4CF5-A2C1-CA9D5264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7915-065C-4F54-9A75-6378953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0969-99F1-46CD-8956-4C4A644D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72F-0753-4C9B-B5B1-7C389B6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7EDE-2880-489A-A924-001C2FE9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4A24-65FA-4BB4-93E5-F8AAAF2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2269-372C-4F58-A21F-137F9D4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D04F-6A4A-4A3B-B63D-A5E403F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D528-8928-40D6-AD3B-62485AD7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0658-42D8-4EBB-9280-70F1D850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8926-AC13-40AC-A84A-5E3836D2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A444-1952-4560-B807-0B13E89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9749-C6E7-475D-8B82-9AE060DF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81B4-E6A4-4890-BC91-F1CE50D8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C5F-D47E-4B8B-8C02-6CBB431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B60D-D23A-443B-BB2D-811E2BD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5A5C1-5C36-49F8-8106-6B139578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D6642-6BCB-4432-BE51-5CF2DB7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23A06-46DC-4F93-A7A4-9C0C500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BBD6-67DE-45C7-B206-AA42852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50D7-1BFC-4618-9B3B-3B9D96A5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1DAF-F880-4DE3-BBE6-07EEC64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22B5-00C2-42A8-89CB-4EC6100D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0E00-ECE2-4625-B461-4BBC23FB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D347-B8BA-43AE-909C-DEBBE59B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65B-68D1-4CC6-999B-89B6A52C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D2AA-A065-402C-A008-7B84AC0F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3448-B45D-401A-8E58-08D5648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7E3E-55C5-43BA-BD34-A77C285F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89BED-35FF-4E48-A1D3-B37ED4C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0BD3-794C-470D-AFBB-0A222A85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76A2-807F-4513-886A-A0C54E0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82F7-0C2E-4FA9-9882-944ADA9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799D-9C12-4D64-A874-E4A6E7C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F01B7-5F1A-4D2B-84AB-F4B9B232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AE05B-6B61-41C1-84CF-72E514C5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360-4A12-41C0-83C8-4E547B90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6077-AD54-40C2-8931-5AD4796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F3099-F006-451D-81B8-6B02B14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1804-6381-466F-8CDD-BCF0E59A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9306A-C7EC-4C2A-B163-7060C243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3C10-A085-4912-A911-6DC0C32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5E05C-F517-4E2A-8F06-5CE79AAB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800D-35CB-4900-9AF1-CC17925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921E-8CCA-4412-B2E4-0643AD49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FE21-7CEA-4E92-AB17-5E206A9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E69C-269C-4B37-96B7-D2B4A60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069-8BA6-474C-AD97-AB4BB83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248D-9527-42A9-A4AA-F8C67AF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D816-C571-44F2-8320-3019A393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C583-F71E-47E8-A545-AC89FAD9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FAB8-11E8-4EE2-B626-33FFDFC9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0D63-A6D8-4C49-A0DD-135B7D5B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5FC5-F93B-45AF-90AF-96A5D913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8EBB7-1982-4645-82EB-AC93A2F0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08C1-2F22-4DBB-9360-42C22200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A075-4F7C-4C07-A635-A3549D0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973E8-8BFE-4DCF-8310-9292E1E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711-8279-4B90-A433-5BF8010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F1DD-5493-4DFF-A410-548CD7DC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5D88-2B0D-46B2-BB1F-BF7580BD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E47D-01CA-4CF7-AB79-CF395C7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3EFF-AF95-4A80-951A-32C40BC7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616C9-C575-4D30-8A59-0CC2B5D4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AA0BC-842F-4E2B-9836-589625CA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93547-474A-4F12-A52A-BCA98AE3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9FC63-5999-4B42-BD36-4112FEAC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E54C-D117-4DAB-94A5-96A1E0C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A944-81D7-4DAA-ACB7-11A5C91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3D3-7D61-49AA-B905-20DE10F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E2CEA-977C-4099-8243-A0B7CAC5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EE8E8-1330-480D-BAD8-DB90D68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0C72-AC49-4241-8AB3-B55F374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3903E-DFC4-413E-8570-FFFB0CD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118D9-7910-4E23-BC4E-4F024F0C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9C99A-782C-4DCA-AC8F-D2BED3B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E4BD6-29F5-4C0F-884A-FC175B03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EECC9-FD59-486C-A755-C907838F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56A58-C4C8-41F7-849E-E1732E09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5E383-578A-4474-AE24-6B2D6403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EDE5-419E-422D-B809-2F41FDBDC0E3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3134-B44A-40E6-9EAC-2194D41F3179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A06D-6E58-4F15-91D5-AE82370ADD0A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DA9C-7D30-4CC2-868D-696CB07AAF97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7481-468F-4327-BADA-9FA257E969E1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0F1-F0D4-438A-8305-46AC5B568870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6F66-68BD-484B-AC85-6D058850C99C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08A-C86A-49EE-B3E5-052299C7AFAA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5924-BB10-4492-BEEF-8817EEAE744C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25C2-5C72-42F6-B1E7-7717ECBC5886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B891-8EAB-4DD5-8B95-E01AFCCF5898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13C2-F5D2-482D-B6FC-0868D8011F21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4830-8F7D-4F40-98E8-85F0F9A58BF7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1F6F-42EC-4015-9D2F-59F3AF74C53D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B92-F3A5-49A5-B9B1-43992F75C553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4EA0-9FAD-4018-88A7-73D107929D9E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CBEE-BAF4-445F-983A-8AAE1814E02D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553320" y="1484280"/>
            <a:ext cx="7913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entury Gothic"/>
              </a:rPr>
              <a:t>UN PO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Baskerville Old Face"/>
              </a:rPr>
              <a:t>MISTERIO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entury Gothic"/>
              </a:rPr>
              <a:t>QUE CONV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468360" y="18511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renunciare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pecado a menos que veamos su pecaminos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395280" y="1989000"/>
            <a:ext cx="8280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iscernimos el egoísmo de nuestros motivos y la enemistad contra Di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que ha manchado todos los actos de nuestr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395280" y="191304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onocemos que nuestra propia justicia es en verdad como andrajos inmun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95280" y="198900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solamente la sangre de Cristo puede limpiarnos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las manchas del pecado y renovar nuestro corazón a su semej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324000" y="22050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 rayo de luz de la gloria de Dios, un destello de la pureza de Cristo que penetre en el a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468360" y="206064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lo que hace dolorosamente visible toda mancha de pecado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descubre la deformidad y los defectos del carácter hum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468360" y="182232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ce patentes los deseos impuros, la infide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l corazón y la impureza de los lab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324000" y="2060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s actos de desleal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l pecador que anulan la l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Dios, quedan expuestos a su vi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24000" y="2406600"/>
            <a:ext cx="8280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 espíritu se afl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e oprime bajo la influencia escudriñadora del Espíritu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95280" y="213984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e aborrece a sí mismo viendo el carácter puro 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n mancha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395280" y="190332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uando Daniel vio la gloria que rodeaba al mensajero celestial que le había sido enviado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 sintió abrumado por su propia debilidad e imperf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95280" y="19242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ientras no lo repudiemos de corazón, no habrá cambio real en la 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324000" y="1374840"/>
            <a:ext cx="849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biendo el efecto de la maravillosa escena, d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No quedó en mi esfuerzo, y mi lozanía se me demudó en palidez  de muerte, y no retuve fuerza alguna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Daniel 10: 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395280" y="1800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el alma se conmueve de esta manera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odia el egoísmo, aborrece el amor prop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324000" y="1852560"/>
            <a:ext cx="864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busca, mediante la justicia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pureza de corazón que está en armonía con la ley de Dios y con el carácter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468360" y="1677960"/>
            <a:ext cx="8207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an Pablo dice 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cuanto a justicia que haya en la ley”.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s decir, en cuanto se refiere a las obras externas, er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irreprensi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Filipenses 3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395280" y="192420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cuando comprendió el carácter espiritual de la ley, se vio a sí mismo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395280" y="177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uzgado por la letra de la ley como los hombres la aplican a la vida externa, se había abstenido de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79280" y="1852560"/>
            <a:ext cx="87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o cuando miró en la profundidad de sus santos preceptos y se vio como Dios lo veía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 humilló profundamente y confesó su mal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324000" y="1476360"/>
            <a:ext cx="83516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c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yo aparte de la ley vivía en un tiempo: mas cuando vino el mandamiento, revivió el pecado, y yo morí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Romanos 7: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395280" y="1700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do vio la naturaleza espiritual de la ley, se le mostró el pecado en su verdadera deformidad y su estimación propia se desvaneci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539640" y="1989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todos los pecados son delante de Dios de igual magnit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539640" y="1700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y muchos que no entienden la naturaleza verdadera del arrepentimi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395280" y="17002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y diferencia de pecados a su juicio, como la hay a juicio d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1"/>
          <p:cNvSpPr/>
          <p:nvPr/>
        </p:nvSpPr>
        <p:spPr>
          <a:xfrm>
            <a:off x="468360" y="1924200"/>
            <a:ext cx="82072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n embargo, aunque éste o aquel acto malo pueda parecer frívolo a los ojos de los hombre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ingún pecado es pequeño a la vista de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2"/>
          <p:cNvSpPr/>
          <p:nvPr/>
        </p:nvSpPr>
        <p:spPr>
          <a:xfrm>
            <a:off x="539640" y="1709640"/>
            <a:ext cx="80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juicio de los hombres es parcial e imperfec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ás Dios ve todas las cosas como son realm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468360" y="162864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borracho 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testado y se d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su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excluirá del ci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395280" y="18032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ientras que el orgullo, el egoísmo y la codicia muchísimas veces pasan sin condena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468360" y="1989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 embargo, éstos son pecados que ofenden especialmente a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395280" y="1628640"/>
            <a:ext cx="8209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son contrarios a la benevolencia de su caráct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 ese amor desinteresado que es la misma atmósfera del universo que no ha caí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250920" y="220500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que cae en alguno de los pecados gra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 avergonzarse y sentir su necesidad de la gracia de Cris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395280" y="177336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el orgullo no siente ninguna necesidad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así cierra el corazón a Cristo y a las infinitas bendiciones que él vino a derra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539640" y="21510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pobre publicano que oraba diciendo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Dios, ten misericordia de mí, pecador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Lucas 18: 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539640" y="213984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an número de personas se entristecen p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er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179280" y="1892160"/>
            <a:ext cx="8569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Se consideraba a sí mismo como un hombre muy malvado y así lo consideraban los demá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395280" y="2349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él sentía su necesid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 su carga de pecado y vergüenza vino delante de Dios implorando su misericor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468360" y="182232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 corazón estaba abierto para que el Espíritu de Dios hiciese en él su obra de gracia y lo libertase del poder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468360" y="1658880"/>
            <a:ext cx="813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oración jactanciosa y presuntuosa del fariseo mostró que su corazón estaba cerrado a la influencia del Espíritu S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324000" y="1844640"/>
            <a:ext cx="8496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 estar lejos de Dios, no tenía idea de su propia corrupció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contrastaba con la perfección de la Santidad Div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395280" y="20653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sentía necesidad alguna y no recibió 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395280" y="198900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Si percibís vuestra condición pecaminos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esperéis a hace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ejores vosotros mis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250920" y="1873080"/>
            <a:ext cx="8713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¡Cuántos hay que piensan que no son bastante buenos para ir a Cristo!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Esperáis haceros mejores por vuestros propios esfuerzo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250920" y="1701720"/>
            <a:ext cx="8424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Puede acaso el etíope mudar su piel, o el leopardo sus manchas? entonces podréis vosotros también obrar bien, que estáis habituados a obrar  mal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Jeremías 13: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611280" y="21384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y ayuda para nosotros solamente en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95280" y="191304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aun se reforman exteriorment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temen que su mala vida les acarree sufrimi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395280" y="174960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No debemos permanecer en espera de persuasiones más fuerte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ejores oportunidades o de caracteres más sa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179280" y="1905120"/>
            <a:ext cx="8856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ada podemos h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r nosotros mis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bemos ir a Cristo tales como so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1"/>
          <p:cNvSpPr/>
          <p:nvPr/>
        </p:nvSpPr>
        <p:spPr>
          <a:xfrm>
            <a:off x="250920" y="1773360"/>
            <a:ext cx="8785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nadie se engañe a s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ismo con el pens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 que Dios en su gran amor y misericordia, salvará aun a aquellos que rechazan su g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108000" y="1989000"/>
            <a:ext cx="90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excesiva corrup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pecado puede conocerse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lamente a la luz de la cru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324000" y="1916280"/>
            <a:ext cx="8496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los hombres insisten en que Dios es demasiado bueno para desechar a los pecador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iren al Calv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468360" y="207972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Fue porque no había otra manera en que el hombre pudiese ser salv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395280" y="1628640"/>
            <a:ext cx="8424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rque sin el sacrificio era imposible que la raza humana escapara del poder contaminador del pecado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 pusiera en comunión con los seres sant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108000" y="179064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Imposible que los hombres llegaran a ser partícipes de la vida espirit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324000" y="16686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fue por esto por lo que Cristo tomó sobre sí la culpa del desobediente y sufrió en lugar del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250920" y="17413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amor, los sufrimientos y la muerte del Hijo de Dios, todo da testimonio de la terrible enormidad d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539640" y="20685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esto no es arrepentimiento en el sentido bíbl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395280" y="1773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prueba que no hay modo de escapar de su poder, sino mediante la sumisión del alma a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2"/>
          <p:cNvSpPr/>
          <p:nvPr/>
        </p:nvSpPr>
        <p:spPr>
          <a:xfrm>
            <a:off x="324000" y="174132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gunas veces los impenitentes se excusan diciendo cosas de los que profesan ser cristi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179280" y="1515960"/>
            <a:ext cx="88203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oy tan bueno como ellos.  No son más abnegados, sobrios, ni circunspectos en su conducta que yo. Les gustan los placeres y la complacencia propia tanto como a mí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324000" y="20160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sí hacen de las faltas de  otros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excusa por su propio descuido del d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1"/>
          <p:cNvSpPr/>
          <p:nvPr/>
        </p:nvSpPr>
        <p:spPr>
          <a:xfrm>
            <a:off x="324000" y="19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lo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faltas de otros no justifican los nuest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324000" y="200664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el Señor no 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 dado un imperfecto modelo hu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ángulo 1"/>
          <p:cNvSpPr/>
          <p:nvPr/>
        </p:nvSpPr>
        <p:spPr>
          <a:xfrm>
            <a:off x="324000" y="169056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nos ha d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modelo al inmaculado Hijo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ángulo 1"/>
          <p:cNvSpPr/>
          <p:nvPr/>
        </p:nvSpPr>
        <p:spPr>
          <a:xfrm>
            <a:off x="324000" y="19242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los que se quejan de la mala vida de los que profesan ser creyente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n los que deberían presentar una vida y un ejemplo más no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ángulo 1"/>
          <p:cNvSpPr/>
          <p:nvPr/>
        </p:nvSpPr>
        <p:spPr>
          <a:xfrm>
            <a:off x="324000" y="21700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i tienen un concepto tan alto de lo que un cristiano debe 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S SU PECADO TANTO MAY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ángulo 1"/>
          <p:cNvSpPr/>
          <p:nvPr/>
        </p:nvSpPr>
        <p:spPr>
          <a:xfrm>
            <a:off x="324000" y="207972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aben lo que es bueno y, sin embargo rehúsan hacer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971640" y="232236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mentan la pena más que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ángulo 1"/>
          <p:cNvSpPr/>
          <p:nvPr/>
        </p:nvSpPr>
        <p:spPr>
          <a:xfrm>
            <a:off x="395280" y="16686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sterguéis la obra de abandonar vuestros pecados y buscar la pureza del corazón por medio de Jesú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ángulo 1"/>
          <p:cNvSpPr/>
          <p:nvPr/>
        </p:nvSpPr>
        <p:spPr>
          <a:xfrm>
            <a:off x="395280" y="2060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quí es donde miles y miles han errado, para su perdición eter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ángulo 1"/>
          <p:cNvSpPr/>
          <p:nvPr/>
        </p:nvSpPr>
        <p:spPr>
          <a:xfrm>
            <a:off x="324000" y="207972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insistiré sobre la brevedad e incertidumbre de la vi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ángulo 1"/>
          <p:cNvSpPr/>
          <p:nvPr/>
        </p:nvSpPr>
        <p:spPr>
          <a:xfrm>
            <a:off x="395280" y="1916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hay un terrible peligro, un peligro que no se entiende suficientem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ángulo 1"/>
          <p:cNvSpPr/>
          <p:nvPr/>
        </p:nvSpPr>
        <p:spPr>
          <a:xfrm>
            <a:off x="468360" y="2060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retardarse en ceder a la invitación del Espíritu Santo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ángulo 1"/>
          <p:cNvSpPr/>
          <p:nvPr/>
        </p:nvSpPr>
        <p:spPr>
          <a:xfrm>
            <a:off x="468360" y="15876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preferir vivir en el pecado, porque tal demora consiste realmente en e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ángulo 1"/>
          <p:cNvSpPr/>
          <p:nvPr/>
        </p:nvSpPr>
        <p:spPr>
          <a:xfrm>
            <a:off x="539640" y="1628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ecado,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or pequeño que se suponga,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no puede consentirse sino a riesgo de una pérdida infi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ángulo 1"/>
          <p:cNvSpPr/>
          <p:nvPr/>
        </p:nvSpPr>
        <p:spPr>
          <a:xfrm>
            <a:off x="539640" y="179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que no venzamos nos vencerá y determinará nuestra destr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ángulo 1"/>
          <p:cNvSpPr/>
          <p:nvPr/>
        </p:nvSpPr>
        <p:spPr>
          <a:xfrm>
            <a:off x="324000" y="1822320"/>
            <a:ext cx="849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dán y Eva se persuadieron de que por una cosa de tan poca importancia, como comer la fruta prohibida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podrían resultar tan terribles consecuencias como Dios les había decla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ángulo 1"/>
          <p:cNvSpPr/>
          <p:nvPr/>
        </p:nvSpPr>
        <p:spPr>
          <a:xfrm>
            <a:off x="34920" y="1844640"/>
            <a:ext cx="907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a cosa tan pequeña era la transgresión de la santa e inmutable ley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324000" y="234936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Tal fue el dolor de Esa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cuando vio que había perdido su primogenitura para siemp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ángulo 1"/>
          <p:cNvSpPr/>
          <p:nvPr/>
        </p:nvSpPr>
        <p:spPr>
          <a:xfrm>
            <a:off x="216000" y="228276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separaba de Dios al homb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ángulo 1"/>
          <p:cNvSpPr/>
          <p:nvPr/>
        </p:nvSpPr>
        <p:spPr>
          <a:xfrm>
            <a:off x="216000" y="207972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abría las puertas de la muerte y de miserias sobre nuestro m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ángulo 1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glo tras siglo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 subido de nuestra tierra un continuo lamento de afli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ángulo 1"/>
          <p:cNvSpPr/>
          <p:nvPr/>
        </p:nvSpPr>
        <p:spPr>
          <a:xfrm>
            <a:off x="250920" y="1773360"/>
            <a:ext cx="86421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reación aún gime bajo la fatiga terrible del dolor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mo consecu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de la desobediencia del h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ángulo 1"/>
          <p:cNvSpPr/>
          <p:nvPr/>
        </p:nvSpPr>
        <p:spPr>
          <a:xfrm>
            <a:off x="324000" y="21398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ielo mismo ha sentido los efectos de la rebelión del hombre contr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ángulo 1"/>
          <p:cNvSpPr/>
          <p:nvPr/>
        </p:nvSpPr>
        <p:spPr>
          <a:xfrm>
            <a:off x="287280" y="2087640"/>
            <a:ext cx="846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alvario está delante de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un recuerdo del sacrificio asombroso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se requirió para expiar la transgresión de la ley div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ángulo 1"/>
          <p:cNvSpPr/>
          <p:nvPr/>
        </p:nvSpPr>
        <p:spPr>
          <a:xfrm>
            <a:off x="250920" y="2349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consideremos el pecado como cosa trivi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ángulo 1"/>
          <p:cNvSpPr/>
          <p:nvPr/>
        </p:nvSpPr>
        <p:spPr>
          <a:xfrm>
            <a:off x="144360" y="2117880"/>
            <a:ext cx="896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oda transgresión, todo descuido o rechazo de la gracia de Crist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obra indirectamente sobre vosotr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ángulo 1"/>
          <p:cNvSpPr/>
          <p:nvPr/>
        </p:nvSpPr>
        <p:spPr>
          <a:xfrm>
            <a:off x="179280" y="165888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durece el corazón, deprava la voluntad, entorpece el entend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ángulo 1"/>
          <p:cNvSpPr/>
          <p:nvPr/>
        </p:nvSpPr>
        <p:spPr>
          <a:xfrm>
            <a:off x="324000" y="2060640"/>
            <a:ext cx="8569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solamente os hace me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clinados a ceder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también menos capaces de ceder a la tierna invitación del Espíritu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250920" y="2060640"/>
            <a:ext cx="85690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Balaam, aterrorizado por el á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que estaba en su camino con la espada desnud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reconoció su cul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ángulo 1"/>
          <p:cNvSpPr/>
          <p:nvPr/>
        </p:nvSpPr>
        <p:spPr>
          <a:xfrm>
            <a:off x="324000" y="1844640"/>
            <a:ext cx="84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uchos están apaciguando su conciencia inquieta con el pensamiento de que pueden cambiar su mala conducta cuando quie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ángulo 1"/>
          <p:cNvSpPr/>
          <p:nvPr/>
        </p:nvSpPr>
        <p:spPr>
          <a:xfrm>
            <a:off x="395280" y="1700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que pueden tratar con ligereza las invitaciones de la misericordia y, sin embargo, seguir siendo llam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ángulo 1"/>
          <p:cNvSpPr/>
          <p:nvPr/>
        </p:nvSpPr>
        <p:spPr>
          <a:xfrm>
            <a:off x="179280" y="200664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iensan que después de menospreciar al Espíritu de gra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ángulo 1"/>
          <p:cNvSpPr/>
          <p:nvPr/>
        </p:nvSpPr>
        <p:spPr>
          <a:xfrm>
            <a:off x="324000" y="14860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spués de echar su influencia del lado de Sataná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n un momento de terrible necesidad pueden cambiar de conduc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ángulo 1"/>
          <p:cNvSpPr/>
          <p:nvPr/>
        </p:nvSpPr>
        <p:spPr>
          <a:xfrm>
            <a:off x="826920" y="23544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o no se hace tan fácil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ángulo 1"/>
          <p:cNvSpPr/>
          <p:nvPr/>
        </p:nvSpPr>
        <p:spPr>
          <a:xfrm>
            <a:off x="324000" y="19033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experiencia y la educación de una vida entera han amoldado de tal manera el carácter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pocos desean después recibir la imagen de Jesú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ángulo 1"/>
          <p:cNvSpPr/>
          <p:nvPr/>
        </p:nvSpPr>
        <p:spPr>
          <a:xfrm>
            <a:off x="250920" y="1657440"/>
            <a:ext cx="8642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Un solo rasgo malo de carácter, un solo deseo pecaminoso, acariciado persistentemente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eutralizan a veces todo el poder del Evange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ángulo 1"/>
          <p:cNvSpPr/>
          <p:nvPr/>
        </p:nvSpPr>
        <p:spPr>
          <a:xfrm>
            <a:off x="971640" y="2057400"/>
            <a:ext cx="74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oda indulgencia pecaminosa fortalece la aversión del alma hacia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ángulo 1"/>
          <p:cNvSpPr/>
          <p:nvPr/>
        </p:nvSpPr>
        <p:spPr>
          <a:xfrm>
            <a:off x="539640" y="1844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hombre que manifiesta un descreído atrevimiento o una impasible indiferencia hacia la ver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ángulo 1"/>
          <p:cNvSpPr/>
          <p:nvPr/>
        </p:nvSpPr>
        <p:spPr>
          <a:xfrm>
            <a:off x="539640" y="213372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stá sino segando la cosecha de su propia siem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324000" y="206064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ólo por temor de perder la vid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s no experimentó un arrepentimiento sincero del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ángulo 1"/>
          <p:cNvSpPr/>
          <p:nvPr/>
        </p:nvSpPr>
        <p:spPr>
          <a:xfrm>
            <a:off x="395280" y="1773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 la Biblia no hay amonestación más terrible contra el jugar con el mal que las palabras del hombre sab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ángulo 1"/>
          <p:cNvSpPr/>
          <p:nvPr/>
        </p:nvSpPr>
        <p:spPr>
          <a:xfrm>
            <a:off x="539640" y="1773360"/>
            <a:ext cx="79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dic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enderán al impío sus propias iniquidades”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Proverbios 5: 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ángulo 1"/>
          <p:cNvSpPr/>
          <p:nvPr/>
        </p:nvSpPr>
        <p:spPr>
          <a:xfrm>
            <a:off x="395280" y="20685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está pronto para libertarnos del pecado, pero no fuerza la volunt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ángulo 1"/>
          <p:cNvSpPr/>
          <p:nvPr/>
        </p:nvSpPr>
        <p:spPr>
          <a:xfrm>
            <a:off x="1116000" y="1690560"/>
            <a:ext cx="7128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 por la persistencia en el pecado la voluntad misma se inclina enteramente al mal, si no queremos aceptar su gracia, 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é más puede hacer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ángulo 1"/>
          <p:cNvSpPr/>
          <p:nvPr/>
        </p:nvSpPr>
        <p:spPr>
          <a:xfrm>
            <a:off x="324000" y="159696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emos obrado nuestra propia destrucción por nuestro deliberado rechazo de su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ángulo 1"/>
          <p:cNvSpPr/>
          <p:nvPr/>
        </p:nvSpPr>
        <p:spPr>
          <a:xfrm>
            <a:off x="395280" y="177336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e aquí ahora es el tiempo acepto!  ¡he aquí ahora es el día de salvación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2 Corintios 6: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ángulo 2"/>
          <p:cNvSpPr/>
          <p:nvPr/>
        </p:nvSpPr>
        <p:spPr>
          <a:xfrm>
            <a:off x="468360" y="1895400"/>
            <a:ext cx="8136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oy, si oyereis su voz, no endurezcáis vuestros corazones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Hebreos 3: 7,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ángulo 1"/>
          <p:cNvSpPr/>
          <p:nvPr/>
        </p:nvSpPr>
        <p:spPr>
          <a:xfrm>
            <a:off x="468360" y="203832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hombre ve lo que aparece, mas el Señor ve el corazón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Samuel 16: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ángulo 1"/>
          <p:cNvSpPr/>
          <p:nvPr/>
        </p:nvSpPr>
        <p:spPr>
          <a:xfrm>
            <a:off x="216000" y="1658880"/>
            <a:ext cx="86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corazón humano con sus emociones de gozo y de tristeza, el extraviado y caprichoso corazón, morada de tanta impureza y engañ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ángulo 1"/>
          <p:cNvSpPr/>
          <p:nvPr/>
        </p:nvSpPr>
        <p:spPr>
          <a:xfrm>
            <a:off x="324000" y="23544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sabe sus motivos, sus mismos intentos y mi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2"/>
          <p:cNvSpPr/>
          <p:nvPr/>
        </p:nvSpPr>
        <p:spPr>
          <a:xfrm>
            <a:off x="179280" y="185112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Como se justificará el hombre con Dios?¿Cómo se hará justo el pecador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611280" y="242100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i un cambio de propósito, ni aborrecimiento del m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ángulo 1"/>
          <p:cNvSpPr/>
          <p:nvPr/>
        </p:nvSpPr>
        <p:spPr>
          <a:xfrm>
            <a:off x="324000" y="24256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Id a él con vuestra alma manchada como est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ángulo 1"/>
          <p:cNvSpPr/>
          <p:nvPr/>
        </p:nvSpPr>
        <p:spPr>
          <a:xfrm>
            <a:off x="324000" y="193500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el salmista, abrid sus cámaras al ojo que todo lo ve, exclaman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ángulo 1"/>
          <p:cNvSpPr/>
          <p:nvPr/>
        </p:nvSpPr>
        <p:spPr>
          <a:xfrm>
            <a:off x="468360" y="1628640"/>
            <a:ext cx="828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¡Escudríñame, oh Dios, y conoce mi corazón: ensáyame, y conoce mis pensamientos; y ve si hay en mí algún camino malo, y guíame en el camino eterno!"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139: 23, 2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ángulo 1"/>
          <p:cNvSpPr/>
          <p:nvPr/>
        </p:nvSpPr>
        <p:spPr>
          <a:xfrm>
            <a:off x="395280" y="21099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uchos aceptan una religión intelectual, una forma de santidad, sin que el corazón esté limp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ángulo 1"/>
          <p:cNvSpPr/>
          <p:nvPr/>
        </p:nvSpPr>
        <p:spPr>
          <a:xfrm>
            <a:off x="395280" y="206064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a vuestra oración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¡Crea en mí, oh Dios, un corazón limpio, y renueva un espíritu recto dentro de mí!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51: 10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ángulo 1"/>
          <p:cNvSpPr/>
          <p:nvPr/>
        </p:nvSpPr>
        <p:spPr>
          <a:xfrm>
            <a:off x="539640" y="206532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d leales con vuestra propia al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ángulo 1"/>
          <p:cNvSpPr/>
          <p:nvPr/>
        </p:nvSpPr>
        <p:spPr>
          <a:xfrm>
            <a:off x="395280" y="1822320"/>
            <a:ext cx="83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d tan diligentes, tan persistentes, como lo seríais si vuestra vida mortal estuviera en pelig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ángulo 1"/>
          <p:cNvSpPr/>
          <p:nvPr/>
        </p:nvSpPr>
        <p:spPr>
          <a:xfrm>
            <a:off x="468360" y="203832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te es un asunto que debe arreglarse entre Dios y vuestra alma; arreglarse para la etern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ángulo 1"/>
          <p:cNvSpPr/>
          <p:nvPr/>
        </p:nvSpPr>
        <p:spPr>
          <a:xfrm>
            <a:off x="395280" y="203832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esperanza supuesta, y nada más, llegará a ser vuestra ru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ángulo 1"/>
          <p:cNvSpPr/>
          <p:nvPr/>
        </p:nvSpPr>
        <p:spPr>
          <a:xfrm>
            <a:off x="468360" y="264168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tudiad la Palabra de Dios con or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324000" y="1454040"/>
            <a:ext cx="8496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udas Iscariote, después de traicionar a su Señor, exclam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e pecado, entregando la sangre inocente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27: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ángulo 1"/>
          <p:cNvSpPr/>
          <p:nvPr/>
        </p:nvSpPr>
        <p:spPr>
          <a:xfrm>
            <a:off x="250920" y="1527120"/>
            <a:ext cx="874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a Palabra os presenta, en la ley de Dios y en la vida de Cristo, los grandes principios de la santidad, sin la cual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“nadie verá al Señor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Hebreos 12: 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ángulo 1"/>
          <p:cNvSpPr/>
          <p:nvPr/>
        </p:nvSpPr>
        <p:spPr>
          <a:xfrm>
            <a:off x="395280" y="184464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vence de pecado; revela plenamente el camino de la salv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ángulo 1"/>
          <p:cNvSpPr/>
          <p:nvPr/>
        </p:nvSpPr>
        <p:spPr>
          <a:xfrm>
            <a:off x="611280" y="2006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restadle atención como a la voz de Dios que os hab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ángulo 1"/>
          <p:cNvSpPr/>
          <p:nvPr/>
        </p:nvSpPr>
        <p:spPr>
          <a:xfrm>
            <a:off x="324000" y="1689120"/>
            <a:ext cx="8424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veáis la enormidad del pecado, cuando os veáis como sois en realidad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os entreguéis a la desesper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ángulo 1"/>
          <p:cNvSpPr/>
          <p:nvPr/>
        </p:nvSpPr>
        <p:spPr>
          <a:xfrm>
            <a:off x="611280" y="2006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ues a los pecadores es a quienes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ino a salv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ángulo 1"/>
          <p:cNvSpPr/>
          <p:nvPr/>
        </p:nvSpPr>
        <p:spPr>
          <a:xfrm>
            <a:off x="395280" y="1700280"/>
            <a:ext cx="8424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tenemos que reconciliar a Dios con nosotros, sino ¡oh maravilloso amor! 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Dios estaba en Cristo, reconciliando consigo mismo al mundo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2 Corintios 5: 19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ángulo 1"/>
          <p:cNvSpPr/>
          <p:nvPr/>
        </p:nvSpPr>
        <p:spPr>
          <a:xfrm>
            <a:off x="395280" y="2006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está solicitando por su tierno amor los corazones de sus hijos err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ángulo 1"/>
          <p:cNvSpPr/>
          <p:nvPr/>
        </p:nvSpPr>
        <p:spPr>
          <a:xfrm>
            <a:off x="395280" y="1844640"/>
            <a:ext cx="8353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ingún padre según la carne podría ser tan paciente con las faltas y yerros de sus hij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mo lo es Dios con aquellos a quienes trata de sal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ángulo 1"/>
          <p:cNvSpPr/>
          <p:nvPr/>
        </p:nvSpPr>
        <p:spPr>
          <a:xfrm>
            <a:off x="395280" y="2006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adie podría argüir más tiernamente con el pec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ángulo 1"/>
          <p:cNvSpPr/>
          <p:nvPr/>
        </p:nvSpPr>
        <p:spPr>
          <a:xfrm>
            <a:off x="395280" y="2060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amás labios humanos han dirigido invitaciones más tiernas que él al extravi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431640" y="1527120"/>
            <a:ext cx="8388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ta confesión fue arrancada a la fuerza de su alma culp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un tremendo sentido de condenación y una pavorosa expectación de juic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ángulo 1"/>
          <p:cNvSpPr/>
          <p:nvPr/>
        </p:nvSpPr>
        <p:spPr>
          <a:xfrm>
            <a:off x="395280" y="19573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Todas sus promesas,  sus amonestacione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n sino la expresión de su indecible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ángulo 1"/>
          <p:cNvSpPr/>
          <p:nvPr/>
        </p:nvSpPr>
        <p:spPr>
          <a:xfrm>
            <a:off x="324000" y="2492280"/>
            <a:ext cx="842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uando Satanás viene a decirte que eres un gran pecador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ira a tu Redentor y habla de sus méri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ángulo 1"/>
          <p:cNvSpPr/>
          <p:nvPr/>
        </p:nvSpPr>
        <p:spPr>
          <a:xfrm>
            <a:off x="755640" y="2492280"/>
            <a:ext cx="773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que te ayudará será el mirar su lu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ángulo 1"/>
          <p:cNvSpPr/>
          <p:nvPr/>
        </p:nvSpPr>
        <p:spPr>
          <a:xfrm>
            <a:off x="324000" y="1916280"/>
            <a:ext cx="8424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conoce tu pecado, pero di al enemigo qu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risto Jesús vino al mundo para salvar a los pecadores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1 Timoteo 1: 1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ángulo 1"/>
          <p:cNvSpPr/>
          <p:nvPr/>
        </p:nvSpPr>
        <p:spPr>
          <a:xfrm>
            <a:off x="324000" y="1844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que pue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 salvo por su incomparable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ángulo 1"/>
          <p:cNvSpPr/>
          <p:nvPr/>
        </p:nvSpPr>
        <p:spPr>
          <a:xfrm>
            <a:off x="468360" y="2151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hizo una pregunta a Simón</a:t>
            </a: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on respecto a dos deudo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ángulo 1"/>
          <p:cNvSpPr/>
          <p:nvPr/>
        </p:nvSpPr>
        <p:spPr>
          <a:xfrm>
            <a:off x="395280" y="1844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rimero debía a su señor una suma pequeña y el segundo una muy grande; pero él perdonó a amb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ángulo 1"/>
          <p:cNvSpPr/>
          <p:nvPr/>
        </p:nvSpPr>
        <p:spPr>
          <a:xfrm>
            <a:off x="179280" y="1773360"/>
            <a:ext cx="8820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Cristo preguntó a Simón cuál deudor amaría más a su señor.  Simón contestó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Aquel a quien más perdonó"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Lucas 7: 4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ángulo 1"/>
          <p:cNvSpPr/>
          <p:nvPr/>
        </p:nvSpPr>
        <p:spPr>
          <a:xfrm>
            <a:off x="216000" y="1916280"/>
            <a:ext cx="87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emos sido grandes deudores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Cristo murió para que fuésemos perdon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ángulo 1"/>
          <p:cNvSpPr/>
          <p:nvPr/>
        </p:nvSpPr>
        <p:spPr>
          <a:xfrm>
            <a:off x="287280" y="2128680"/>
            <a:ext cx="86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os méritos de su sacrificio son sufi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presentarlos al Padre en nuestro fav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250920" y="2060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s consecuencias que habían de resultarle lo llenaban de terro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no experimentó profundo quebrantamiento de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ángulo 1"/>
          <p:cNvSpPr/>
          <p:nvPr/>
        </p:nvSpPr>
        <p:spPr>
          <a:xfrm>
            <a:off x="509760" y="1914480"/>
            <a:ext cx="8269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quellos a quienes ha perdonado má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 amarán más, y estarán más cerca de su trono alabándolo por su grande amor e infinito sacrific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ángulo 1"/>
          <p:cNvSpPr/>
          <p:nvPr/>
        </p:nvSpPr>
        <p:spPr>
          <a:xfrm>
            <a:off x="324000" y="1944720"/>
            <a:ext cx="8496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más plenamente comprendemos el amor de Di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ás nos percatamos de la pecaminosidad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ángulo 1"/>
          <p:cNvSpPr/>
          <p:nvPr/>
        </p:nvSpPr>
        <p:spPr>
          <a:xfrm>
            <a:off x="539640" y="213372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do vemos cuán larga es la cadena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que se nos ha arrojado para rescatarn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ángulo 1"/>
          <p:cNvSpPr/>
          <p:nvPr/>
        </p:nvSpPr>
        <p:spPr>
          <a:xfrm>
            <a:off x="324000" y="184464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tendemos algo del sacrificio infinito que Cristo ha hecho en nuestro fav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79280" y="177336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Tampoco dolor de al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haber traicionado al Hijo inmaculado de Dios y negado al santo de Israe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44360" y="2060640"/>
            <a:ext cx="896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Calibri"/>
              </a:rPr>
              <a:t>Cuando Faraón sufría los juicios de Dios,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conoció su pecado a 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escapar del casti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324000" y="22766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volvió a desafiar al cielo tan pronto como cesaron las pla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0" y="2025720"/>
            <a:ext cx="9144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alibri"/>
              </a:rPr>
              <a:t>Todos lamentaban los resultados del pecad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no sentían tristeza por el pecado mismo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216000" y="1658880"/>
            <a:ext cx="8677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s cuando el corazón cede a la influencia del Espíritu de Di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conciencia se vivifica y el pecador discierne algo de la profundidad y santidad de la sagrada ley de D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989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fundamento de su gobierno en los cielos y en la ti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62864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Solamente por intermedio de Cristo podemos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nernos en armonía con Dios y la sant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468360" y="2089080"/>
            <a:ext cx="7991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Luz verdadera, que alumbra a todo hombre que viene a este mund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: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395280" y="22114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Ilumina las cámaras secretas del alma y se manifiestan las cosas ocul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684360" y="18446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convicción se posesiona de la mente y del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395280" y="17733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pecador tiene entonces conciencia de la justicia de Jeh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iente terror de aparecer en su iniquidad e impureza delante del que escudriña los cora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755640" y="198900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 el amor de Dio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belleza de la santidad y el gozo de la   pur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611280" y="21398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nsía ser purificado y restituido a la comunión del ci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79280" y="2108160"/>
            <a:ext cx="8785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oración de David después de su c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una ilustración de la naturaleza del verdadero dolor por 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755640" y="22827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arrepentimiento era sincero y prof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24000" y="2060640"/>
            <a:ext cx="82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hizo ningún esfuerzo por atenuar su crimen; ningún deseo de escapar del juicio que lo amenazaba inspiró su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324000" y="220500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avid veía la enormidad de su transgresión; veía las manchas de su alm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borrecía su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826920" y="228276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ero, 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cómo debemos ir a Crist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539640" y="179064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imploraba solamente el perdón, sino tambié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pureza del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79280" y="1916280"/>
            <a:ext cx="867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eaba tener el gozo de la santid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er restituido a la armonía y comunión con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79280" y="1739880"/>
            <a:ext cx="8640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e era el lenguaje de su alma: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¡Bienaventurado aquel cuya transgresión ha sido perdonad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ubierto su pecado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468360" y="1916280"/>
            <a:ext cx="8280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Bienaventurado el hombre a quien Jehová no atribuye la iniquidad, cuyo espíritu no hay engaño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32: 1,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250920" y="162864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Apiádate de mí, oh Dios, conforme a tu misericordia;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orme a la muchedumbre de tus piedades, borra mis transgresione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755640" y="18446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que yo reconozco mis transgresiones, y mi pecado está siempre delante de mí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611280" y="184464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Purifícame con hisopo, y seré limpio;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lávame, y quedaré más blanco que la niev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684360" y="2133720"/>
            <a:ext cx="75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Crea en mí, oh Dios, un corazón limpio, y renueva un espíritu recto dentro de mí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468360" y="1916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No me eches de tu presencia, y no me quites tu Santo Espírit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611280" y="19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Restitúyeme el gozo de tu salvación, y el Espíritu de gracia me sustent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108000" y="1884240"/>
            <a:ext cx="89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uchos formulan la misma pregunta que hicieron las multitudes el día de Pentecosté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395280" y="198900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Líbrame del delito de sangre, oh Dios, el Dios de mi salvación!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cante mi lengua tu justicia!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51: 1, 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611280" y="184464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fectuar un arrepentimiento como éste, est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ás allá del alc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nuestro propio po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179280" y="2179800"/>
            <a:ext cx="8856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Se obtiene solamente de Cristo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en ascendió a lo alto y ha dado dones a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611280" y="171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recisamente éste es un punto sobre el cual muchos yer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395280" y="2205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por esto dejan de recibir la ayuda que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iere dar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468360" y="1862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iensan que no pueden ir a Cristo a menos 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arrepientan prim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395280" y="1989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que el arrepentimiento los prepara pa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perdón de su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79280" y="177336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verdad que el arrepentimiento precede al perdón de lo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395280" y="16686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que solamente el corazón quebrantado y contrito es el que siente la neces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un Salv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539640" y="158760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, ¿debe el pecador esperar hasta que se haya arrepentido, para poder ir a Jesú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395280" y="19890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, convencidas de su pecado, exclamar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¿Qué haremos?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395280" y="16905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Ha de ser el arrepentimiento un obstáculo entre el pecador y el Salvado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324000" y="1627200"/>
            <a:ext cx="8424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La Biblia no enseñ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que el pecador deba arrepentirse antes de poder aceptar la invitación de Cris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395280" y="1628640"/>
            <a:ext cx="8209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Venid a mí todos los que estáis cansados y agobiados, y yo os daré descanso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11: 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539640" y="1844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virtud que viene de Cristo es la que guía a un arrepentimiento genu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468360" y="16905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 Pedro habla del asunto de una manera muy clara en su exposición a los israeli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250920" y="1125360"/>
            <a:ext cx="8281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dic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éste, Dios le ensalzó con su diestra para ser Príncipe y Salvador, a fin de dar arrepentimiento a Israel, y remisión de pecado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Hechos 5: 3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79280" y="197496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arrepentirnos sin que el Espíritu de Cristo despierte la concienc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ás de lo que podemos ser perdonados sin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900000" y="198900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risto es la fu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todo buen impul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395280" y="191628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es el único que puede implantar en el corazón enemistad contra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79280" y="213372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odo deseo de verdad, de pureza, toda convicción de nuestra propia pecaminosid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una prueba de que su Espíritu está obrando en nuestro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539640" y="1862280"/>
            <a:ext cx="8064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primera palabra de contestación de Pedro fue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Arrepentíos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468360" y="1700280"/>
            <a:ext cx="7991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ij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Yo, si fuere levantado en alto de sobre la tierra, a todos los atraeré a mí mismo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2: 3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468360" y="1916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debe ser revelado al pecador como el Salvador que muere por los pecados de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95280" y="170028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uando consideramos al Cordero de Dios sobre la cruz del Calvario, el misterio de la redención comienza a abrirse a nuestra men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0" y="2138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la bondad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guía al arrepent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395280" y="1773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morir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los pecadores, manifestó un amor incompren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79280" y="1495440"/>
            <a:ext cx="8820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este amor, a medida que 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cador lo contempl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ternece el corazón, impresiona la mente e inspira constricción en el al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250920" y="183204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s verdad que algunas veces los hombres se avergüenzan y abandonan algunos de sus malos hábit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ntes de darse cuenta de que son atraídos a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395280" y="184464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o cuando hacen un esfuerzo por reformarse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 un sincero deseo de hacer el bien,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 el poder de Cristo el que los está atraye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395280" y="191628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a influencia de la cual no se dan cuenta, obra sobre el alma, la conciencia se vivifica y la vida externa se enmi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395280" y="1658880"/>
            <a:ext cx="8424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a medida que Cristo los induce a mirar su cruz y contemplar a quien han traspasado sus pecad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mandamiento despierta la conci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95280" y="1557360"/>
            <a:ext cx="8497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co después, en otra ocasión, dij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rrepentíos pues, y volveos a Dios; para que sean borrados vuestros pecado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Hechos 2: 38; 3: 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250920" y="196380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La maldad de su vida, </a:t>
            </a: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el pecado profundamente arraigado en su alma se les reve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66600" y="1743120"/>
            <a:ext cx="88981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mienzan a entender algo de la justicia de Cristo y exclama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é es el pecado, para que exigiera tal sacrificio por la redención de su víctima?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324000" y="1824120"/>
            <a:ext cx="856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Fueron necesarios todo este amor, todo este sufrimiento, toda esta humillación, para que no pereciéramos, sino que tuviéramos vida eterna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395280" y="191628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ecador puede resistir a este amor, puede rehusar ser atraído a Cristo; pero si no se resiste será atraído a Jesú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324000" y="1700280"/>
            <a:ext cx="8640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n conocimiento del plan de la salvación lo guiará al pie de la cruz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rrepentido de sus pecados, que han causado los sufrimientos del amado Hijo de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250920" y="1914480"/>
            <a:ext cx="8713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misma inteligencia divina que obra en la naturalez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bla al corazón de los hombres y crea un deseo indecible de algo que no tie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468360" y="2060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s cosas del mundo no pueden satisfacer su ansie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324000" y="199692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Espíritu de Dios está suplicándoles que busquen las cosas que sólo pueden dar paz y descanso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gracia de cristo y el gozo de la sant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324000" y="2060640"/>
            <a:ext cx="86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uestro Salvador está constantemente obrando para atraer el corazón de los hombre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l pecado a las bendiciones infinitas que pueden disfrutar en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250920" y="17496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todas las almas que están procurando vanamente beber en las cisternas rotas del mundo, se dirige un mensaje divi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324000" y="218124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El arrepentimiento comprende tristeza por el pecado y abandono del mismo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395280" y="162864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que tiene sed,  ¡venga!  ¡y el que quiera, tome del agua de la vida, de balde!"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Apocalipsis 22: 17)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395280" y="1914480"/>
            <a:ext cx="8353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os que en vuestro corazón anheláis algo mejor que este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noced este deseo como la voz de Dios que habla a vuestras al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395280" y="18223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didle que os dé arrepentimiento, que os revele a Cristo en su amor infinito y en su pureza perfec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324000" y="1728720"/>
            <a:ext cx="842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 la vida del Salvador quedaron perfectamente ejemplif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s principios de la ley de Dios y el amor a Dios y al h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468360" y="213984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benevolencia y el amor desinteresado fueron la vida de su al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395280" y="2178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ontemplándolo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inunda la luz de nuestro Salv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468360" y="21337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podemos ver la pecaminosidad de nuestro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250920" y="1851120"/>
            <a:ext cx="8497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odemos lisonjearnos cómo Nicodemo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que nuestra vida ha sido muy bu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216000" y="1749600"/>
            <a:ext cx="874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que nuestro carácter es perfecto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pensar que no necesitamos humillar nuestro corazón delante de Dios como el pecador comú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324000" y="1773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cuando la luz de Cristo resplandece en nuestras almas, vemos cuán impuros so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8:32:38Z</dcterms:created>
  <dc:creator>Orlando Rosales</dc:creator>
  <dc:description/>
  <dc:language>en-US</dc:language>
  <cp:lastModifiedBy>Karina de Martin</cp:lastModifiedBy>
  <dcterms:modified xsi:type="dcterms:W3CDTF">2017-03-12T15:42:32Z</dcterms:modified>
  <cp:revision>80</cp:revision>
  <dc:subject/>
  <dc:title>CAPÍTULO 3. Un Poder Misterioso que Convence </dc:title>
</cp:coreProperties>
</file>