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2B3-BE05-4BDC-914E-BBD49E8F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540-F546-45EA-9CE0-AB3BCBAA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7E1-C646-4DAC-9107-0F355872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24E-4916-492B-84BA-80AF5D24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D2D-DCE4-4E7F-A7B7-0F7E810D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AF72-F57C-493C-A583-14554B49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C7F9-65F8-43D9-B7BE-859A0D3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D688-4D23-4CA7-B8CA-5B2CAE9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C6A9-4D13-4C53-A5BC-F5B5D167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2EEA-7130-4873-BAE1-FEF7AF1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13E9-8711-4B24-A46D-69C7D9C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CC6-AF66-4C3E-9978-A23689E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C685-AA05-4993-83BD-D21CAEA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099F-9840-40D6-AAA2-EA68DEA3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77D-EDB6-4262-9442-6F3EC5E9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0DBC-A23B-4434-9C78-AEA947B8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1F1B-C1DC-4F07-BF86-091FAEAB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1AB9-4DBC-440A-BAA9-7D048205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3378-E5A2-4E6F-9A4A-97848D8A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EDBF-8CCA-4E33-A420-4E29CE6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8374-0D29-424A-845A-6A2EBD9C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B0E5-84C0-4FA7-8F72-F02E9AC1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ACE-5DFD-4EC7-82E5-A9CCD6C7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515B-E1DE-49B9-AB96-F1E93BD9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A65B-F68C-4836-A7AC-973A6C96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84D5-035A-4F09-BF6E-D0C8B27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68FA-FE7F-4F2E-8121-5E7E0BE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66E9-9B67-4BA0-9DC8-417085AF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3376-D4E1-44EC-8D93-76792F3D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AF32-3F6A-4AC2-921D-E7107A3A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818D3-5BA5-4173-BBA4-B9C4421E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2B1AC-B7B3-433C-A466-410A4009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72AAB-883B-4377-A10D-B21663A3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E71-E2D6-4ED8-B006-5AE739F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FC53-FB5B-42D0-9503-E161827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0730-3787-4ACA-91D1-6AE91D4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B4EF9-0AAB-4E04-AE64-D97E344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97EE-2E9F-4D20-AFAC-40CED73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F98D-BB96-4CCB-864B-26CB73EB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065F3-CF6B-4EAD-9EA3-B28C7C9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6325-4372-4E0F-80A2-4D16DA32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C90D-D2AB-443A-B7B5-00ECC9F8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4045-0C0A-4A6E-9C0A-A0BAE59F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DB9-F2B3-480E-BFD9-79972B21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A5B-EE32-46C4-88BE-AD45ADB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CF0-3A64-4726-9C74-200A7DAD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619-51C6-4317-8444-996619E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729-11D9-4FD0-8001-38DC412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CCE-2651-4DBA-A4BC-A0E07F6D07AD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0B52-10D1-47B2-8938-3BF923739C1E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8D81-B8CB-444C-BBDE-E38F35CE9897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D361-C873-4D55-85D3-3F9C1C1A08E3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1"/>
          <p:cNvSpPr/>
          <p:nvPr/>
        </p:nvSpPr>
        <p:spPr>
          <a:xfrm>
            <a:off x="71280" y="1989000"/>
            <a:ext cx="75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entury Gothic"/>
              </a:rPr>
              <a:t>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entury Gothic"/>
              </a:rPr>
              <a:t>CONSAGRACIÓ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ector recto 7"/>
          <p:cNvSpPr/>
          <p:nvPr/>
        </p:nvSpPr>
        <p:spPr>
          <a:xfrm>
            <a:off x="539640" y="4005360"/>
            <a:ext cx="67690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ector recto 10"/>
          <p:cNvSpPr/>
          <p:nvPr/>
        </p:nvSpPr>
        <p:spPr>
          <a:xfrm>
            <a:off x="539640" y="3141720"/>
            <a:ext cx="67690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ángulo 1"/>
          <p:cNvSpPr/>
          <p:nvPr/>
        </p:nvSpPr>
        <p:spPr>
          <a:xfrm>
            <a:off x="250920" y="2324160"/>
            <a:ext cx="7129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sto que esto demanda una transformación completa y la renovación de toda nuestra naturaleza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bemos entregarnos a él enter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ángulo 1"/>
          <p:cNvSpPr/>
          <p:nvPr/>
        </p:nvSpPr>
        <p:spPr>
          <a:xfrm>
            <a:off x="846000" y="1844640"/>
            <a:ext cx="682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vuestros pensamientos se pondrán en armonía con É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ángulo 1"/>
          <p:cNvSpPr/>
          <p:nvPr/>
        </p:nvSpPr>
        <p:spPr>
          <a:xfrm>
            <a:off x="504720" y="2060640"/>
            <a:ext cx="70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sear ser bondadosos y santos es rectísim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ángulo 1"/>
          <p:cNvSpPr/>
          <p:nvPr/>
        </p:nvSpPr>
        <p:spPr>
          <a:xfrm>
            <a:off x="755640" y="263700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si sólo llegáis hasta allí de nada os valdr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ángulo 1"/>
          <p:cNvSpPr/>
          <p:nvPr/>
        </p:nvSpPr>
        <p:spPr>
          <a:xfrm>
            <a:off x="755640" y="249228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uchos se perderán esperando y deseando ser cristi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ángulo 1"/>
          <p:cNvSpPr/>
          <p:nvPr/>
        </p:nvSpPr>
        <p:spPr>
          <a:xfrm>
            <a:off x="684360" y="261144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llegan al punto de  dar su voluntad 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ángulo 1"/>
          <p:cNvSpPr/>
          <p:nvPr/>
        </p:nvSpPr>
        <p:spPr>
          <a:xfrm>
            <a:off x="1422360" y="2565360"/>
            <a:ext cx="581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eligen ser cristianos ah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ángulo 1"/>
          <p:cNvSpPr/>
          <p:nvPr/>
        </p:nvSpPr>
        <p:spPr>
          <a:xfrm>
            <a:off x="324000" y="2421000"/>
            <a:ext cx="73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medio del debido ejercicio de la voluntad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de obrarse un cambio completo en vuestr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ángulo 1"/>
          <p:cNvSpPr/>
          <p:nvPr/>
        </p:nvSpPr>
        <p:spPr>
          <a:xfrm>
            <a:off x="984240" y="2611440"/>
            <a:ext cx="625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dar vuestra voluntad a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ángulo 1"/>
          <p:cNvSpPr/>
          <p:nvPr/>
        </p:nvSpPr>
        <p:spPr>
          <a:xfrm>
            <a:off x="1042920" y="2421000"/>
            <a:ext cx="64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Os unís con el poder que está sobre todo principado y potest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ángulo 1"/>
          <p:cNvSpPr/>
          <p:nvPr/>
        </p:nvSpPr>
        <p:spPr>
          <a:xfrm>
            <a:off x="630360" y="2852640"/>
            <a:ext cx="696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endréis fuerza de lo alto para sosteneros fir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ángulo 1"/>
          <p:cNvSpPr/>
          <p:nvPr/>
        </p:nvSpPr>
        <p:spPr>
          <a:xfrm>
            <a:off x="341280" y="2565360"/>
            <a:ext cx="70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guerra contra nosotros mismos es la batalla más grande que jamás hayamos 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ángulo 1"/>
          <p:cNvSpPr/>
          <p:nvPr/>
        </p:nvSpPr>
        <p:spPr>
          <a:xfrm>
            <a:off x="971640" y="2349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rindiéndonos así constantemente a Dios seréis fortalecidos para vivir una vida nueva, es a saber, la vida de la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ángulo 1"/>
          <p:cNvSpPr/>
          <p:nvPr/>
        </p:nvSpPr>
        <p:spPr>
          <a:xfrm>
            <a:off x="684360" y="2354400"/>
            <a:ext cx="660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rendirse a sí mismo, entregando todo a la voluntad de Dios, requiere una lu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ángulo 1"/>
          <p:cNvSpPr/>
          <p:nvPr/>
        </p:nvSpPr>
        <p:spPr>
          <a:xfrm>
            <a:off x="395280" y="23544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ás para que el alma sea renovada en santidad, debe someterse antes 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1"/>
          <p:cNvSpPr/>
          <p:nvPr/>
        </p:nvSpPr>
        <p:spPr>
          <a:xfrm>
            <a:off x="250920" y="2565360"/>
            <a:ext cx="74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gobierno de Dios no está fundado en una sumisión ciega y en una reglamentación irracional, como Satanás quiere hacerlo apar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ángulo 1"/>
          <p:cNvSpPr/>
          <p:nvPr/>
        </p:nvSpPr>
        <p:spPr>
          <a:xfrm>
            <a:off x="395280" y="242100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contrario, apela al entendimiento y la concie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ángulo 1"/>
          <p:cNvSpPr/>
          <p:nvPr/>
        </p:nvSpPr>
        <p:spPr>
          <a:xfrm>
            <a:off x="720720" y="2211480"/>
            <a:ext cx="6372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Venid, pues, y razonemos juntos!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Isaías 1: 1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ángulo 1"/>
          <p:cNvSpPr/>
          <p:nvPr/>
        </p:nvSpPr>
        <p:spPr>
          <a:xfrm>
            <a:off x="250920" y="234468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la invitación del Creador a todos los seres que ha form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ángulo 1"/>
          <p:cNvSpPr/>
          <p:nvPr/>
        </p:nvSpPr>
        <p:spPr>
          <a:xfrm>
            <a:off x="684360" y="213372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NO fuerza la voluntad de sus criatura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ángulo 1"/>
          <p:cNvSpPr/>
          <p:nvPr/>
        </p:nvSpPr>
        <p:spPr>
          <a:xfrm>
            <a:off x="539640" y="2492280"/>
            <a:ext cx="70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 no puede aceptar un homenaje que no se le dé voluntaria e inteligente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ángulo 1"/>
          <p:cNvSpPr/>
          <p:nvPr/>
        </p:nvSpPr>
        <p:spPr>
          <a:xfrm>
            <a:off x="468360" y="1955880"/>
            <a:ext cx="6912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a promesa de Dios es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Me buscaréis y me hallaréis cuando me buscaréis de todo vuestro corazón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Jeremías 29: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ángulo 1"/>
          <p:cNvSpPr/>
          <p:nvPr/>
        </p:nvSpPr>
        <p:spPr>
          <a:xfrm>
            <a:off x="1042920" y="2349360"/>
            <a:ext cx="631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Una sumisión meramente forzada impedirá todo desarrollo real del entendimiento y del cará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ángulo 1"/>
          <p:cNvSpPr/>
          <p:nvPr/>
        </p:nvSpPr>
        <p:spPr>
          <a:xfrm>
            <a:off x="539640" y="242100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aría del hombre un mero autómata y no es ése el designio del Cre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ángulo 1"/>
          <p:cNvSpPr/>
          <p:nvPr/>
        </p:nvSpPr>
        <p:spPr>
          <a:xfrm>
            <a:off x="468360" y="2243160"/>
            <a:ext cx="698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desea que el hombre, que es la obra maestra de su poder creador, alcance el mas alto desarrollo po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"/>
          <p:cNvSpPr/>
          <p:nvPr/>
        </p:nvSpPr>
        <p:spPr>
          <a:xfrm>
            <a:off x="1116000" y="1916280"/>
            <a:ext cx="61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s presenta la gloriosa altura a la cual quiere elevarnos mediante su gra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ángulo 1"/>
          <p:cNvSpPr/>
          <p:nvPr/>
        </p:nvSpPr>
        <p:spPr>
          <a:xfrm>
            <a:off x="1042920" y="1844640"/>
            <a:ext cx="60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s invita a entregarnos a él a fin de que pueda hacer su voluntad en nos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ángulo 1"/>
          <p:cNvSpPr/>
          <p:nvPr/>
        </p:nvSpPr>
        <p:spPr>
          <a:xfrm>
            <a:off x="324000" y="227340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 nosotros nos toca decidir si queremos ser libres de la esclavitud del pecado para participar de la libertad gloriosa de los hijos de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ángulo 1"/>
          <p:cNvSpPr/>
          <p:nvPr/>
        </p:nvSpPr>
        <p:spPr>
          <a:xfrm>
            <a:off x="611280" y="185256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 consagrarnos a Dios, debemos necesariamente abandonar todo aquello que nos separe de 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ángulo 1"/>
          <p:cNvSpPr/>
          <p:nvPr/>
        </p:nvSpPr>
        <p:spPr>
          <a:xfrm>
            <a:off x="684360" y="1916280"/>
            <a:ext cx="6767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sto dice el Salvad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Así, pues, cada uno de vosotros que no renuncia a todo cuanto posee, no puede ser mi discípulo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Lucas 14: 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ángulo 1"/>
          <p:cNvSpPr/>
          <p:nvPr/>
        </p:nvSpPr>
        <p:spPr>
          <a:xfrm>
            <a:off x="826920" y="2349360"/>
            <a:ext cx="65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bemos dejar todo lo que aleje el corazón de Dio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ángulo 1"/>
          <p:cNvSpPr/>
          <p:nvPr/>
        </p:nvSpPr>
        <p:spPr>
          <a:xfrm>
            <a:off x="1133640" y="2565360"/>
            <a:ext cx="581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tesoros son el ídolo de much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ángulo 1"/>
          <p:cNvSpPr/>
          <p:nvPr/>
        </p:nvSpPr>
        <p:spPr>
          <a:xfrm>
            <a:off x="179280" y="227664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mos dar a Dios todo el corazón o, de otra manera, el cambio que se ha de efectuar en nos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ángulo 1"/>
          <p:cNvSpPr/>
          <p:nvPr/>
        </p:nvSpPr>
        <p:spPr>
          <a:xfrm>
            <a:off x="324000" y="2492280"/>
            <a:ext cx="72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amor al dinero y el deseo de las riquezas son la cadena de oro que los tienen sujetos a Satan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ángulo 1"/>
          <p:cNvSpPr/>
          <p:nvPr/>
        </p:nvSpPr>
        <p:spPr>
          <a:xfrm>
            <a:off x="611280" y="2133720"/>
            <a:ext cx="70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Otros adoran la reputación y los honores  del mun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ángulo 1"/>
          <p:cNvSpPr/>
          <p:nvPr/>
        </p:nvSpPr>
        <p:spPr>
          <a:xfrm>
            <a:off x="179280" y="184464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a vida de comodidad egoísta, libre de responsabilidad, es el ídolo de ot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ángulo 1"/>
          <p:cNvSpPr/>
          <p:nvPr/>
        </p:nvSpPr>
        <p:spPr>
          <a:xfrm>
            <a:off x="684360" y="1882800"/>
            <a:ext cx="6588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0000"/>
                </a:solidFill>
                <a:latin typeface="Calibri"/>
              </a:rPr>
              <a:t>Mas deben romperse estos lazos de servidumbr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ángulo 1"/>
          <p:cNvSpPr/>
          <p:nvPr/>
        </p:nvSpPr>
        <p:spPr>
          <a:xfrm>
            <a:off x="179280" y="1916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odemos consagrar una parte de nuestro corazón al Señor y la otra al mun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ángulo 1"/>
          <p:cNvSpPr/>
          <p:nvPr/>
        </p:nvSpPr>
        <p:spPr>
          <a:xfrm>
            <a:off x="414360" y="2421000"/>
            <a:ext cx="69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somos hijos de Dios a menos que lo seamos enteram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ángulo 1"/>
          <p:cNvSpPr/>
          <p:nvPr/>
        </p:nvSpPr>
        <p:spPr>
          <a:xfrm>
            <a:off x="287280" y="1852560"/>
            <a:ext cx="71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y algunos que profesan servir a Dios a la vez que confían en sus propios esfuerzos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ara obedecer su 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ángulo 1"/>
          <p:cNvSpPr/>
          <p:nvPr/>
        </p:nvSpPr>
        <p:spPr>
          <a:xfrm>
            <a:off x="593640" y="206064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formar un carácter recto y asegurarse la salv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ángulo 1"/>
          <p:cNvSpPr/>
          <p:nvPr/>
        </p:nvSpPr>
        <p:spPr>
          <a:xfrm>
            <a:off x="-36360" y="184464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s corazones no son movidos por ningún sentimiento profundo del amor de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1"/>
          <p:cNvSpPr/>
          <p:nvPr/>
        </p:nvSpPr>
        <p:spPr>
          <a:xfrm>
            <a:off x="324000" y="2190600"/>
            <a:ext cx="71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no que tratan de ejecutar los deberes de la vida cristiana como una cosa que Dios demanda de ell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 fin de ganar el ci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ángulo 1"/>
          <p:cNvSpPr/>
          <p:nvPr/>
        </p:nvSpPr>
        <p:spPr>
          <a:xfrm>
            <a:off x="395280" y="206064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 el cual hemos de ser transformados conforme a su semejanza, jamás se realizar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ángulo 2"/>
          <p:cNvSpPr/>
          <p:nvPr/>
        </p:nvSpPr>
        <p:spPr>
          <a:xfrm>
            <a:off x="1728720" y="2708280"/>
            <a:ext cx="51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Tal religión no vale 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ángulo 1"/>
          <p:cNvSpPr/>
          <p:nvPr/>
        </p:nvSpPr>
        <p:spPr>
          <a:xfrm>
            <a:off x="287280" y="2241720"/>
            <a:ext cx="71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ando Cristo mora en el corazón, el alma está tan llena de su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ángulo 1"/>
          <p:cNvSpPr/>
          <p:nvPr/>
        </p:nvSpPr>
        <p:spPr>
          <a:xfrm>
            <a:off x="395280" y="2139840"/>
            <a:ext cx="712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lena del gozo de su comunión, que se une a él, y pensando en él, se olvida de sí mi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ángulo 1"/>
          <p:cNvSpPr/>
          <p:nvPr/>
        </p:nvSpPr>
        <p:spPr>
          <a:xfrm>
            <a:off x="684360" y="2354400"/>
            <a:ext cx="66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amor de Cristo es el móvil de la a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ángulo 1"/>
          <p:cNvSpPr/>
          <p:nvPr/>
        </p:nvSpPr>
        <p:spPr>
          <a:xfrm>
            <a:off x="250920" y="1989000"/>
            <a:ext cx="7164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quellos que sienten el constructivo amor de Dios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reguntan cuánto es lo menos que pueden darle para satisfacer Sus requer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ángulo 1"/>
          <p:cNvSpPr/>
          <p:nvPr/>
        </p:nvSpPr>
        <p:spPr>
          <a:xfrm>
            <a:off x="539640" y="2205000"/>
            <a:ext cx="68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reguntan cuál es la más baja norma acept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ángulo 1"/>
          <p:cNvSpPr/>
          <p:nvPr/>
        </p:nvSpPr>
        <p:spPr>
          <a:xfrm>
            <a:off x="250920" y="2276640"/>
            <a:ext cx="715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que aspiran a una vida de completa conformidad con la voluntad de su Salv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ángulo 1"/>
          <p:cNvSpPr/>
          <p:nvPr/>
        </p:nvSpPr>
        <p:spPr>
          <a:xfrm>
            <a:off x="395280" y="213372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 ardiente deseo entregan todo y manifiestan un interés proporcionado al valor del objeto que bu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ángulo 1"/>
          <p:cNvSpPr/>
          <p:nvPr/>
        </p:nvSpPr>
        <p:spPr>
          <a:xfrm>
            <a:off x="522360" y="177336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profesar pertenecer a Cristo sin sentir amor profundo, es mera charla, árido formalismo y vil 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ángulo 1"/>
          <p:cNvSpPr/>
          <p:nvPr/>
        </p:nvSpPr>
        <p:spPr>
          <a:xfrm>
            <a:off x="611280" y="212868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Crees que es un sacrificio demasiado grande dar todo a Cristo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ángulo 1"/>
          <p:cNvSpPr/>
          <p:nvPr/>
        </p:nvSpPr>
        <p:spPr>
          <a:xfrm>
            <a:off x="468360" y="2492280"/>
            <a:ext cx="68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naturaleza estamos enemistados con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ángulo 1"/>
          <p:cNvSpPr/>
          <p:nvPr/>
        </p:nvSpPr>
        <p:spPr>
          <a:xfrm>
            <a:off x="720720" y="2133720"/>
            <a:ext cx="629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ceos a vosotros mismos la pregunta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Qué ha dado Cristo por mí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ángulo 1"/>
          <p:cNvSpPr/>
          <p:nvPr/>
        </p:nvSpPr>
        <p:spPr>
          <a:xfrm>
            <a:off x="971640" y="2276640"/>
            <a:ext cx="624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Hijo de Dios dio todo para nuestra redención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vida, el amor y los suf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ángulo 1"/>
          <p:cNvSpPr/>
          <p:nvPr/>
        </p:nvSpPr>
        <p:spPr>
          <a:xfrm>
            <a:off x="395280" y="2068560"/>
            <a:ext cx="720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Y es posible que nosotros, seres indignos de tan grande amor, rehusemos entregarle nuestro coraz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1"/>
          <p:cNvSpPr/>
          <p:nvPr/>
        </p:nvSpPr>
        <p:spPr>
          <a:xfrm>
            <a:off x="522360" y="167796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ada momento de nuestra vida hemos sido participantes de las bendiciones de su gra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ángulo 1"/>
          <p:cNvSpPr/>
          <p:nvPr/>
        </p:nvSpPr>
        <p:spPr>
          <a:xfrm>
            <a:off x="324000" y="2068560"/>
            <a:ext cx="7056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esta misma razón no podemos comprender plen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s profundidades de la ignorancia y la miseria de que hemos sido salv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ángulo 1"/>
          <p:cNvSpPr/>
          <p:nvPr/>
        </p:nvSpPr>
        <p:spPr>
          <a:xfrm>
            <a:off x="250920" y="2205000"/>
            <a:ext cx="7129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Es posible que veamos a Aquel a quien traspasaron nuestros pecados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continuemos menospreciando todo su amor y su sacrific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ángulo 1"/>
          <p:cNvSpPr/>
          <p:nvPr/>
        </p:nvSpPr>
        <p:spPr>
          <a:xfrm>
            <a:off x="936720" y="1916280"/>
            <a:ext cx="62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iendo la humillación infinita del Señor de glo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ángulo 1"/>
          <p:cNvSpPr/>
          <p:nvPr/>
        </p:nvSpPr>
        <p:spPr>
          <a:xfrm>
            <a:off x="179280" y="2416320"/>
            <a:ext cx="7201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murmuraremos porque no podemos entrar en la vid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no a costa de conflictos y humillación prop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ángulo 1"/>
          <p:cNvSpPr/>
          <p:nvPr/>
        </p:nvSpPr>
        <p:spPr>
          <a:xfrm>
            <a:off x="250920" y="256536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chos corazones orgullosos pregu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Por qué necesitamos humillarnos antes de poder tener la seguridad de que somos aceptados por D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ángulo 1"/>
          <p:cNvSpPr/>
          <p:nvPr/>
        </p:nvSpPr>
        <p:spPr>
          <a:xfrm>
            <a:off x="1042920" y="2608200"/>
            <a:ext cx="58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¡Mirad a Crist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ángulo 1"/>
          <p:cNvSpPr/>
          <p:nvPr/>
        </p:nvSpPr>
        <p:spPr>
          <a:xfrm>
            <a:off x="395280" y="2181240"/>
            <a:ext cx="6840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píritu Santo describe nuestra condición en palabras como ést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Muertos en las transgresiones y los pecados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Efesios 2: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ángulo 1"/>
          <p:cNvSpPr/>
          <p:nvPr/>
        </p:nvSpPr>
        <p:spPr>
          <a:xfrm>
            <a:off x="539640" y="2060640"/>
            <a:ext cx="691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él no había pecado alguno, era el Príncipe del cielo; mas por causa del hombre se hizo pe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1"/>
          <p:cNvSpPr/>
          <p:nvPr/>
        </p:nvSpPr>
        <p:spPr>
          <a:xfrm>
            <a:off x="324000" y="1658880"/>
            <a:ext cx="6984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Con los transgresores fue contado:  y él mismo llevó el pecado de muchos, y por los transgresores intercedió"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Isaías 53: 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ángulo 1"/>
          <p:cNvSpPr/>
          <p:nvPr/>
        </p:nvSpPr>
        <p:spPr>
          <a:xfrm>
            <a:off x="468360" y="2087640"/>
            <a:ext cx="691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Y qué abandonamos cuando damos todo?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Un corazón corrompido para que Jesús lo purif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ángulo 1"/>
          <p:cNvSpPr/>
          <p:nvPr/>
        </p:nvSpPr>
        <p:spPr>
          <a:xfrm>
            <a:off x="395280" y="242100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que lo limpie con su propia sangre y para que lo salve con su incomparable amor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ángulo 1"/>
          <p:cNvSpPr/>
          <p:nvPr/>
        </p:nvSpPr>
        <p:spPr>
          <a:xfrm>
            <a:off x="863640" y="2060640"/>
            <a:ext cx="62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¡Y sin embargo, los hombres hallan difícil dejarlo tod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ángulo 1"/>
          <p:cNvSpPr/>
          <p:nvPr/>
        </p:nvSpPr>
        <p:spPr>
          <a:xfrm>
            <a:off x="647640" y="2133720"/>
            <a:ext cx="66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no nos pide que dejemos nada de lo que es para nuestro mayor provecho ret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ángulo 1"/>
          <p:cNvSpPr/>
          <p:nvPr/>
        </p:nvSpPr>
        <p:spPr>
          <a:xfrm>
            <a:off x="611280" y="242100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 todo lo que hace, tiene presente la felicidad de sus hi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ángulo 1"/>
          <p:cNvSpPr/>
          <p:nvPr/>
        </p:nvSpPr>
        <p:spPr>
          <a:xfrm>
            <a:off x="34920" y="235440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Ojalá que todos aquellos que no han elegido seguir a Cristo pudieran comprender Sus pl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ángulo 1"/>
          <p:cNvSpPr/>
          <p:nvPr/>
        </p:nvSpPr>
        <p:spPr>
          <a:xfrm>
            <a:off x="468360" y="2565360"/>
            <a:ext cx="684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Él tiene algo muchísimo mejor que ofrecerles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que lo que están buscando por sí mis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ángulo 1"/>
          <p:cNvSpPr/>
          <p:nvPr/>
        </p:nvSpPr>
        <p:spPr>
          <a:xfrm>
            <a:off x="250920" y="2421000"/>
            <a:ext cx="720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hombre hace el mayor perjuicio e injusticia a su propia alm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piensa y obra de un modo contrario a la voluntad de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ángulo 1"/>
          <p:cNvSpPr/>
          <p:nvPr/>
        </p:nvSpPr>
        <p:spPr>
          <a:xfrm>
            <a:off x="468360" y="1596960"/>
            <a:ext cx="6840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la cabeza toda está ya enferma, el corazón todo desfallecido, no queda ya en él cosa sana"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Isaías 1:  5,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ángulo 1"/>
          <p:cNvSpPr/>
          <p:nvPr/>
        </p:nvSpPr>
        <p:spPr>
          <a:xfrm>
            <a:off x="250920" y="1844640"/>
            <a:ext cx="727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ingún gozo real puede haber en la senda prohibida por Aquel que conoce lo que es mejor y proyecta el bien de sus cria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ángulo 1"/>
          <p:cNvSpPr/>
          <p:nvPr/>
        </p:nvSpPr>
        <p:spPr>
          <a:xfrm>
            <a:off x="557280" y="2421000"/>
            <a:ext cx="67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camino de la transgresión es el camino de la miseria y la de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ángulo 1"/>
          <p:cNvSpPr/>
          <p:nvPr/>
        </p:nvSpPr>
        <p:spPr>
          <a:xfrm>
            <a:off x="179280" y="227664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un error dar cabida al pensamiento de que Dios se complace en ver sufrir a sus hi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ángulo 1"/>
          <p:cNvSpPr/>
          <p:nvPr/>
        </p:nvSpPr>
        <p:spPr>
          <a:xfrm>
            <a:off x="1008000" y="1916280"/>
            <a:ext cx="63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o el cielo está interesado en la felicidad del homb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1"/>
          <p:cNvSpPr/>
          <p:nvPr/>
        </p:nvSpPr>
        <p:spPr>
          <a:xfrm>
            <a:off x="755640" y="2241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 Padre celestial no cierra las avenidas del gozo a ninguna de sus cri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ángulo 1"/>
          <p:cNvSpPr/>
          <p:nvPr/>
        </p:nvSpPr>
        <p:spPr>
          <a:xfrm>
            <a:off x="468360" y="1996920"/>
            <a:ext cx="698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s requerimientos divinos nos llaman a rehuir todos los placeres que traen consigo sufrimiento y contratiem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ángulo 1"/>
          <p:cNvSpPr/>
          <p:nvPr/>
        </p:nvSpPr>
        <p:spPr>
          <a:xfrm>
            <a:off x="755640" y="228456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que nos cierran la puerta de la felicidad y del cie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ángulo 1"/>
          <p:cNvSpPr/>
          <p:nvPr/>
        </p:nvSpPr>
        <p:spPr>
          <a:xfrm>
            <a:off x="576360" y="2276640"/>
            <a:ext cx="67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Redentor del mundo acepta a los hombres tales como 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ángulo 1"/>
          <p:cNvSpPr/>
          <p:nvPr/>
        </p:nvSpPr>
        <p:spPr>
          <a:xfrm>
            <a:off x="684360" y="238608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 todas sus necesidades imperfecciones y deb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ángulo 1"/>
          <p:cNvSpPr/>
          <p:nvPr/>
        </p:nvSpPr>
        <p:spPr>
          <a:xfrm>
            <a:off x="468360" y="1916280"/>
            <a:ext cx="71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No solamente los limpiará de pecado y les concederá redención por su sang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ángulo 1"/>
          <p:cNvSpPr/>
          <p:nvPr/>
        </p:nvSpPr>
        <p:spPr>
          <a:xfrm>
            <a:off x="250920" y="2068560"/>
            <a:ext cx="7200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mos enredados fuertemente en los lazos de Satanás, por el cual he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sido apresados para hacer su volunta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 Timoteo 2: 2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1"/>
          <p:cNvSpPr/>
          <p:nvPr/>
        </p:nvSpPr>
        <p:spPr>
          <a:xfrm>
            <a:off x="539640" y="1916280"/>
            <a:ext cx="70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no que satisfará el anhelo de todos los que consientan en llevar su yugo y su carg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ángulo 1"/>
          <p:cNvSpPr/>
          <p:nvPr/>
        </p:nvSpPr>
        <p:spPr>
          <a:xfrm>
            <a:off x="539640" y="220500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 su designio impartir paz y descanso a todos los que acudan a él en busca del pan d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ángulo 1"/>
          <p:cNvSpPr/>
          <p:nvPr/>
        </p:nvSpPr>
        <p:spPr>
          <a:xfrm>
            <a:off x="611280" y="220032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olamente demanda de nosotros que cumplamos los deberes que guíen nuestros pasos a las alturas de la felic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1"/>
          <p:cNvSpPr/>
          <p:nvPr/>
        </p:nvSpPr>
        <p:spPr>
          <a:xfrm>
            <a:off x="720720" y="2060640"/>
            <a:ext cx="65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las cuales los  desobedientes nunca pueden lleg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ángulo 1"/>
          <p:cNvSpPr/>
          <p:nvPr/>
        </p:nvSpPr>
        <p:spPr>
          <a:xfrm>
            <a:off x="755640" y="238608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verdadera vida de gozo del alma es tener a Cristo, la esperanza de gl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ángulo 1"/>
          <p:cNvSpPr/>
          <p:nvPr/>
        </p:nvSpPr>
        <p:spPr>
          <a:xfrm>
            <a:off x="846000" y="2492280"/>
            <a:ext cx="65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uchos dicen: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Cómo me entregaré a Di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ángulo 1"/>
          <p:cNvSpPr/>
          <p:nvPr/>
        </p:nvSpPr>
        <p:spPr>
          <a:xfrm>
            <a:off x="971640" y="2205000"/>
            <a:ext cx="64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seáis hacer su voluntad, mas sois moralmente déb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ángulo 1"/>
          <p:cNvSpPr/>
          <p:nvPr/>
        </p:nvSpPr>
        <p:spPr>
          <a:xfrm>
            <a:off x="468360" y="2276640"/>
            <a:ext cx="711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ujetos a la duda y dominados por los hábitos de vuestra mala vi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ángulo 1"/>
          <p:cNvSpPr/>
          <p:nvPr/>
        </p:nvSpPr>
        <p:spPr>
          <a:xfrm>
            <a:off x="611280" y="228276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Vuestras promesas y resoluciones son tan frágiles como telas de ar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1"/>
          <p:cNvSpPr/>
          <p:nvPr/>
        </p:nvSpPr>
        <p:spPr>
          <a:xfrm>
            <a:off x="936720" y="2273400"/>
            <a:ext cx="622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podéis gobernar vuestros pensamientos, impulsos y afec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ángulo 1"/>
          <p:cNvSpPr/>
          <p:nvPr/>
        </p:nvSpPr>
        <p:spPr>
          <a:xfrm>
            <a:off x="468360" y="24256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os quiere sanarnos y libertar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ángulo 1"/>
          <p:cNvSpPr/>
          <p:nvPr/>
        </p:nvSpPr>
        <p:spPr>
          <a:xfrm>
            <a:off x="539640" y="2205000"/>
            <a:ext cx="6985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ocimiento de vuestras promesas no cumplidas y de vuestros votos quebrantados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bilita vuestra confianza en vuestra propia sincer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1"/>
          <p:cNvSpPr/>
          <p:nvPr/>
        </p:nvSpPr>
        <p:spPr>
          <a:xfrm>
            <a:off x="468360" y="2349360"/>
            <a:ext cx="68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os induce a sentir que Dios no puede aceptaros; mas no necesitáis desespe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ángulo 1"/>
          <p:cNvSpPr/>
          <p:nvPr/>
        </p:nvSpPr>
        <p:spPr>
          <a:xfrm>
            <a:off x="468360" y="2349360"/>
            <a:ext cx="698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 que necesitáis comprender es la verdadera fuerza de la volunt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ángulo 1"/>
          <p:cNvSpPr/>
          <p:nvPr/>
        </p:nvSpPr>
        <p:spPr>
          <a:xfrm>
            <a:off x="684360" y="249228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e es el poder que gobierna en la naturaleza del hombre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poder de decidir o de eleg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ángulo 1"/>
          <p:cNvSpPr/>
          <p:nvPr/>
        </p:nvSpPr>
        <p:spPr>
          <a:xfrm>
            <a:off x="971640" y="2273400"/>
            <a:ext cx="658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odas las cosas dependen de la correcta acción de la volunt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ángulo 1"/>
          <p:cNvSpPr/>
          <p:nvPr/>
        </p:nvSpPr>
        <p:spPr>
          <a:xfrm>
            <a:off x="792000" y="2421000"/>
            <a:ext cx="67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ha dado a los hombres el poder de elegir; depende de ellos el ejerce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ángulo 1"/>
          <p:cNvSpPr/>
          <p:nvPr/>
        </p:nvSpPr>
        <p:spPr>
          <a:xfrm>
            <a:off x="757080" y="1832040"/>
            <a:ext cx="67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podéis cambiar vuestro corazón, ni dar por vosotros mismos sus afectos a Dios;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podéis elegir servir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ángulo 1"/>
          <p:cNvSpPr/>
          <p:nvPr/>
        </p:nvSpPr>
        <p:spPr>
          <a:xfrm>
            <a:off x="395280" y="234936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déis darle vuestra voluntad, para que él obre en vosotros, tanto el querer como el hacer, según su volun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ángulo 1"/>
          <p:cNvSpPr/>
          <p:nvPr/>
        </p:nvSpPr>
        <p:spPr>
          <a:xfrm>
            <a:off x="468360" y="2133720"/>
            <a:ext cx="734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ese modo vuestra naturaleza entera estará bajo el dominio del Espíritu de Cris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ángulo 1"/>
          <p:cNvSpPr/>
          <p:nvPr/>
        </p:nvSpPr>
        <p:spPr>
          <a:xfrm>
            <a:off x="936720" y="2421000"/>
            <a:ext cx="63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uestros afectos se concentrarán en É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0:00:23Z</dcterms:created>
  <dc:creator>Orlando Rosales</dc:creator>
  <dc:description/>
  <dc:language>en-US</dc:language>
  <cp:lastModifiedBy>Karina de Martin</cp:lastModifiedBy>
  <dcterms:modified xsi:type="dcterms:W3CDTF">2017-03-12T17:16:50Z</dcterms:modified>
  <cp:revision>40</cp:revision>
  <dc:subject/>
  <dc:title>CAPÍTULO 5. La Consagración </dc:title>
</cp:coreProperties>
</file>