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 id="346" r:id="rId109"/>
    <p:sldId id="347" r:id="rId110"/>
    <p:sldId id="348" r:id="rId111"/>
    <p:sldId id="349" r:id="rId112"/>
    <p:sldId id="350" r:id="rId113"/>
    <p:sldId id="351" r:id="rId114"/>
    <p:sldId id="352" r:id="rId115"/>
    <p:sldId id="353" r:id="rId116"/>
    <p:sldId id="354" r:id="rId117"/>
    <p:sldId id="355" r:id="rId118"/>
    <p:sldId id="356" r:id="rId119"/>
    <p:sldId id="357" r:id="rId120"/>
    <p:sldId id="358" r:id="rId121"/>
    <p:sldId id="359" r:id="rId122"/>
    <p:sldId id="360" r:id="rId123"/>
    <p:sldId id="361" r:id="rId124"/>
    <p:sldId id="362" r:id="rId125"/>
    <p:sldId id="363" r:id="rId126"/>
    <p:sldId id="364" r:id="rId127"/>
    <p:sldId id="365" r:id="rId128"/>
    <p:sldId id="366" r:id="rId129"/>
    <p:sldId id="367" r:id="rId130"/>
    <p:sldId id="368" r:id="rId131"/>
    <p:sldId id="369" r:id="rId132"/>
    <p:sldId id="370" r:id="rId133"/>
    <p:sldId id="371" r:id="rId134"/>
    <p:sldId id="372" r:id="rId135"/>
    <p:sldId id="373" r:id="rId136"/>
    <p:sldId id="374" r:id="rId137"/>
    <p:sldId id="375" r:id="rId138"/>
    <p:sldId id="376" r:id="rId139"/>
    <p:sldId id="377" r:id="rId140"/>
    <p:sldId id="378" r:id="rId141"/>
    <p:sldId id="379" r:id="rId142"/>
    <p:sldId id="380" r:id="rId143"/>
    <p:sldId id="381" r:id="rId144"/>
    <p:sldId id="382" r:id="rId145"/>
    <p:sldId id="383" r:id="rId146"/>
    <p:sldId id="384" r:id="rId147"/>
    <p:sldId id="385" r:id="rId148"/>
    <p:sldId id="386" r:id="rId149"/>
    <p:sldId id="387" r:id="rId150"/>
    <p:sldId id="388" r:id="rId151"/>
    <p:sldId id="389" r:id="rId152"/>
    <p:sldId id="390" r:id="rId153"/>
    <p:sldId id="391" r:id="rId154"/>
    <p:sldId id="392" r:id="rId155"/>
    <p:sldId id="393" r:id="rId156"/>
    <p:sldId id="394" r:id="rId157"/>
    <p:sldId id="395" r:id="rId158"/>
    <p:sldId id="396" r:id="rId159"/>
    <p:sldId id="397" r:id="rId160"/>
    <p:sldId id="398" r:id="rId161"/>
    <p:sldId id="399" r:id="rId162"/>
    <p:sldId id="400" r:id="rId163"/>
    <p:sldId id="401" r:id="rId164"/>
    <p:sldId id="402" r:id="rId165"/>
    <p:sldId id="403" r:id="rId166"/>
    <p:sldId id="404" r:id="rId167"/>
    <p:sldId id="405" r:id="rId168"/>
    <p:sldId id="406" r:id="rId169"/>
    <p:sldId id="407" r:id="rId170"/>
    <p:sldId id="408" r:id="rId171"/>
    <p:sldId id="409" r:id="rId172"/>
    <p:sldId id="410" r:id="rId173"/>
    <p:sldId id="411" r:id="rId174"/>
    <p:sldId id="412" r:id="rId175"/>
    <p:sldId id="413" r:id="rId176"/>
    <p:sldId id="414" r:id="rId177"/>
    <p:sldId id="415" r:id="rId178"/>
    <p:sldId id="416" r:id="rId179"/>
    <p:sldId id="417" r:id="rId180"/>
    <p:sldId id="418" r:id="rId181"/>
    <p:sldId id="419" r:id="rId182"/>
    <p:sldId id="420" r:id="rId183"/>
    <p:sldId id="421" r:id="rId184"/>
    <p:sldId id="422" r:id="rId185"/>
    <p:sldId id="423" r:id="rId186"/>
    <p:sldId id="424" r:id="rId187"/>
    <p:sldId id="425" r:id="rId188"/>
    <p:sldId id="426" r:id="rId189"/>
    <p:sldId id="427" r:id="rId190"/>
    <p:sldId id="428" r:id="rId191"/>
    <p:sldId id="429" r:id="rId192"/>
    <p:sldId id="430" r:id="rId193"/>
    <p:sldId id="431" r:id="rId194"/>
    <p:sldId id="432" r:id="rId195"/>
    <p:sldId id="433" r:id="rId196"/>
    <p:sldId id="434" r:id="rId197"/>
    <p:sldId id="435"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slide" Target="slides/slide91.xml"/><Relationship Id="rId110" Type="http://schemas.openxmlformats.org/officeDocument/2006/relationships/slide" Target="slides/slide92.xml"/><Relationship Id="rId111" Type="http://schemas.openxmlformats.org/officeDocument/2006/relationships/slide" Target="slides/slide93.xml"/><Relationship Id="rId112" Type="http://schemas.openxmlformats.org/officeDocument/2006/relationships/slide" Target="slides/slide94.xml"/><Relationship Id="rId113" Type="http://schemas.openxmlformats.org/officeDocument/2006/relationships/slide" Target="slides/slide95.xml"/><Relationship Id="rId114" Type="http://schemas.openxmlformats.org/officeDocument/2006/relationships/slide" Target="slides/slide96.xml"/><Relationship Id="rId115" Type="http://schemas.openxmlformats.org/officeDocument/2006/relationships/slide" Target="slides/slide97.xml"/><Relationship Id="rId116" Type="http://schemas.openxmlformats.org/officeDocument/2006/relationships/slide" Target="slides/slide98.xml"/><Relationship Id="rId117" Type="http://schemas.openxmlformats.org/officeDocument/2006/relationships/slide" Target="slides/slide99.xml"/><Relationship Id="rId118" Type="http://schemas.openxmlformats.org/officeDocument/2006/relationships/slide" Target="slides/slide100.xml"/><Relationship Id="rId119" Type="http://schemas.openxmlformats.org/officeDocument/2006/relationships/slide" Target="slides/slide101.xml"/><Relationship Id="rId120" Type="http://schemas.openxmlformats.org/officeDocument/2006/relationships/slide" Target="slides/slide102.xml"/><Relationship Id="rId121" Type="http://schemas.openxmlformats.org/officeDocument/2006/relationships/slide" Target="slides/slide103.xml"/><Relationship Id="rId122" Type="http://schemas.openxmlformats.org/officeDocument/2006/relationships/slide" Target="slides/slide104.xml"/><Relationship Id="rId123" Type="http://schemas.openxmlformats.org/officeDocument/2006/relationships/slide" Target="slides/slide105.xml"/><Relationship Id="rId124" Type="http://schemas.openxmlformats.org/officeDocument/2006/relationships/slide" Target="slides/slide106.xml"/><Relationship Id="rId125" Type="http://schemas.openxmlformats.org/officeDocument/2006/relationships/slide" Target="slides/slide107.xml"/><Relationship Id="rId126" Type="http://schemas.openxmlformats.org/officeDocument/2006/relationships/slide" Target="slides/slide108.xml"/><Relationship Id="rId127" Type="http://schemas.openxmlformats.org/officeDocument/2006/relationships/slide" Target="slides/slide109.xml"/><Relationship Id="rId128" Type="http://schemas.openxmlformats.org/officeDocument/2006/relationships/slide" Target="slides/slide110.xml"/><Relationship Id="rId129" Type="http://schemas.openxmlformats.org/officeDocument/2006/relationships/slide" Target="slides/slide111.xml"/><Relationship Id="rId130" Type="http://schemas.openxmlformats.org/officeDocument/2006/relationships/slide" Target="slides/slide112.xml"/><Relationship Id="rId131" Type="http://schemas.openxmlformats.org/officeDocument/2006/relationships/slide" Target="slides/slide113.xml"/><Relationship Id="rId132" Type="http://schemas.openxmlformats.org/officeDocument/2006/relationships/slide" Target="slides/slide114.xml"/><Relationship Id="rId133" Type="http://schemas.openxmlformats.org/officeDocument/2006/relationships/slide" Target="slides/slide115.xml"/><Relationship Id="rId134" Type="http://schemas.openxmlformats.org/officeDocument/2006/relationships/slide" Target="slides/slide116.xml"/><Relationship Id="rId135" Type="http://schemas.openxmlformats.org/officeDocument/2006/relationships/slide" Target="slides/slide117.xml"/><Relationship Id="rId136" Type="http://schemas.openxmlformats.org/officeDocument/2006/relationships/slide" Target="slides/slide118.xml"/><Relationship Id="rId137" Type="http://schemas.openxmlformats.org/officeDocument/2006/relationships/slide" Target="slides/slide119.xml"/><Relationship Id="rId138" Type="http://schemas.openxmlformats.org/officeDocument/2006/relationships/slide" Target="slides/slide120.xml"/><Relationship Id="rId139" Type="http://schemas.openxmlformats.org/officeDocument/2006/relationships/slide" Target="slides/slide121.xml"/><Relationship Id="rId140" Type="http://schemas.openxmlformats.org/officeDocument/2006/relationships/slide" Target="slides/slide122.xml"/><Relationship Id="rId141" Type="http://schemas.openxmlformats.org/officeDocument/2006/relationships/slide" Target="slides/slide123.xml"/><Relationship Id="rId142" Type="http://schemas.openxmlformats.org/officeDocument/2006/relationships/slide" Target="slides/slide124.xml"/><Relationship Id="rId143" Type="http://schemas.openxmlformats.org/officeDocument/2006/relationships/slide" Target="slides/slide125.xml"/><Relationship Id="rId144" Type="http://schemas.openxmlformats.org/officeDocument/2006/relationships/slide" Target="slides/slide126.xml"/><Relationship Id="rId145" Type="http://schemas.openxmlformats.org/officeDocument/2006/relationships/slide" Target="slides/slide127.xml"/><Relationship Id="rId146" Type="http://schemas.openxmlformats.org/officeDocument/2006/relationships/slide" Target="slides/slide128.xml"/><Relationship Id="rId147" Type="http://schemas.openxmlformats.org/officeDocument/2006/relationships/slide" Target="slides/slide129.xml"/><Relationship Id="rId148" Type="http://schemas.openxmlformats.org/officeDocument/2006/relationships/slide" Target="slides/slide130.xml"/><Relationship Id="rId149" Type="http://schemas.openxmlformats.org/officeDocument/2006/relationships/slide" Target="slides/slide131.xml"/><Relationship Id="rId150" Type="http://schemas.openxmlformats.org/officeDocument/2006/relationships/slide" Target="slides/slide132.xml"/><Relationship Id="rId151" Type="http://schemas.openxmlformats.org/officeDocument/2006/relationships/slide" Target="slides/slide133.xml"/><Relationship Id="rId152" Type="http://schemas.openxmlformats.org/officeDocument/2006/relationships/slide" Target="slides/slide134.xml"/><Relationship Id="rId153" Type="http://schemas.openxmlformats.org/officeDocument/2006/relationships/slide" Target="slides/slide135.xml"/><Relationship Id="rId154" Type="http://schemas.openxmlformats.org/officeDocument/2006/relationships/slide" Target="slides/slide136.xml"/><Relationship Id="rId155" Type="http://schemas.openxmlformats.org/officeDocument/2006/relationships/slide" Target="slides/slide137.xml"/><Relationship Id="rId156" Type="http://schemas.openxmlformats.org/officeDocument/2006/relationships/slide" Target="slides/slide138.xml"/><Relationship Id="rId157" Type="http://schemas.openxmlformats.org/officeDocument/2006/relationships/slide" Target="slides/slide139.xml"/><Relationship Id="rId158" Type="http://schemas.openxmlformats.org/officeDocument/2006/relationships/slide" Target="slides/slide140.xml"/><Relationship Id="rId159" Type="http://schemas.openxmlformats.org/officeDocument/2006/relationships/slide" Target="slides/slide141.xml"/><Relationship Id="rId160" Type="http://schemas.openxmlformats.org/officeDocument/2006/relationships/slide" Target="slides/slide142.xml"/><Relationship Id="rId161" Type="http://schemas.openxmlformats.org/officeDocument/2006/relationships/slide" Target="slides/slide143.xml"/><Relationship Id="rId162" Type="http://schemas.openxmlformats.org/officeDocument/2006/relationships/slide" Target="slides/slide144.xml"/><Relationship Id="rId163" Type="http://schemas.openxmlformats.org/officeDocument/2006/relationships/slide" Target="slides/slide145.xml"/><Relationship Id="rId164" Type="http://schemas.openxmlformats.org/officeDocument/2006/relationships/slide" Target="slides/slide146.xml"/><Relationship Id="rId165" Type="http://schemas.openxmlformats.org/officeDocument/2006/relationships/slide" Target="slides/slide147.xml"/><Relationship Id="rId166" Type="http://schemas.openxmlformats.org/officeDocument/2006/relationships/slide" Target="slides/slide148.xml"/><Relationship Id="rId167" Type="http://schemas.openxmlformats.org/officeDocument/2006/relationships/slide" Target="slides/slide149.xml"/><Relationship Id="rId168" Type="http://schemas.openxmlformats.org/officeDocument/2006/relationships/slide" Target="slides/slide150.xml"/><Relationship Id="rId169" Type="http://schemas.openxmlformats.org/officeDocument/2006/relationships/slide" Target="slides/slide151.xml"/><Relationship Id="rId170" Type="http://schemas.openxmlformats.org/officeDocument/2006/relationships/slide" Target="slides/slide152.xml"/><Relationship Id="rId171" Type="http://schemas.openxmlformats.org/officeDocument/2006/relationships/slide" Target="slides/slide153.xml"/><Relationship Id="rId172" Type="http://schemas.openxmlformats.org/officeDocument/2006/relationships/slide" Target="slides/slide154.xml"/><Relationship Id="rId173" Type="http://schemas.openxmlformats.org/officeDocument/2006/relationships/slide" Target="slides/slide155.xml"/><Relationship Id="rId174" Type="http://schemas.openxmlformats.org/officeDocument/2006/relationships/slide" Target="slides/slide156.xml"/><Relationship Id="rId175" Type="http://schemas.openxmlformats.org/officeDocument/2006/relationships/slide" Target="slides/slide157.xml"/><Relationship Id="rId176" Type="http://schemas.openxmlformats.org/officeDocument/2006/relationships/slide" Target="slides/slide158.xml"/><Relationship Id="rId177" Type="http://schemas.openxmlformats.org/officeDocument/2006/relationships/slide" Target="slides/slide159.xml"/><Relationship Id="rId178" Type="http://schemas.openxmlformats.org/officeDocument/2006/relationships/slide" Target="slides/slide160.xml"/><Relationship Id="rId179" Type="http://schemas.openxmlformats.org/officeDocument/2006/relationships/slide" Target="slides/slide161.xml"/><Relationship Id="rId180" Type="http://schemas.openxmlformats.org/officeDocument/2006/relationships/slide" Target="slides/slide162.xml"/><Relationship Id="rId181" Type="http://schemas.openxmlformats.org/officeDocument/2006/relationships/slide" Target="slides/slide163.xml"/><Relationship Id="rId182" Type="http://schemas.openxmlformats.org/officeDocument/2006/relationships/slide" Target="slides/slide164.xml"/><Relationship Id="rId183" Type="http://schemas.openxmlformats.org/officeDocument/2006/relationships/slide" Target="slides/slide165.xml"/><Relationship Id="rId184" Type="http://schemas.openxmlformats.org/officeDocument/2006/relationships/slide" Target="slides/slide166.xml"/><Relationship Id="rId185" Type="http://schemas.openxmlformats.org/officeDocument/2006/relationships/slide" Target="slides/slide167.xml"/><Relationship Id="rId186" Type="http://schemas.openxmlformats.org/officeDocument/2006/relationships/slide" Target="slides/slide168.xml"/><Relationship Id="rId187" Type="http://schemas.openxmlformats.org/officeDocument/2006/relationships/slide" Target="slides/slide169.xml"/><Relationship Id="rId188" Type="http://schemas.openxmlformats.org/officeDocument/2006/relationships/slide" Target="slides/slide170.xml"/><Relationship Id="rId189" Type="http://schemas.openxmlformats.org/officeDocument/2006/relationships/slide" Target="slides/slide171.xml"/><Relationship Id="rId190" Type="http://schemas.openxmlformats.org/officeDocument/2006/relationships/slide" Target="slides/slide172.xml"/><Relationship Id="rId191" Type="http://schemas.openxmlformats.org/officeDocument/2006/relationships/slide" Target="slides/slide173.xml"/><Relationship Id="rId192" Type="http://schemas.openxmlformats.org/officeDocument/2006/relationships/slide" Target="slides/slide174.xml"/><Relationship Id="rId193" Type="http://schemas.openxmlformats.org/officeDocument/2006/relationships/slide" Target="slides/slide175.xml"/><Relationship Id="rId194" Type="http://schemas.openxmlformats.org/officeDocument/2006/relationships/slide" Target="slides/slide176.xml"/><Relationship Id="rId195" Type="http://schemas.openxmlformats.org/officeDocument/2006/relationships/slide" Target="slides/slide177.xml"/><Relationship Id="rId196" Type="http://schemas.openxmlformats.org/officeDocument/2006/relationships/slide" Target="slides/slide178.xml"/><Relationship Id="rId197" Type="http://schemas.openxmlformats.org/officeDocument/2006/relationships/slide" Target="slides/slide179.xml"/><Relationship Id="rId198" Type="http://schemas.openxmlformats.org/officeDocument/2006/relationships/slide" Target="slides/slide180.xml"/><Relationship Id="rId1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7F25E-139D-42E0-AB89-38338790E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1455B-45A4-4FA1-B221-5C2DF1618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07B7CF-29A2-4392-85DF-6659A0CB32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38FF8B-C04A-4E90-AA64-0D7BC8F7F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A1735D-C896-4211-B42D-D8E9C813C5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1166F-3E28-42CA-BE63-60445ED4DD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C02CD7-4ECE-4BE6-9DA0-D2075325D7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CAB40-CCD4-4E61-A7BE-9C92736DD4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243239-4B02-42CC-A95E-70B43F4B60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FE5A27-E20D-40E7-A96F-52D8F1755E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DC226D-4587-4B37-84FF-11B689B995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0AD5F3-4A2A-4C58-81C6-875E343BBE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2C7B3-6E8E-420E-ACFA-C20B7F912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73D6E3-257A-455E-8775-F09ADE40687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DC5941-54CD-4FA4-81CB-A4AE9E8B70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A998B9-540E-4B89-BAAF-77C06947EA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FE2170-5B5B-4B82-BB28-7FA7C3A7F2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752CB0-EA71-4CAD-8062-0C742D3B2E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1A032A-0032-4915-A6A0-8386BD8BB5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68C2EE-0AF8-4E4D-994D-2290B06D47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64C667-B4D4-439E-B988-5C54DAFBD9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173423-7D0A-4C0D-92DB-9EB04BF69F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080D45F-10C7-462A-AE6A-9EDA1A343C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8FBBB-218D-427E-8868-E0CA6A7F9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58B2BE-2F75-459A-9E8B-17FD3A9DE1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09F8F8-48DE-4959-B532-2D9960F135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3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45C5BE-01B8-475A-8E94-9A375A7796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3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B67077-82ED-43B9-9763-79A06ED888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4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FDC7CA-E61F-4C96-AFA8-4864398A2D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DB7511-A700-4019-873A-A28FA812FC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E1FA95-F3C1-499D-BE7E-F846B130E0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703409-675B-40A3-BB3C-FC24730D75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5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CDD6AB-1889-457D-83EC-335BFFBD35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B4FBEE-8548-4C51-801F-4709899586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AE429-83DA-4153-A79A-6C3235D6E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5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8705F6-AC58-4C93-A3EF-07782E7BE4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6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F6FEAA-B98A-40D3-BE6B-D1147E2837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6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D80B95-9008-48A2-85AD-19A8C837D6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AB4D3FC-AA74-4D23-90C6-B76DD32B4B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9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6984C3-D90A-4A41-8664-BCDA3BCA86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9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42AA5C-34B0-4CBA-A937-573AA4231F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9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61F6D9-8BA9-4786-8716-0487BCEBD7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D16DA1-C16B-486E-A8E5-DE3DF68C80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267EA9-4048-4DB6-A36D-C5A3C70F71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0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7F0841-4DFD-4C7C-8B8F-36D8CD0FED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879D1-685C-41E7-BD67-81A4677EE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0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24A13B-172B-4181-9E95-177AFE6423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0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9F4336-AEBC-4AAC-9F24-A09389AE51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1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2D1932-87F2-4984-B6AB-7DDB3D1F8B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1CC2CC-5CCF-46A5-8A9F-2FEEFE61F5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2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C35AF8-0926-4B1B-AC1B-8A99BF28185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18313A-CAD5-4CC7-BF6C-8319A36666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53B615-F1BB-4253-82AE-32B37A179F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77FCA8-133B-42DE-814E-7F1218BCBC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301A6F-4DBB-453B-82B4-A231C91BBE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8C5928-EF66-4142-B3BA-AA223D4D4E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4FD4A-D7E0-4A5F-BDA0-4715FBECE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5CBBA0-1EBC-4752-B9A5-1B58C15461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64087B-8086-4A19-A9B1-906D6F76FF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75F823-5038-4385-ADCF-F6AAC5B392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D8214E-BB4B-46E8-9A65-B8073A6DE9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7FDD5D-2CED-49EF-9021-7D4BFD7AA2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07A8C43-8F38-434F-A17C-2253A90632A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7F93F0-43AC-4564-BF5B-70DF8C196A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68D51F1-DB30-48B2-8226-36246B03EDC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6E9476-4AEB-4964-B51B-02D16A2C65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FD5DEB-3883-44BD-BC8C-C386FED0FC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6652C-9D19-4844-B74C-577FF217C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450272C-A4B6-482C-AECF-BC10620A6E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9B5A70E-F5EB-4392-837D-E62CEC2995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99CF6A-E94F-496F-942B-0915F603F5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4E3628-65E2-4FEA-AC21-2E41E0D9DA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5505C2-2B8C-4161-B201-8A3A36B645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6D7E67-DE98-419C-BFA9-BFC029F832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B35789-A9BB-4685-BC5E-BEAE532AD0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62E3742-C57C-4DA6-87E9-7A276693320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D80052-54AE-44DC-B2F1-190AFCED067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735E9C8-A28A-45D7-9FF3-D9B8F6CBBAC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0571C-F65B-48ED-9303-BDB248677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70CC18-6188-46B6-B460-68C67B0CF3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323507F-1E68-4358-96B2-B01889AEF6D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91A3A2-5F0C-4A57-A551-B3A6BD579B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8C5BB4-A2DE-4DDE-826B-04C94697601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08397C-3A32-4F00-B5AB-C111A8F353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FED3D2A-FDAC-44FB-87C7-E770B8C5BC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5000B7-EC8C-4CB8-AE51-1E2A77DDCA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F0784F-556C-4085-9AF4-E590AECCDE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B5F54C-7272-4648-81E6-3929BCE20F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EC2CF50-939B-4F02-A3FC-A6BBF686E2A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608F8-127B-47DB-8A77-2D47C60E1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76A169A-8784-412F-A493-B20DACD7CCA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740C58C-7B8F-4BC1-9071-EA304A26FAE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D7C52A-F78A-43C7-B491-44D238463B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D6DB44F-A892-494D-80B8-88ABB69FC8F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7B42AC9-4BD3-48F0-8FD1-62CC3DA7914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A417BD-BFBA-4231-970C-6B59B4D1FC5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C7AF897-2307-405B-8E31-856882D7D9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73AB508-4743-474E-98E0-2973025061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4832C2-C415-46E0-9E0A-2DF470BA6C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FD09AD-B6A2-4D4C-B57B-D8E017F2C4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B4623-7736-48CA-9471-61060F40D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9668E1F-CCF1-472E-9EAA-E6E8178AA89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7CA1EC3-40A0-4B84-831D-7E7864CC3FB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165F33D-0CC2-467D-93B3-F8FE10CA0D8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E2384A2-FE0A-43DA-8F2B-1B248B214B3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A58207E-6AC7-41BA-AE56-DAB56DCE35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31D1B79-2A13-4813-B597-E427E56950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066C82-EF67-4A52-B429-56FC583B26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FD024EF-B1A4-4632-8C69-83EB4BCD255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5C70DA4-5BB2-4A00-BF5F-D56BCC0B944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F6A855-3F62-4A24-81B6-8CEEB33AE3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9B470-B015-4EEB-9051-C981DB4C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6BB25-B6D7-4249-805D-154E542BF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5EECC8-4FF5-4D3B-9DD5-639F8A4768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58E698-6A3F-40C1-A995-5206F36C63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6D05E1-3732-432C-8F74-4FBC85292A0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BB90BCA-5FA2-4518-A63A-075AD0A6AC5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B15EDEF-5682-45E2-ACFA-719939363D2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5989A-F5B7-459E-B931-FD25B09A2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303D7-FA38-468D-BF8C-4DB4D2D46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CC181-5C41-445E-802E-0F22E208D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14B61-C638-46FD-8EF0-D611B80D5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56894C-2247-4FCF-B8DD-B889491F59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66CD3E-AE69-4364-B9F1-544F6A444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75088-9AFB-44E6-B920-0C7CF600B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2BB3A2-9EF4-4843-8412-CC234BFEE4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C7486-9C40-4308-A749-216DD69102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1A6BA-0195-4852-8A07-96A7EBBFA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29D97-98FD-4E2F-B41A-0D1047CB8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7FC83-1107-4204-B8F8-DBB98A7F7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F2326-E48C-41AB-81BF-61B443684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6C4EC-CEE4-4D8C-AA5D-48D7EC02E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98B19-2C7C-4DD7-B028-EF8C10916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1671C0-FFB7-4F92-BF15-8E1C1A1A96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E572B-A7A9-4DCC-A12C-33D38186C3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B2289F-769B-4A2A-85AE-E1C642D3E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662CF-0242-4A5A-BF65-979548FA4E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F924FC-3656-4B8E-8BB2-54F49D757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805AC-9863-4E64-AFA7-C4C3CE87C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9F8FF3-C9E8-4D0A-A8AA-9F25FB872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AE5D8-4B5D-4B99-A680-3737428E2B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09F1A4-FCB5-40BA-AE3E-856B77D47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5D087C-89C2-43B5-8FB8-1169CFBC1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96FBA-2966-4F70-AB7F-A98BB438A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B18FE-52CA-46D2-A6BB-4DC50F89B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59165-A0B7-419D-91F2-F0F4BCA111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F4DCB0-E77C-43AA-8FD0-C53F064844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2E024E-CD25-4666-8FF3-E5E62776BE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FA55E1-52B7-4A82-9194-BEDC711346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614BE-F2BB-493E-99E1-C9875D6DB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071EB-E08F-4D5F-AE59-803E6A236F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B5CE6D-13A2-4D1E-A3D0-B3CB738A1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A283BA-3179-4CB0-9241-8BA40A054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916E7-1D70-461E-9653-88A21A956B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27DC6-9F89-4A70-B800-CE586F5CA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0D820-E19C-48B4-9C21-7DFC190DC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DA4756-3489-4D7A-9D24-902A923CD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78604-E366-456C-AF30-8FAE2E305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02C3B1-286B-4F7E-BF7A-1D5868F15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C297B4-F939-47F6-B379-80A6BCE37F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F57F9-223E-4449-B40E-2EE825290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E5F854-CDFA-4AE6-81E2-4D86C24C8F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D7AC75-D8DB-427E-8D6F-FC6B2C9BE5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C5C1E-D943-442D-B813-EE7D40715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B37D5-88C4-43B1-8C1D-0639E3253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8F0BBF-30B5-471E-A6B2-33009038FD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679B76-E1B0-4886-B598-9F8021FF4C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9261F5-1578-4ED1-AA28-F07F6377D7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73892-602A-4D93-9D5F-CA1D798ED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636AD-70AC-4A60-8256-09F4B8984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FF05B-FDF3-4138-A1F0-ADE23353E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89955-E81C-4BD1-BF02-06A7A0668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989CD9-C854-4CED-840E-2C42765A2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93969A-A8F6-4184-BFC7-936866315D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83987E-C659-45C0-8ADA-1F5FBD079C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C2ABD1-B301-457A-878E-1FAC4D02A1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78824-6917-4BC7-AD5F-D6A69B6D0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43BA7E-2F0B-4700-88BE-D971ED1D1A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444A5D-D7C7-4BCF-8E43-E19AD8D884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B1FF0C-DC20-4430-ACB7-C2E6C6BBDA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C59C1A-160B-473D-9CC4-6AFA9F0C6E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A4280-3A26-4FA1-9014-F2C94910EF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80BC-A827-4380-AD87-52CEE9D0A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27E4A-1C6B-4A53-8DBB-C26B78014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2C52D-2C41-4008-BC66-63D7B38641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F73906-B6CD-40C9-BBCA-CE82FB6E6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92E6E8-0327-43FF-9342-3CB02A2AC3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58C088-B8C1-4396-8850-FDFA6493A2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CDFA5F-D2CA-4EBD-BD09-CA143FB59F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8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16ABBA-623D-45D6-86B3-BBEC10A077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8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5775F6-4FA1-4D79-985F-2DDDCD46E9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8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3B3142-8A81-4C81-896E-643C66A67D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F0E7A4-4452-4E0E-B7CB-1161749F46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1AA6A-250A-4282-BC94-1D1D592C5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163AD5-6C21-40E2-A9AB-F8EF641BDE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7CBE4-B4DE-4EB9-99EC-BA95C7B4F7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9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EA26E-9723-4638-BE9F-00509090A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9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F9459-B926-4F5B-9AB5-F694BACBC1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0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3860B-1202-41A3-8495-78232A3ABF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0D1622-FD2C-4E0F-89BA-CBC026FE4B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1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538DE4-8AB5-432C-8BC3-90D9F0AD97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8498ED-2FD0-42AE-8233-38C75DEC41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920A01-D53E-4F24-B423-733B042EA5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3BD865-785F-4375-A6B7-D07F22FF60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5F17-47F1-4A11-A7BB-F2A852CF2ECB}" type="slidenum">
              <a:rPr b="0" lang="en-U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Group 16"/>
          <p:cNvGrpSpPr/>
          <p:nvPr/>
        </p:nvGrpSpPr>
        <p:grpSpPr>
          <a:xfrm>
            <a:off x="-7920" y="-7920"/>
            <a:ext cx="9169560" cy="6873840"/>
            <a:chOff x="-7920" y="-7920"/>
            <a:chExt cx="9169560" cy="6873840"/>
          </a:xfrm>
        </p:grpSpPr>
        <p:sp>
          <p:nvSpPr>
            <p:cNvPr id="46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4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4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81" name="PlaceHolder 3"/>
          <p:cNvSpPr>
            <a:spLocks noGrp="1"/>
          </p:cNvSpPr>
          <p:nvPr>
            <p:ph type="dt" idx="2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482" name="PlaceHolder 4"/>
          <p:cNvSpPr>
            <a:spLocks noGrp="1"/>
          </p:cNvSpPr>
          <p:nvPr>
            <p:ph type="ftr" idx="2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483" name="PlaceHolder 5"/>
          <p:cNvSpPr>
            <a:spLocks noGrp="1"/>
          </p:cNvSpPr>
          <p:nvPr>
            <p:ph type="sldNum" idx="3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9575-5408-4A06-ADE6-3A15CA493453}"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Group 16"/>
          <p:cNvGrpSpPr/>
          <p:nvPr/>
        </p:nvGrpSpPr>
        <p:grpSpPr>
          <a:xfrm>
            <a:off x="-7920" y="-7920"/>
            <a:ext cx="9169560" cy="6873840"/>
            <a:chOff x="-7920" y="-7920"/>
            <a:chExt cx="9169560" cy="6873840"/>
          </a:xfrm>
        </p:grpSpPr>
        <p:sp>
          <p:nvSpPr>
            <p:cNvPr id="52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3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5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53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33" name="PlaceHolder 3"/>
          <p:cNvSpPr>
            <a:spLocks noGrp="1"/>
          </p:cNvSpPr>
          <p:nvPr>
            <p:ph type="dt" idx="3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534" name="PlaceHolder 4"/>
          <p:cNvSpPr>
            <a:spLocks noGrp="1"/>
          </p:cNvSpPr>
          <p:nvPr>
            <p:ph type="ftr" idx="3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535" name="PlaceHolder 5"/>
          <p:cNvSpPr>
            <a:spLocks noGrp="1"/>
          </p:cNvSpPr>
          <p:nvPr>
            <p:ph type="sldNum" idx="3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C145-7CFB-4D51-AA22-FA646485A7C0}"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Group 16"/>
          <p:cNvGrpSpPr/>
          <p:nvPr/>
        </p:nvGrpSpPr>
        <p:grpSpPr>
          <a:xfrm>
            <a:off x="-7920" y="-7920"/>
            <a:ext cx="9169560" cy="6873840"/>
            <a:chOff x="-7920" y="-7920"/>
            <a:chExt cx="9169560" cy="6873840"/>
          </a:xfrm>
        </p:grpSpPr>
        <p:sp>
          <p:nvSpPr>
            <p:cNvPr id="57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8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8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8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58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b5dd"/>
                </a:solidFill>
                <a:latin typeface="Arial"/>
              </a:rPr>
              <a:t>“</a:t>
            </a:r>
            <a:endParaRPr b="0" lang="en-US" sz="8000" spc="-1" strike="noStrike">
              <a:solidFill>
                <a:srgbClr val="000000"/>
              </a:solidFill>
              <a:latin typeface="Antique Olive Roman"/>
            </a:endParaRPr>
          </a:p>
        </p:txBody>
      </p:sp>
      <p:sp>
        <p:nvSpPr>
          <p:cNvPr id="58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b5dd"/>
                </a:solidFill>
                <a:latin typeface="Arial"/>
              </a:rPr>
              <a:t>”</a:t>
            </a:r>
            <a:endParaRPr b="0" lang="en-US" sz="8000" spc="-1" strike="noStrike">
              <a:solidFill>
                <a:srgbClr val="000000"/>
              </a:solidFill>
              <a:latin typeface="Antique Olive Roman"/>
            </a:endParaRPr>
          </a:p>
        </p:txBody>
      </p:sp>
      <p:sp>
        <p:nvSpPr>
          <p:cNvPr id="5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58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7" name="PlaceHolder 3"/>
          <p:cNvSpPr>
            <a:spLocks noGrp="1"/>
          </p:cNvSpPr>
          <p:nvPr>
            <p:ph type="dt" idx="3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588" name="PlaceHolder 4"/>
          <p:cNvSpPr>
            <a:spLocks noGrp="1"/>
          </p:cNvSpPr>
          <p:nvPr>
            <p:ph type="ftr" idx="3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589" name="PlaceHolder 5"/>
          <p:cNvSpPr>
            <a:spLocks noGrp="1"/>
          </p:cNvSpPr>
          <p:nvPr>
            <p:ph type="sldNum" idx="3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3974-98C3-4989-8530-5085B8DB887F}"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6" name="Group 16"/>
          <p:cNvGrpSpPr/>
          <p:nvPr/>
        </p:nvGrpSpPr>
        <p:grpSpPr>
          <a:xfrm>
            <a:off x="-7920" y="-7920"/>
            <a:ext cx="9169560" cy="6873840"/>
            <a:chOff x="-7920" y="-7920"/>
            <a:chExt cx="9169560" cy="6873840"/>
          </a:xfrm>
        </p:grpSpPr>
        <p:sp>
          <p:nvSpPr>
            <p:cNvPr id="62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2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2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6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63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39" name="PlaceHolder 3"/>
          <p:cNvSpPr>
            <a:spLocks noGrp="1"/>
          </p:cNvSpPr>
          <p:nvPr>
            <p:ph type="dt" idx="3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40" name="PlaceHolder 4"/>
          <p:cNvSpPr>
            <a:spLocks noGrp="1"/>
          </p:cNvSpPr>
          <p:nvPr>
            <p:ph type="ftr" idx="3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41" name="PlaceHolder 5"/>
          <p:cNvSpPr>
            <a:spLocks noGrp="1"/>
          </p:cNvSpPr>
          <p:nvPr>
            <p:ph type="sldNum" idx="3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2D5A-DA10-4914-BF15-F31C399EB3B4}"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8" name="Group 16"/>
          <p:cNvGrpSpPr/>
          <p:nvPr/>
        </p:nvGrpSpPr>
        <p:grpSpPr>
          <a:xfrm>
            <a:off x="-7920" y="-7920"/>
            <a:ext cx="9169560" cy="6873840"/>
            <a:chOff x="-7920" y="-7920"/>
            <a:chExt cx="9169560" cy="6873840"/>
          </a:xfrm>
        </p:grpSpPr>
        <p:sp>
          <p:nvSpPr>
            <p:cNvPr id="67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68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b5dd"/>
                </a:solidFill>
                <a:latin typeface="Arial"/>
              </a:rPr>
              <a:t>“</a:t>
            </a:r>
            <a:endParaRPr b="0" lang="en-US" sz="8000" spc="-1" strike="noStrike">
              <a:solidFill>
                <a:srgbClr val="000000"/>
              </a:solidFill>
              <a:latin typeface="Antique Olive Roman"/>
            </a:endParaRPr>
          </a:p>
        </p:txBody>
      </p:sp>
      <p:sp>
        <p:nvSpPr>
          <p:cNvPr id="69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b5dd"/>
                </a:solidFill>
                <a:latin typeface="Arial"/>
              </a:rPr>
              <a:t>”</a:t>
            </a:r>
            <a:endParaRPr b="0" lang="en-US" sz="8000" spc="-1" strike="noStrike">
              <a:solidFill>
                <a:srgbClr val="000000"/>
              </a:solidFill>
              <a:latin typeface="Antique Olive Roman"/>
            </a:endParaRPr>
          </a:p>
        </p:txBody>
      </p:sp>
      <p:sp>
        <p:nvSpPr>
          <p:cNvPr id="6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6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93" name="PlaceHolder 3"/>
          <p:cNvSpPr>
            <a:spLocks noGrp="1"/>
          </p:cNvSpPr>
          <p:nvPr>
            <p:ph type="dt" idx="4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94" name="PlaceHolder 4"/>
          <p:cNvSpPr>
            <a:spLocks noGrp="1"/>
          </p:cNvSpPr>
          <p:nvPr>
            <p:ph type="ftr" idx="4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95" name="PlaceHolder 5"/>
          <p:cNvSpPr>
            <a:spLocks noGrp="1"/>
          </p:cNvSpPr>
          <p:nvPr>
            <p:ph type="sldNum" idx="4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0EE5-B605-4D27-A595-2F98DCCB5C47}"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2" name="Group 16"/>
          <p:cNvGrpSpPr/>
          <p:nvPr/>
        </p:nvGrpSpPr>
        <p:grpSpPr>
          <a:xfrm>
            <a:off x="-7920" y="-7920"/>
            <a:ext cx="9169560" cy="6873840"/>
            <a:chOff x="-7920" y="-7920"/>
            <a:chExt cx="9169560" cy="6873840"/>
          </a:xfrm>
        </p:grpSpPr>
        <p:sp>
          <p:nvSpPr>
            <p:cNvPr id="7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4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4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4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7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7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5" name="PlaceHolder 3"/>
          <p:cNvSpPr>
            <a:spLocks noGrp="1"/>
          </p:cNvSpPr>
          <p:nvPr>
            <p:ph type="dt" idx="4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746" name="PlaceHolder 4"/>
          <p:cNvSpPr>
            <a:spLocks noGrp="1"/>
          </p:cNvSpPr>
          <p:nvPr>
            <p:ph type="ftr" idx="4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747" name="PlaceHolder 5"/>
          <p:cNvSpPr>
            <a:spLocks noGrp="1"/>
          </p:cNvSpPr>
          <p:nvPr>
            <p:ph type="sldNum" idx="4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5E25-BC35-4538-A597-B345EE1A282B}"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4" name="Group 16"/>
          <p:cNvGrpSpPr/>
          <p:nvPr/>
        </p:nvGrpSpPr>
        <p:grpSpPr>
          <a:xfrm>
            <a:off x="-7920" y="-7920"/>
            <a:ext cx="9169560" cy="6873840"/>
            <a:chOff x="-7920" y="-7920"/>
            <a:chExt cx="9169560" cy="6873840"/>
          </a:xfrm>
        </p:grpSpPr>
        <p:sp>
          <p:nvSpPr>
            <p:cNvPr id="7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8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8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8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8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7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7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7" name="PlaceHolder 3"/>
          <p:cNvSpPr>
            <a:spLocks noGrp="1"/>
          </p:cNvSpPr>
          <p:nvPr>
            <p:ph type="dt" idx="4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798" name="PlaceHolder 4"/>
          <p:cNvSpPr>
            <a:spLocks noGrp="1"/>
          </p:cNvSpPr>
          <p:nvPr>
            <p:ph type="ftr" idx="4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799" name="PlaceHolder 5"/>
          <p:cNvSpPr>
            <a:spLocks noGrp="1"/>
          </p:cNvSpPr>
          <p:nvPr>
            <p:ph type="sldNum" idx="4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803B-E842-457A-BD8C-90B2C4FF0F68}"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6" name="Group 16"/>
          <p:cNvGrpSpPr/>
          <p:nvPr/>
        </p:nvGrpSpPr>
        <p:grpSpPr>
          <a:xfrm>
            <a:off x="-7920" y="-7920"/>
            <a:ext cx="9169560" cy="6873840"/>
            <a:chOff x="-7920" y="-7920"/>
            <a:chExt cx="9169560" cy="6873840"/>
          </a:xfrm>
        </p:grpSpPr>
        <p:sp>
          <p:nvSpPr>
            <p:cNvPr id="8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3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3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8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8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9"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850"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851"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87CC-AC67-4702-80C2-B3D041C5A789}"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3E86-176F-4054-B7A5-3936595F6ACA}"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1F5D-F3E1-45C7-A05F-DEAF68418164}"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5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5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467C-901B-4004-8EE5-234150E5A0B6}"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69560" cy="6873840"/>
            <a:chOff x="-7920" y="-7920"/>
            <a:chExt cx="9169560" cy="6873840"/>
          </a:xfrm>
        </p:grpSpPr>
        <p:sp>
          <p:nvSpPr>
            <p:cNvPr id="2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4FB2-34E8-4960-91B6-88E0CD41D540}"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69560" cy="6873840"/>
            <a:chOff x="-7920" y="-7920"/>
            <a:chExt cx="9169560" cy="6873840"/>
          </a:xfrm>
        </p:grpSpPr>
        <p:sp>
          <p:nvSpPr>
            <p:cNvPr id="26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7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A6AD-4646-4AFF-8A5D-BBA7A84EF09E}"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69560" cy="6873840"/>
            <a:chOff x="-7920" y="-7920"/>
            <a:chExt cx="9169560" cy="6873840"/>
          </a:xfrm>
        </p:grpSpPr>
        <p:sp>
          <p:nvSpPr>
            <p:cNvPr id="3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3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3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5"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326"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327"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FC26-2698-4785-B385-43160FBF7A6F}"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Group 16"/>
          <p:cNvGrpSpPr/>
          <p:nvPr/>
        </p:nvGrpSpPr>
        <p:grpSpPr>
          <a:xfrm>
            <a:off x="-7920" y="-7920"/>
            <a:ext cx="9169560" cy="6873840"/>
            <a:chOff x="-7920" y="-7920"/>
            <a:chExt cx="9169560" cy="6873840"/>
          </a:xfrm>
        </p:grpSpPr>
        <p:sp>
          <p:nvSpPr>
            <p:cNvPr id="36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6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6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6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6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3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37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77"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378"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379"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3EF1-A1E6-429E-A2FD-0CB89F439431}"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Group 16"/>
          <p:cNvGrpSpPr/>
          <p:nvPr/>
        </p:nvGrpSpPr>
        <p:grpSpPr>
          <a:xfrm>
            <a:off x="-7920" y="-7920"/>
            <a:ext cx="9169560" cy="6873840"/>
            <a:chOff x="-7920" y="-7920"/>
            <a:chExt cx="9169560" cy="6873840"/>
          </a:xfrm>
        </p:grpSpPr>
        <p:sp>
          <p:nvSpPr>
            <p:cNvPr id="41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1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1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4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4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29" name="PlaceHolder 3"/>
          <p:cNvSpPr>
            <a:spLocks noGrp="1"/>
          </p:cNvSpPr>
          <p:nvPr>
            <p:ph type="dt" idx="2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430" name="PlaceHolder 4"/>
          <p:cNvSpPr>
            <a:spLocks noGrp="1"/>
          </p:cNvSpPr>
          <p:nvPr>
            <p:ph type="ftr" idx="2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431" name="PlaceHolder 5"/>
          <p:cNvSpPr>
            <a:spLocks noGrp="1"/>
          </p:cNvSpPr>
          <p:nvPr>
            <p:ph type="sldNum" idx="2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C196-ED26-4D5C-BB25-F97208C60345}"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ángulo 1"/>
          <p:cNvSpPr/>
          <p:nvPr/>
        </p:nvSpPr>
        <p:spPr>
          <a:xfrm>
            <a:off x="826920" y="2151000"/>
            <a:ext cx="6840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0" spc="-1" strike="noStrike">
                <a:solidFill>
                  <a:srgbClr val="000000"/>
                </a:solidFill>
                <a:latin typeface="Century Gothic"/>
              </a:rPr>
              <a:t>¿PODEMOS </a:t>
            </a:r>
            <a:r>
              <a:rPr b="0" lang="es-VE" sz="6000" spc="-1" strike="noStrike">
                <a:solidFill>
                  <a:srgbClr val="000000"/>
                </a:solidFill>
                <a:latin typeface="Baskerville Old Face"/>
              </a:rPr>
              <a:t>COMUNICARNOS</a:t>
            </a:r>
            <a:endParaRPr b="0" lang="en-US" sz="6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000000"/>
                </a:solidFill>
                <a:latin typeface="Century Gothic"/>
              </a:rPr>
              <a:t>CON</a:t>
            </a:r>
            <a:r>
              <a:rPr b="0" lang="es-VE" sz="4800" spc="-1" strike="noStrike">
                <a:solidFill>
                  <a:srgbClr val="000000"/>
                </a:solidFill>
                <a:latin typeface="Century Gothic"/>
              </a:rPr>
              <a:t> </a:t>
            </a:r>
            <a:r>
              <a:rPr b="0" lang="es-VE" sz="6000" spc="-1" strike="noStrike">
                <a:solidFill>
                  <a:srgbClr val="000000"/>
                </a:solidFill>
                <a:latin typeface="Century Gothic"/>
              </a:rPr>
              <a:t>DIOS?</a:t>
            </a:r>
            <a:endParaRPr b="0" lang="en-US" sz="6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ángulo 1"/>
          <p:cNvSpPr/>
          <p:nvPr/>
        </p:nvSpPr>
        <p:spPr>
          <a:xfrm>
            <a:off x="1494000" y="2565360"/>
            <a:ext cx="5957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oración no baja a Dios hasta nosotros, antes bien nos eleva a Él</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ángulo 1"/>
          <p:cNvSpPr/>
          <p:nvPr/>
        </p:nvSpPr>
        <p:spPr>
          <a:xfrm>
            <a:off x="1187280" y="2209680"/>
            <a:ext cx="5958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omo lo hizo Nehemías cuando hizo la petición delante del rey Artajerj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ángulo 1"/>
          <p:cNvSpPr/>
          <p:nvPr/>
        </p:nvSpPr>
        <p:spPr>
          <a:xfrm>
            <a:off x="1565280" y="2637000"/>
            <a:ext cx="538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 dondequiera que estemos podemos estar en comunión con é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ángulo 1"/>
          <p:cNvSpPr/>
          <p:nvPr/>
        </p:nvSpPr>
        <p:spPr>
          <a:xfrm>
            <a:off x="1116000" y="2205000"/>
            <a:ext cx="638964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Debemos tener abierta continuamente la puerta del corazón, e invitar siempre a Jesús a venir y morar en el alma como huésped celestial</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ángulo 1"/>
          <p:cNvSpPr/>
          <p:nvPr/>
        </p:nvSpPr>
        <p:spPr>
          <a:xfrm>
            <a:off x="990720" y="2274840"/>
            <a:ext cx="6102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unque estemos rodeados de una atmósfera corrompida y manchada, no necesitamos respirar sus miasma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ángulo 1"/>
          <p:cNvSpPr/>
          <p:nvPr/>
        </p:nvSpPr>
        <p:spPr>
          <a:xfrm>
            <a:off x="1709640" y="2637000"/>
            <a:ext cx="5454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ntes bien podemos vivir en la atmósfera limpia del ciel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ángulo 1"/>
          <p:cNvSpPr/>
          <p:nvPr/>
        </p:nvSpPr>
        <p:spPr>
          <a:xfrm>
            <a:off x="1206360" y="2133720"/>
            <a:ext cx="62452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odemos cerrar la entrada a toda imaginación impura y a todo pensamiento perverso, elevando el alma a Dios mediante la oración sincera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ángulo 1"/>
          <p:cNvSpPr/>
          <p:nvPr/>
        </p:nvSpPr>
        <p:spPr>
          <a:xfrm>
            <a:off x="990720" y="1989000"/>
            <a:ext cx="6245280" cy="32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Aquellos cuyo corazón esté abierto para recibir el apoyo y la bendición de Dios, andarán en una atmósfera más santa que la del mundo y tendrán constante comunión con el cielo</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ángulo 1"/>
          <p:cNvSpPr/>
          <p:nvPr/>
        </p:nvSpPr>
        <p:spPr>
          <a:xfrm>
            <a:off x="990720" y="2421000"/>
            <a:ext cx="6389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ecesitamos tener ideas más claras de Jesús y una comprensión más completa de las realidades etern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ángulo 1"/>
          <p:cNvSpPr/>
          <p:nvPr/>
        </p:nvSpPr>
        <p:spPr>
          <a:xfrm>
            <a:off x="1189080" y="2354400"/>
            <a:ext cx="60469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hermosura de la santidad ha de consolar el corazón de los hijos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ángulo 1"/>
          <p:cNvSpPr/>
          <p:nvPr/>
        </p:nvSpPr>
        <p:spPr>
          <a:xfrm>
            <a:off x="1349280" y="2276640"/>
            <a:ext cx="5886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para que esto se lleve a cabo, debemos buscar las revelaciones divinas de las cosas celestial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ángulo 2"/>
          <p:cNvSpPr/>
          <p:nvPr/>
        </p:nvSpPr>
        <p:spPr>
          <a:xfrm>
            <a:off x="1638360" y="2170080"/>
            <a:ext cx="5597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uando Jesús estuvo sobre la tierra, enseñó a sus discípulos a orar</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ángulo 1"/>
          <p:cNvSpPr/>
          <p:nvPr/>
        </p:nvSpPr>
        <p:spPr>
          <a:xfrm>
            <a:off x="990720" y="2421000"/>
            <a:ext cx="631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xtiéndase y elévese el alma para que Dios pueda concedernos respirar la atmósfera celestia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ángulo 1"/>
          <p:cNvSpPr/>
          <p:nvPr/>
        </p:nvSpPr>
        <p:spPr>
          <a:xfrm>
            <a:off x="826920" y="2421000"/>
            <a:ext cx="660744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Podemos mantenernos tan cerca de Dios que en cualquier prueba inesperada nuestros pensamientos se vuelvan a él tan naturalmente como la flor se vuelve al sol</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ángulo 1"/>
          <p:cNvSpPr/>
          <p:nvPr/>
        </p:nvSpPr>
        <p:spPr>
          <a:xfrm>
            <a:off x="1062000" y="2276640"/>
            <a:ext cx="6534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resentad a Dios vuestras necesidades, gozos, tristezas, cuidados y temores. No podéis agobiarlo ni cansarl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ángulo 2"/>
          <p:cNvSpPr/>
          <p:nvPr/>
        </p:nvSpPr>
        <p:spPr>
          <a:xfrm>
            <a:off x="755640" y="2205000"/>
            <a:ext cx="6607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que tiene contados los cabellos de vuestra cabeza, no es indiferente a las necesidades de sus hijos </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ángulo 1"/>
          <p:cNvSpPr/>
          <p:nvPr/>
        </p:nvSpPr>
        <p:spPr>
          <a:xfrm>
            <a:off x="1440000" y="2119320"/>
            <a:ext cx="5435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Porque el Señor es muy misericordioso y compasivo”</a:t>
            </a:r>
            <a:r>
              <a:rPr b="0" lang="es-ES" sz="4400" spc="-1" strike="noStrike">
                <a:solidFill>
                  <a:srgbClr val="000000"/>
                </a:solidFill>
                <a:latin typeface="Calibri"/>
              </a:rPr>
              <a:t> </a:t>
            </a:r>
            <a:endParaRPr b="0" lang="en-US" sz="44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ntiago 5: 11)</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ángulo 1"/>
          <p:cNvSpPr/>
          <p:nvPr/>
        </p:nvSpPr>
        <p:spPr>
          <a:xfrm>
            <a:off x="1187280" y="2349360"/>
            <a:ext cx="617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u amoroso corazón se conmueve por nuestras tristezas y aún por nuestra presentación de ell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ángulo 1"/>
          <p:cNvSpPr/>
          <p:nvPr/>
        </p:nvSpPr>
        <p:spPr>
          <a:xfrm>
            <a:off x="1206360" y="2637000"/>
            <a:ext cx="59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levadle todo lo que confunda vuestra mente</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ángulo 1"/>
          <p:cNvSpPr/>
          <p:nvPr/>
        </p:nvSpPr>
        <p:spPr>
          <a:xfrm>
            <a:off x="1152360" y="2570040"/>
            <a:ext cx="6083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inguna cosa es demasiado grande para que Él no la pueda soporta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ángulo 1"/>
          <p:cNvSpPr/>
          <p:nvPr/>
        </p:nvSpPr>
        <p:spPr>
          <a:xfrm>
            <a:off x="1547640" y="2498760"/>
            <a:ext cx="5310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Él sostiene los mundos y gobierna todos los asuntos del univers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ángulo 1"/>
          <p:cNvSpPr/>
          <p:nvPr/>
        </p:nvSpPr>
        <p:spPr>
          <a:xfrm>
            <a:off x="1494000" y="2170080"/>
            <a:ext cx="588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inguna cosa que de alguna manera afecte nuestra paz es tan pequeña que él no la note</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ángulo 1"/>
          <p:cNvSpPr/>
          <p:nvPr/>
        </p:nvSpPr>
        <p:spPr>
          <a:xfrm>
            <a:off x="1494000" y="2349360"/>
            <a:ext cx="5957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es enseñó a presentar Dios sus necesidades diarias y a echar toda su solicitud sobre é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ángulo 1"/>
          <p:cNvSpPr/>
          <p:nvPr/>
        </p:nvSpPr>
        <p:spPr>
          <a:xfrm>
            <a:off x="917640" y="2492280"/>
            <a:ext cx="66070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o hay en nuestra experiencia ningún pasaje tan oscuro que Él no pueda leer, ni perplejidad tan grande que él no pueda desenredar</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ángulo 1"/>
          <p:cNvSpPr/>
          <p:nvPr/>
        </p:nvSpPr>
        <p:spPr>
          <a:xfrm>
            <a:off x="612720" y="1989000"/>
            <a:ext cx="68389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inguna calamidad puede acaecer al más pequeño de sus hijos, ninguna ansiedad puede asaltar el alma, ningún gozo alegrar, ninguna oración sincera escaparse de los labios, </a:t>
            </a:r>
            <a:r>
              <a:rPr b="1" lang="es-ES" sz="3200" spc="-1" strike="noStrike">
                <a:solidFill>
                  <a:srgbClr val="000000"/>
                </a:solidFill>
                <a:latin typeface="Calibri"/>
              </a:rPr>
              <a:t>sin que el Padre celestial esté al tanto de ello</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ángulo 1"/>
          <p:cNvSpPr/>
          <p:nvPr/>
        </p:nvSpPr>
        <p:spPr>
          <a:xfrm>
            <a:off x="1206360" y="2060640"/>
            <a:ext cx="602964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in que tome en ello un interés inmediato. Él </a:t>
            </a:r>
            <a:r>
              <a:rPr b="1" lang="es-ES" sz="4000" spc="-1" strike="noStrike">
                <a:solidFill>
                  <a:srgbClr val="000000"/>
                </a:solidFill>
                <a:latin typeface="Calibri"/>
              </a:rPr>
              <a:t>"sana a los quebrantados de corazón, y venda sus heridas" </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mo 147: 3) </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ángulo 1"/>
          <p:cNvSpPr/>
          <p:nvPr/>
        </p:nvSpPr>
        <p:spPr>
          <a:xfrm>
            <a:off x="1062000" y="2001960"/>
            <a:ext cx="6246720" cy="291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000000"/>
                </a:solidFill>
                <a:latin typeface="Calibri"/>
              </a:rPr>
              <a:t>Las relaciones entre Dios y cada una de las almas son tan claras y plenas como si no hubiese otra alma por la cual hubiera dado a su Hijo amado</a:t>
            </a:r>
            <a:endParaRPr b="0" lang="en-US" sz="37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ángulo 1"/>
          <p:cNvSpPr/>
          <p:nvPr/>
        </p:nvSpPr>
        <p:spPr>
          <a:xfrm>
            <a:off x="846000" y="2133720"/>
            <a:ext cx="660564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Jesús decía:  </a:t>
            </a:r>
            <a:r>
              <a:rPr b="1" lang="es-ES" sz="3600" spc="-1" strike="noStrike">
                <a:solidFill>
                  <a:srgbClr val="000000"/>
                </a:solidFill>
                <a:latin typeface="Calibri"/>
              </a:rPr>
              <a:t>“Pediréis en mi nombre; y no os digo que yo rogaré al Padre por vosotros; porque el Padre mismo os ama” </a:t>
            </a:r>
            <a:endParaRPr b="0" lang="en-US" sz="36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an Juan 16: 26, 27)</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ángulo 1"/>
          <p:cNvSpPr/>
          <p:nvPr/>
        </p:nvSpPr>
        <p:spPr>
          <a:xfrm>
            <a:off x="1422360" y="2060640"/>
            <a:ext cx="588636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o os elegí a vosotros... para que cuanto pidiereis al Padre en mi nombre, él os lo dé" </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n Juan 15: 16)</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ángulo 1"/>
          <p:cNvSpPr/>
          <p:nvPr/>
        </p:nvSpPr>
        <p:spPr>
          <a:xfrm>
            <a:off x="1278000" y="2276640"/>
            <a:ext cx="610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rar en nombre de Jesús es más que una mera mención de su nombre al principio y al fin de la oración</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ángulo 1"/>
          <p:cNvSpPr/>
          <p:nvPr/>
        </p:nvSpPr>
        <p:spPr>
          <a:xfrm>
            <a:off x="1062000" y="1989000"/>
            <a:ext cx="6318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 orar con los sentimientos y el espíritu de Jesús, creyendo en sus promesas, confiando en su gracia y haciendo sus obr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ángulo 1"/>
          <p:cNvSpPr/>
          <p:nvPr/>
        </p:nvSpPr>
        <p:spPr>
          <a:xfrm>
            <a:off x="900000" y="2133720"/>
            <a:ext cx="655164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Dios no pretende que algunos de nosotros nos hagamos ermitaños o monjes, ni que nos retiremos del mundo a fin de consagrarnos a los actos de adoraci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ángulo 1"/>
          <p:cNvSpPr/>
          <p:nvPr/>
        </p:nvSpPr>
        <p:spPr>
          <a:xfrm>
            <a:off x="917640" y="2565360"/>
            <a:ext cx="6607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ios no pretende que algunos de nosotros nos hagamos ermitaños o monj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ángulo 1"/>
          <p:cNvSpPr/>
          <p:nvPr/>
        </p:nvSpPr>
        <p:spPr>
          <a:xfrm>
            <a:off x="1512720" y="2459160"/>
            <a:ext cx="5723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la seguridad que les dio de que sus oraciones serían oídas, nos es dada también a nosotr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ángulo 1"/>
          <p:cNvSpPr/>
          <p:nvPr/>
        </p:nvSpPr>
        <p:spPr>
          <a:xfrm>
            <a:off x="1278000" y="2349360"/>
            <a:ext cx="610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i que nos retiremos del mundo a fin de consagrarnos a los actos de adoración </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ángulo 1"/>
          <p:cNvSpPr/>
          <p:nvPr/>
        </p:nvSpPr>
        <p:spPr>
          <a:xfrm>
            <a:off x="936720" y="2133720"/>
            <a:ext cx="65149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uestra vida debe ser como la vida de Cristo, que estaba repartida entre la montaña y la multitud</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ángulo 1"/>
          <p:cNvSpPr/>
          <p:nvPr/>
        </p:nvSpPr>
        <p:spPr>
          <a:xfrm>
            <a:off x="936720" y="2276640"/>
            <a:ext cx="658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que no hace nada más que orar, pronto dejará de hacerlo o sus oraciones llegarán a ser una rutina forma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ángulo 1"/>
          <p:cNvSpPr/>
          <p:nvPr/>
        </p:nvSpPr>
        <p:spPr>
          <a:xfrm>
            <a:off x="1133640" y="2421000"/>
            <a:ext cx="6318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ando los hombres se alejan de la vida social, de la esfera del deber cristiano y de la obligación de llevar su cruz</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ángulo 1"/>
          <p:cNvSpPr/>
          <p:nvPr/>
        </p:nvSpPr>
        <p:spPr>
          <a:xfrm>
            <a:off x="971640" y="2060640"/>
            <a:ext cx="6480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uando dejan de trabajar ardientemente por el Maestro que trabajaba con ardor por ellos, pierden lo esencial de la oración y no tienen ya estímulo para la devoción</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ángulo 1"/>
          <p:cNvSpPr/>
          <p:nvPr/>
        </p:nvSpPr>
        <p:spPr>
          <a:xfrm>
            <a:off x="1116000" y="2630520"/>
            <a:ext cx="6102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us oraciones llegan a ser personales y egoístas</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ángulo 1"/>
          <p:cNvSpPr/>
          <p:nvPr/>
        </p:nvSpPr>
        <p:spPr>
          <a:xfrm>
            <a:off x="1422360" y="2324160"/>
            <a:ext cx="60292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o pueden orar por las necesidades de la humanidad o la extensión del reino de Cristo, ni pedir fuerza con que trabajar</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ángulo 1"/>
          <p:cNvSpPr/>
          <p:nvPr/>
        </p:nvSpPr>
        <p:spPr>
          <a:xfrm>
            <a:off x="1187280" y="2089080"/>
            <a:ext cx="615636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Sufrimos una pérdida cuando descuidamos la oportunidad de asociarnos para fortalecernos y  edificarnos mutuamente en el servicio de Dio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ángulo 1"/>
          <p:cNvSpPr/>
          <p:nvPr/>
        </p:nvSpPr>
        <p:spPr>
          <a:xfrm>
            <a:off x="1278000" y="2570040"/>
            <a:ext cx="5958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s verdades de su Palabra pierden en nuestras almas su vivacidad e importanci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ángulo 1"/>
          <p:cNvSpPr/>
          <p:nvPr/>
        </p:nvSpPr>
        <p:spPr>
          <a:xfrm>
            <a:off x="1440000" y="2349360"/>
            <a:ext cx="586872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uestros corazones dejan de ser alumbrados y vivificados por la influencia santificadora y declinamos en espiritualidad</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ángulo 1"/>
          <p:cNvSpPr/>
          <p:nvPr/>
        </p:nvSpPr>
        <p:spPr>
          <a:xfrm>
            <a:off x="1206360" y="2637000"/>
            <a:ext cx="62452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Jesús mismo, cuando habitó entre los hombres, oraba frecuentemente </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ángulo 1"/>
          <p:cNvSpPr/>
          <p:nvPr/>
        </p:nvSpPr>
        <p:spPr>
          <a:xfrm>
            <a:off x="1403280" y="2276640"/>
            <a:ext cx="588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 nuestra asociación como cristianos perdemos mucho por falta de simpatías mutu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ángulo 1"/>
          <p:cNvSpPr/>
          <p:nvPr/>
        </p:nvSpPr>
        <p:spPr>
          <a:xfrm>
            <a:off x="1584360" y="2276640"/>
            <a:ext cx="550872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El que se encierra completamente dentro de sí mismo no esta ocupando la posición que Dios le señaló</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ángulo 1"/>
          <p:cNvSpPr/>
          <p:nvPr/>
        </p:nvSpPr>
        <p:spPr>
          <a:xfrm>
            <a:off x="846000" y="2276640"/>
            <a:ext cx="66056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 cultivo apropiado de los elementos sociales de nuestra naturaleza nos hace simpatizar con otros y es para nosotros un medio de desarrollarnos y fortalecernos en el servicio de Dio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ángulo 1"/>
          <p:cNvSpPr/>
          <p:nvPr/>
        </p:nvSpPr>
        <p:spPr>
          <a:xfrm>
            <a:off x="863640" y="2170080"/>
            <a:ext cx="6588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i todos los cristianos se asociaran, hablando entre ellos del amor de Dios y de las preciosas verdades de la redención, su corazón se robustecería y se edificarían mutuamente</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ángulo 1"/>
          <p:cNvSpPr/>
          <p:nvPr/>
        </p:nvSpPr>
        <p:spPr>
          <a:xfrm>
            <a:off x="1187280" y="2421000"/>
            <a:ext cx="5940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prendamos diariamente más de nuestro Padre celestial, obteniendo una nueva experiencia de su gracia</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ángulo 1"/>
          <p:cNvSpPr/>
          <p:nvPr/>
        </p:nvSpPr>
        <p:spPr>
          <a:xfrm>
            <a:off x="1494000" y="2349360"/>
            <a:ext cx="5814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entonces desearemos hablar de su amor; así nuestro propio corazón se encenderá y reanimará</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ángulo 1"/>
          <p:cNvSpPr/>
          <p:nvPr/>
        </p:nvSpPr>
        <p:spPr>
          <a:xfrm>
            <a:off x="1512720" y="2230560"/>
            <a:ext cx="55072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i pensáramos y habláramos más de Jesús y menos de nosotros mismos, tendríamos mucho más de su presencia</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ángulo 1"/>
          <p:cNvSpPr/>
          <p:nvPr/>
        </p:nvSpPr>
        <p:spPr>
          <a:xfrm>
            <a:off x="1116000" y="2205000"/>
            <a:ext cx="629928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i tan sólo pensáramos en él tantas veces como tenemos pruebas de su cuidado por nosotros, lo tendríamos siempre presente en nuestros pensamiento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ángulo 1"/>
          <p:cNvSpPr/>
          <p:nvPr/>
        </p:nvSpPr>
        <p:spPr>
          <a:xfrm>
            <a:off x="1332000" y="2252520"/>
            <a:ext cx="594036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y nos deleitaríamos en hablar de él y en alabarle. Hablamos de las cosas temporales porque tenemos interés en ella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ángulo 1"/>
          <p:cNvSpPr/>
          <p:nvPr/>
        </p:nvSpPr>
        <p:spPr>
          <a:xfrm>
            <a:off x="1619280" y="2421000"/>
            <a:ext cx="5383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Hablamos de nuestros amigos porque los amamos; nuestras tristezas y alegrías están ligadas con ello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ángulo 1"/>
          <p:cNvSpPr/>
          <p:nvPr/>
        </p:nvSpPr>
        <p:spPr>
          <a:xfrm>
            <a:off x="1133640" y="2314440"/>
            <a:ext cx="6246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uestro Padre celestial está esperando para derramar sobre nosotros la plenitud de sus bendiciones </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ángulo 1"/>
          <p:cNvSpPr/>
          <p:nvPr/>
        </p:nvSpPr>
        <p:spPr>
          <a:xfrm>
            <a:off x="1187280" y="2276640"/>
            <a:ext cx="6031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n embargo, tenemos razones infinitamente mayores para amar a Dios que para amar a nuestros amigos terrenale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ángulo 1"/>
          <p:cNvSpPr/>
          <p:nvPr/>
        </p:nvSpPr>
        <p:spPr>
          <a:xfrm>
            <a:off x="1258920" y="2276640"/>
            <a:ext cx="6030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y debería ser la cosa más natural del mundo tenerlo como el primero en todos nuestros pensamientos, hablar de su bondad y alabar su poder</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ángulo 1"/>
          <p:cNvSpPr/>
          <p:nvPr/>
        </p:nvSpPr>
        <p:spPr>
          <a:xfrm>
            <a:off x="1116000" y="1989000"/>
            <a:ext cx="63896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os ricos dones que ha derramado sobre nosotros no estaban destinados a absorber nuestros pensamientos y amor de tal manera que nada tuviéramos que dar a Dio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ángulo 1"/>
          <p:cNvSpPr/>
          <p:nvPr/>
        </p:nvSpPr>
        <p:spPr>
          <a:xfrm>
            <a:off x="1224000" y="2276640"/>
            <a:ext cx="6012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ntes bien, debieran hacernos acordar constantemente de él y unirnos por medio de los vínculos del amor y gratitud a nuestro celestial Benefactor</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ángulo 1"/>
          <p:cNvSpPr/>
          <p:nvPr/>
        </p:nvSpPr>
        <p:spPr>
          <a:xfrm>
            <a:off x="971640" y="2708280"/>
            <a:ext cx="64958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Vivimos demasiado apegados a lo terrenal</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ángulo 1"/>
          <p:cNvSpPr/>
          <p:nvPr/>
        </p:nvSpPr>
        <p:spPr>
          <a:xfrm>
            <a:off x="1349280" y="2098800"/>
            <a:ext cx="57438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evantemos nuestros ojos hacia la puerta abierta del santuario celestial, donde la luz de la gloria de Dios resplandece en el rostro de Cristo</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ángulo 1"/>
          <p:cNvSpPr/>
          <p:nvPr/>
        </p:nvSpPr>
        <p:spPr>
          <a:xfrm>
            <a:off x="1187280" y="1989000"/>
            <a:ext cx="594072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quien </a:t>
            </a:r>
            <a:r>
              <a:rPr b="1" lang="es-ES" sz="4000" spc="-1" strike="noStrike">
                <a:solidFill>
                  <a:srgbClr val="000000"/>
                </a:solidFill>
                <a:latin typeface="Calibri"/>
              </a:rPr>
              <a:t>"también puede salvar hasta lo sumo a los que se acercan a Dios por medio de él" </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ebreos 7: 25)</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ángulo 1"/>
          <p:cNvSpPr/>
          <p:nvPr/>
        </p:nvSpPr>
        <p:spPr>
          <a:xfrm>
            <a:off x="1295280" y="2421000"/>
            <a:ext cx="6013440" cy="21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bemos alabar más a Dios por su misericordia </a:t>
            </a:r>
            <a:r>
              <a:rPr b="1" lang="es-ES" sz="3600" spc="-1" strike="noStrike">
                <a:solidFill>
                  <a:srgbClr val="000000"/>
                </a:solidFill>
                <a:latin typeface="Calibri"/>
              </a:rPr>
              <a:t>“y sus maravillas para con los hijos de Adán” </a:t>
            </a:r>
            <a:endParaRPr b="0" lang="en-US" sz="36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almo 107: 8)</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ángulo 1"/>
          <p:cNvSpPr/>
          <p:nvPr/>
        </p:nvSpPr>
        <p:spPr>
          <a:xfrm>
            <a:off x="1278000" y="2060640"/>
            <a:ext cx="61736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Calibri"/>
              </a:rPr>
              <a:t>Nuestros ejercicios de devoción no deben consistir enteramente en pedir y recibir</a:t>
            </a:r>
            <a:endParaRPr b="0" lang="en-US" sz="4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ángulo 1"/>
          <p:cNvSpPr/>
          <p:nvPr/>
        </p:nvSpPr>
        <p:spPr>
          <a:xfrm>
            <a:off x="1619280" y="2108160"/>
            <a:ext cx="558000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o estemos pensando siempre en nuestras necesidades y nunca en las bendiciones que recibimo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ángulo 1"/>
          <p:cNvSpPr/>
          <p:nvPr/>
        </p:nvSpPr>
        <p:spPr>
          <a:xfrm>
            <a:off x="1403280" y="2570040"/>
            <a:ext cx="5815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 privilegio nuestro beber abundantemente en la fuente de amor infinit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ángulo 1"/>
          <p:cNvSpPr/>
          <p:nvPr/>
        </p:nvSpPr>
        <p:spPr>
          <a:xfrm>
            <a:off x="1403280" y="2274840"/>
            <a:ext cx="5742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 oramos nunca demasiado, pero somos muy parcos en dar graci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ángulo 1"/>
          <p:cNvSpPr/>
          <p:nvPr/>
        </p:nvSpPr>
        <p:spPr>
          <a:xfrm>
            <a:off x="1494000" y="2205000"/>
            <a:ext cx="5742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omos diariamente los recipientes de las misericordias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ángulo 1"/>
          <p:cNvSpPr/>
          <p:nvPr/>
        </p:nvSpPr>
        <p:spPr>
          <a:xfrm>
            <a:off x="1547640" y="2276640"/>
            <a:ext cx="581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n embargo</a:t>
            </a:r>
            <a:r>
              <a:rPr b="1" lang="es-VE" sz="3600" spc="-1" strike="noStrike">
                <a:solidFill>
                  <a:srgbClr val="000000"/>
                </a:solidFill>
                <a:latin typeface="Calibri"/>
              </a:rPr>
              <a:t> </a:t>
            </a:r>
            <a:r>
              <a:rPr b="1" lang="es-ES" sz="3600" spc="-1" strike="noStrike">
                <a:solidFill>
                  <a:srgbClr val="000000"/>
                </a:solidFill>
                <a:latin typeface="Calibri"/>
              </a:rPr>
              <a:t>¡cuán poca gratitud expresamos, cuán poco lo alabamos por lo que ha hecho por nosotr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ángulo 1"/>
          <p:cNvSpPr/>
          <p:nvPr/>
        </p:nvSpPr>
        <p:spPr>
          <a:xfrm>
            <a:off x="1278000" y="2098800"/>
            <a:ext cx="5742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ntiguamente el Señor ordenó esto a Israel, para cuando se congregara para su servici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ángulo 1"/>
          <p:cNvSpPr/>
          <p:nvPr/>
        </p:nvSpPr>
        <p:spPr>
          <a:xfrm>
            <a:off x="755640" y="2017800"/>
            <a:ext cx="6840720" cy="28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Y los comeréis allí delante de Jehová vuestro Dios; y os regocijaréis vosotros y vuestras familias en toda empresa de vuestra mano, en que os  habrá bendecido Jehová vuestro Dios" </a:t>
            </a:r>
            <a:endParaRPr b="0" lang="en-US" sz="32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uteronomio 12: 7)</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ángulo 1"/>
          <p:cNvSpPr/>
          <p:nvPr/>
        </p:nvSpPr>
        <p:spPr>
          <a:xfrm>
            <a:off x="1062000" y="2205000"/>
            <a:ext cx="631836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Aquello que se hace para la gloria de Dios debe hacerse con alegría, con cánticos de alabanza y acción de gracias, no con tristeza y semblante adusto</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ángulo 1"/>
          <p:cNvSpPr/>
          <p:nvPr/>
        </p:nvSpPr>
        <p:spPr>
          <a:xfrm>
            <a:off x="1692360" y="231300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uestro Dios es un Padre tierno y misericordioso</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ángulo 1"/>
          <p:cNvSpPr/>
          <p:nvPr/>
        </p:nvSpPr>
        <p:spPr>
          <a:xfrm>
            <a:off x="1565280" y="2139840"/>
            <a:ext cx="5527800" cy="23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000000"/>
                </a:solidFill>
                <a:latin typeface="Calibri"/>
              </a:rPr>
              <a:t>Su servicio no debe mirarse como una cosa que entristece, como un ejercicio que desagrada</a:t>
            </a:r>
            <a:endParaRPr b="0" lang="en-US" sz="37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ángulo 1"/>
          <p:cNvSpPr/>
          <p:nvPr/>
        </p:nvSpPr>
        <p:spPr>
          <a:xfrm>
            <a:off x="2016000" y="2282760"/>
            <a:ext cx="4572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be ser un placer adorar al Señor y participar en su obr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ángulo 1"/>
          <p:cNvSpPr/>
          <p:nvPr/>
        </p:nvSpPr>
        <p:spPr>
          <a:xfrm>
            <a:off x="755640" y="2276640"/>
            <a:ext cx="6588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Dios no quiere que sus hijos, a los cuales proporcionó una salvación tan grande, trabajen como si él fuera un amo duro y exigente</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ángulo 1"/>
          <p:cNvSpPr/>
          <p:nvPr/>
        </p:nvSpPr>
        <p:spPr>
          <a:xfrm>
            <a:off x="1133640" y="2421000"/>
            <a:ext cx="653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Qué extraño que oremos tan poco! Dios está pronto y dispuesto a oír la oración sincera del más humilde de sus hij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ángulo 1"/>
          <p:cNvSpPr/>
          <p:nvPr/>
        </p:nvSpPr>
        <p:spPr>
          <a:xfrm>
            <a:off x="557280" y="2421000"/>
            <a:ext cx="703908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l es nuestro mejor amigo, y cuando lo adoramos, quiere estar con nosotros para bendecirnos y confortarnos, llenando nuestro corazón de alegría y amor</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ángulo 1"/>
          <p:cNvSpPr/>
          <p:nvPr/>
        </p:nvSpPr>
        <p:spPr>
          <a:xfrm>
            <a:off x="1133640" y="2205000"/>
            <a:ext cx="631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Señor quiere que sus hijos se consuelen en su servicio y hallen más placer que penalidad en el trabaj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ángulo 1"/>
          <p:cNvSpPr/>
          <p:nvPr/>
        </p:nvSpPr>
        <p:spPr>
          <a:xfrm>
            <a:off x="1349280" y="2421000"/>
            <a:ext cx="617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quiere que los que lo adoran saquen pensamientos preciosos de su cuidado y amo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ángulo 1"/>
          <p:cNvSpPr/>
          <p:nvPr/>
        </p:nvSpPr>
        <p:spPr>
          <a:xfrm>
            <a:off x="1494000" y="2637000"/>
            <a:ext cx="610236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para que estén siempre contentos y tengan gracia para conducirse honesta y fielmente en todas las cosas</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ángulo 1"/>
          <p:cNvSpPr/>
          <p:nvPr/>
        </p:nvSpPr>
        <p:spPr>
          <a:xfrm>
            <a:off x="917640" y="2232000"/>
            <a:ext cx="646272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s preciso juntarnos en torno de la cruz. Cristo, y Cristo crucificado, debe ser el tema de nuestra meditación, conversación y más gozosa emoción</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ángulo 1"/>
          <p:cNvSpPr/>
          <p:nvPr/>
        </p:nvSpPr>
        <p:spPr>
          <a:xfrm>
            <a:off x="1422360" y="2498760"/>
            <a:ext cx="5813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bemos tener presentes todas las bendiciones que recibimos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ángulo 1"/>
          <p:cNvSpPr/>
          <p:nvPr/>
        </p:nvSpPr>
        <p:spPr>
          <a:xfrm>
            <a:off x="917640" y="2421000"/>
            <a:ext cx="653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al darnos cuenta de su gran amor, debiéramos estar prontos a confiar todas las cosas a la mano que fue clavada en la cruz por nosotr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ángulo 1"/>
          <p:cNvSpPr/>
          <p:nvPr/>
        </p:nvSpPr>
        <p:spPr>
          <a:xfrm>
            <a:off x="971640" y="2386080"/>
            <a:ext cx="653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alma puede elevarse hasta el cielo en las alas de la alabanza</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ángulo 1"/>
          <p:cNvSpPr/>
          <p:nvPr/>
        </p:nvSpPr>
        <p:spPr>
          <a:xfrm>
            <a:off x="1332000" y="2136600"/>
            <a:ext cx="6030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os es adorado con cánticos y música en las mansiones celestiales, y al  expresarle nuestra gratitud, nos aproximamos al culto de los habitantes del cielo</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ángulo 1"/>
          <p:cNvSpPr/>
          <p:nvPr/>
        </p:nvSpPr>
        <p:spPr>
          <a:xfrm>
            <a:off x="900000" y="2436840"/>
            <a:ext cx="6408720" cy="198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El que ofrece sacrificio de alabanza me glorificará”</a:t>
            </a:r>
            <a:endParaRPr b="0" lang="en-US" sz="44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lmo 50: 23)</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ángulo 1"/>
          <p:cNvSpPr/>
          <p:nvPr/>
        </p:nvSpPr>
        <p:spPr>
          <a:xfrm>
            <a:off x="1206360" y="2421000"/>
            <a:ext cx="6245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sin embargo, hay de nuestra parte mucha cavilación para presentar nuestras necesidades delante de Di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ángulo 1"/>
          <p:cNvSpPr/>
          <p:nvPr/>
        </p:nvSpPr>
        <p:spPr>
          <a:xfrm>
            <a:off x="1349280" y="2349360"/>
            <a:ext cx="6175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esentémonos, pues, con gozo reverente delante de nuestro Creador con </a:t>
            </a:r>
            <a:r>
              <a:rPr b="1" lang="es-ES" sz="4000" spc="-1" strike="noStrike">
                <a:solidFill>
                  <a:srgbClr val="000000"/>
                </a:solidFill>
                <a:latin typeface="Calibri"/>
              </a:rPr>
              <a:t>"acciones de gracias y voz de melodía"</a:t>
            </a:r>
            <a:r>
              <a:rPr b="0" lang="es-ES" sz="3200" spc="-1" strike="noStrike">
                <a:solidFill>
                  <a:srgbClr val="000000"/>
                </a:solidFill>
                <a:latin typeface="Calibri"/>
              </a:rPr>
              <a:t> </a:t>
            </a:r>
            <a:r>
              <a:rPr b="0" lang="es-ES" sz="2800" spc="-1" strike="noStrike">
                <a:solidFill>
                  <a:srgbClr val="000000"/>
                </a:solidFill>
                <a:latin typeface="Calibri"/>
              </a:rPr>
              <a:t>(Isaías 51: 3)</a:t>
            </a:r>
            <a:r>
              <a:rPr b="0" lang="es-ES" sz="3200" spc="-1" strike="noStrike">
                <a:solidFill>
                  <a:srgbClr val="000000"/>
                </a:solidFill>
                <a:latin typeface="Calibri"/>
              </a:rPr>
              <a:t> </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ángulo 1"/>
          <p:cNvSpPr/>
          <p:nvPr/>
        </p:nvSpPr>
        <p:spPr>
          <a:xfrm>
            <a:off x="826920" y="2421000"/>
            <a:ext cx="664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uestro Salvador  se identificó con nuestras necesidades y flaquezas convirtiéndose en un suplicante</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ángulo 2"/>
          <p:cNvSpPr/>
          <p:nvPr/>
        </p:nvSpPr>
        <p:spPr>
          <a:xfrm>
            <a:off x="1062000" y="2349360"/>
            <a:ext cx="6534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ios nos habla por la naturaleza y por la revelación, por su providencia y por la influencia de su Espíritu</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ángulo 1"/>
          <p:cNvSpPr/>
          <p:nvPr/>
        </p:nvSpPr>
        <p:spPr>
          <a:xfrm>
            <a:off x="1692360" y="2421000"/>
            <a:ext cx="567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que imploraba de su Padre nueva provisión de fuerza, para avanzar fortalecido para el deber y la prueba</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ángulo 1"/>
          <p:cNvSpPr/>
          <p:nvPr/>
        </p:nvSpPr>
        <p:spPr>
          <a:xfrm>
            <a:off x="1062000" y="2349360"/>
            <a:ext cx="6750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es nuestro ejemplo en todas las cosas. Es un hermano en nuestras debilidades</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ángulo 1"/>
          <p:cNvSpPr/>
          <p:nvPr/>
        </p:nvSpPr>
        <p:spPr>
          <a:xfrm>
            <a:off x="1258920" y="2276640"/>
            <a:ext cx="6103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tentado en todo así como nosotros", </a:t>
            </a:r>
            <a:r>
              <a:rPr b="0" lang="es-ES" sz="3600" spc="-1" strike="noStrike">
                <a:solidFill>
                  <a:srgbClr val="000000"/>
                </a:solidFill>
                <a:latin typeface="Calibri"/>
              </a:rPr>
              <a:t>pero como ser inmaculado, rehuyó el mal; sufrió las luchas y torturas de alma de un mundo de pecado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ángulo 1"/>
          <p:cNvSpPr/>
          <p:nvPr/>
        </p:nvSpPr>
        <p:spPr>
          <a:xfrm>
            <a:off x="1295280" y="2602080"/>
            <a:ext cx="6156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omo humano, la oración fue para él una necesidad y un privilegio</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ángulo 1"/>
          <p:cNvSpPr/>
          <p:nvPr/>
        </p:nvSpPr>
        <p:spPr>
          <a:xfrm>
            <a:off x="1709640" y="2492280"/>
            <a:ext cx="552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contraba consuelo y gozo en estar en comunión con su Padre</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ángulo 1"/>
          <p:cNvSpPr/>
          <p:nvPr/>
        </p:nvSpPr>
        <p:spPr>
          <a:xfrm>
            <a:off x="1116000" y="2550960"/>
            <a:ext cx="6192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si el Salvador de los hombres, el Hijo de Dios, sintió la necesidad de ora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ángulo 1"/>
          <p:cNvSpPr/>
          <p:nvPr/>
        </p:nvSpPr>
        <p:spPr>
          <a:xfrm>
            <a:off x="468360" y="2349360"/>
            <a:ext cx="7199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ánto más nosotros, débiles mortales, manchados por el pecado, no debemos sentir la necesidad de orar con fervor y constancia!</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ángulo 1"/>
          <p:cNvSpPr/>
          <p:nvPr/>
        </p:nvSpPr>
        <p:spPr>
          <a:xfrm>
            <a:off x="1584360" y="1914480"/>
            <a:ext cx="5724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Qué pueden pensar los ángeles del cielo de los pobres y desvalidos seres humanos, que están sujetos a la tentación?</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ángulo 1"/>
          <p:cNvSpPr/>
          <p:nvPr/>
        </p:nvSpPr>
        <p:spPr>
          <a:xfrm>
            <a:off x="504720" y="2133720"/>
            <a:ext cx="7020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ando el gran Dios lleno de infinito amor se compadece de ellos y está pronto para darles más de lo que pueden pedir o pensar y que, sin embargo, oran tan poco y tienen tan poca fe?</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ángulo 1"/>
          <p:cNvSpPr/>
          <p:nvPr/>
        </p:nvSpPr>
        <p:spPr>
          <a:xfrm>
            <a:off x="1403280" y="2276640"/>
            <a:ext cx="59770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os ángeles se deleitan en postrarse delante de Dios, se deleitan en estar cerca de Él</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ángulo 1"/>
          <p:cNvSpPr/>
          <p:nvPr/>
        </p:nvSpPr>
        <p:spPr>
          <a:xfrm>
            <a:off x="1565280" y="2421000"/>
            <a:ext cx="5886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ero esto no es suficiente, necesitamos abrirle nuestro corazón</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ángulo 1"/>
          <p:cNvSpPr/>
          <p:nvPr/>
        </p:nvSpPr>
        <p:spPr>
          <a:xfrm>
            <a:off x="1258920" y="2205000"/>
            <a:ext cx="6103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s su mayor delicia estar en comunión con Dios; y con todo, los hijos de los hombres, que tanto necesitan la ayuda que Dios solamente puede dar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ángulo 1"/>
          <p:cNvSpPr/>
          <p:nvPr/>
        </p:nvSpPr>
        <p:spPr>
          <a:xfrm>
            <a:off x="1116000" y="2060640"/>
            <a:ext cx="62643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arecen satisfechos andando sin la luz del Espíritu ni la compañía de su presencia</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ángulo 1"/>
          <p:cNvSpPr/>
          <p:nvPr/>
        </p:nvSpPr>
        <p:spPr>
          <a:xfrm>
            <a:off x="1422360" y="2421000"/>
            <a:ext cx="5813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s tinieblas del malo cercan a aquellos que descuidan la oración</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ángulo 1"/>
          <p:cNvSpPr/>
          <p:nvPr/>
        </p:nvSpPr>
        <p:spPr>
          <a:xfrm>
            <a:off x="1187280" y="2205000"/>
            <a:ext cx="615636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Las tentaciones secretas del enemigo los incitan al pecado; y todo porque no se valen del privilegio que Dios les ha concedido de la bendita oraci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ángulo 1"/>
          <p:cNvSpPr/>
          <p:nvPr/>
        </p:nvSpPr>
        <p:spPr>
          <a:xfrm>
            <a:off x="684360" y="2406600"/>
            <a:ext cx="70563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Por qué han de ser los hijos e hijas de Dios tan remisos para orar, cuando la oración es la llave en la mano de la fe para abrir el almacén del cielo, en donde están atesorados los recursos infinitos de la Omnipotencia? </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ángulo 1"/>
          <p:cNvSpPr/>
          <p:nvPr/>
        </p:nvSpPr>
        <p:spPr>
          <a:xfrm>
            <a:off x="917640" y="2560680"/>
            <a:ext cx="653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n oración incesante y vigilancia diligente, corremos el riesgo de volvernos indiferentes y de desviarnos del sendero recto</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ángulo 1"/>
          <p:cNvSpPr/>
          <p:nvPr/>
        </p:nvSpPr>
        <p:spPr>
          <a:xfrm>
            <a:off x="1062000" y="2060640"/>
            <a:ext cx="6462720" cy="32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uestro adversario procura constantemente obstruir el camino al propiciatorio, para que, no obtengamos mediante ardiente súplica y fe, gracia y poder para resistir a la tentación</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ángulo 1"/>
          <p:cNvSpPr/>
          <p:nvPr/>
        </p:nvSpPr>
        <p:spPr>
          <a:xfrm>
            <a:off x="1349280" y="2349360"/>
            <a:ext cx="631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Hay ciertas condiciones según las cuales Podemos esperar que Dios oiga y conteste nuestras oracion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ángulo 1"/>
          <p:cNvSpPr/>
          <p:nvPr/>
        </p:nvSpPr>
        <p:spPr>
          <a:xfrm>
            <a:off x="1763640" y="2386080"/>
            <a:ext cx="5508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Una de las primeras es que sintamos necesidad de su ayuda</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ángulo 1"/>
          <p:cNvSpPr/>
          <p:nvPr/>
        </p:nvSpPr>
        <p:spPr>
          <a:xfrm>
            <a:off x="1440000" y="2263680"/>
            <a:ext cx="6011640" cy="265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nos ha hecho esta promesa: </a:t>
            </a:r>
            <a:r>
              <a:rPr b="1" lang="es-ES" sz="3600" spc="-1" strike="noStrike">
                <a:solidFill>
                  <a:srgbClr val="000000"/>
                </a:solidFill>
                <a:latin typeface="Calibri"/>
              </a:rPr>
              <a:t>“Porque derramaré aguas sobre la tierra sedienta, y corrientes sobre el sequedal”</a:t>
            </a:r>
            <a:r>
              <a:rPr b="0" lang="es-ES" sz="2800" spc="-1" strike="noStrike">
                <a:solidFill>
                  <a:srgbClr val="000000"/>
                </a:solidFill>
                <a:latin typeface="Calibri"/>
              </a:rPr>
              <a:t> </a:t>
            </a:r>
            <a:endParaRPr b="0" lang="en-US" sz="28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saías 44: 3)</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ángulo 1"/>
          <p:cNvSpPr/>
          <p:nvPr/>
        </p:nvSpPr>
        <p:spPr>
          <a:xfrm>
            <a:off x="1042920" y="2492280"/>
            <a:ext cx="68421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ara tener vida y energía espirituales debemos tener verdadero intercambio con nuestro Padre celestia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ángulo 1"/>
          <p:cNvSpPr/>
          <p:nvPr/>
        </p:nvSpPr>
        <p:spPr>
          <a:xfrm>
            <a:off x="990720" y="2492280"/>
            <a:ext cx="653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os que tienen hambre y sed de justicia, los que suspiran por Dios, pueden estar seguros de que serán hart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ángulo 1"/>
          <p:cNvSpPr/>
          <p:nvPr/>
        </p:nvSpPr>
        <p:spPr>
          <a:xfrm>
            <a:off x="990720" y="2492280"/>
            <a:ext cx="6389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corazón debe estar abierto a la influencia del Espíritu; de otra manera no puede recibir las bendiciones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ángulo 2"/>
          <p:cNvSpPr/>
          <p:nvPr/>
        </p:nvSpPr>
        <p:spPr>
          <a:xfrm>
            <a:off x="1494000" y="2170080"/>
            <a:ext cx="588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uestra gran necesidad es en sí misma un argumento y habla elocuentemente en nuestro favo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ángulo 1"/>
          <p:cNvSpPr/>
          <p:nvPr/>
        </p:nvSpPr>
        <p:spPr>
          <a:xfrm>
            <a:off x="900000" y="2421000"/>
            <a:ext cx="6480360" cy="216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ro se necesita buscar al Señor para que haga estas cosas por nosotros. Pues dice:  </a:t>
            </a:r>
            <a:r>
              <a:rPr b="1" lang="es-ES" sz="4000" spc="-1" strike="noStrike">
                <a:solidFill>
                  <a:srgbClr val="000000"/>
                </a:solidFill>
                <a:latin typeface="Calibri"/>
              </a:rPr>
              <a:t>"Pedid, y se os dará"</a:t>
            </a:r>
            <a:r>
              <a:rPr b="0" lang="es-ES" sz="3200" spc="-1" strike="noStrike">
                <a:solidFill>
                  <a:srgbClr val="000000"/>
                </a:solidFill>
                <a:latin typeface="Calibri"/>
              </a:rPr>
              <a:t> </a:t>
            </a:r>
            <a:endParaRPr b="0" lang="en-US" sz="32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ateo 7: 7)</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ángulo 1"/>
          <p:cNvSpPr/>
          <p:nvPr/>
        </p:nvSpPr>
        <p:spPr>
          <a:xfrm>
            <a:off x="1349280" y="2378160"/>
            <a:ext cx="6318360" cy="28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Y</a:t>
            </a:r>
            <a:r>
              <a:rPr b="0" lang="es-ES" sz="2400" spc="-1" strike="noStrike">
                <a:solidFill>
                  <a:srgbClr val="000000"/>
                </a:solidFill>
                <a:latin typeface="Calibri"/>
              </a:rPr>
              <a:t> </a:t>
            </a:r>
            <a:r>
              <a:rPr b="1" lang="es-ES" sz="3200" spc="-1" strike="noStrike">
                <a:solidFill>
                  <a:srgbClr val="000000"/>
                </a:solidFill>
                <a:latin typeface="Calibri"/>
              </a:rPr>
              <a:t>"el que ni aún a su propio Hijo perdonó, sino que le entregó por todos nosotros, ¿cómo no nos ha de dar también de pura gracia, todas las cosas juntamente con él?" </a:t>
            </a:r>
            <a:r>
              <a:rPr b="0" lang="es-ES" sz="2400" spc="-1" strike="noStrike">
                <a:solidFill>
                  <a:srgbClr val="000000"/>
                </a:solidFill>
                <a:latin typeface="Calibri"/>
              </a:rPr>
              <a:t>(Romanos 8: 32)</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ángulo 1"/>
          <p:cNvSpPr/>
          <p:nvPr/>
        </p:nvSpPr>
        <p:spPr>
          <a:xfrm>
            <a:off x="1349280" y="2425680"/>
            <a:ext cx="5886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uestros propios méritos nunca nos recomendarán a la gracia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ángulo 1"/>
          <p:cNvSpPr/>
          <p:nvPr/>
        </p:nvSpPr>
        <p:spPr>
          <a:xfrm>
            <a:off x="990720" y="2205000"/>
            <a:ext cx="646092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s el mérito de Jesús lo que nos salva y su sangre lo que nos limpia; sin embargo, nosotros tenemos una obra que hacer para cumplir las condiciones de la aceptación</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ángulo 1"/>
          <p:cNvSpPr/>
          <p:nvPr/>
        </p:nvSpPr>
        <p:spPr>
          <a:xfrm>
            <a:off x="1042920" y="2378160"/>
            <a:ext cx="6481800" cy="28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oración eficaz tiene otro elemento: la fe </a:t>
            </a:r>
            <a:r>
              <a:rPr b="1" lang="es-ES" sz="3200" spc="-1" strike="noStrike">
                <a:solidFill>
                  <a:srgbClr val="000000"/>
                </a:solidFill>
                <a:latin typeface="Calibri"/>
              </a:rPr>
              <a:t>"Porque es preciso que el que viene a Dios, crea que existe, y que se ha constituido remunerador de los que le buscan"</a:t>
            </a:r>
            <a:r>
              <a:rPr b="0" lang="es-ES" sz="2800" spc="-1" strike="noStrike">
                <a:solidFill>
                  <a:srgbClr val="000000"/>
                </a:solidFill>
                <a:latin typeface="Calibri"/>
              </a:rPr>
              <a:t> </a:t>
            </a:r>
            <a:endParaRPr b="0" lang="en-US" sz="28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Hebreos 11: 6) </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ángulo 1"/>
          <p:cNvSpPr/>
          <p:nvPr/>
        </p:nvSpPr>
        <p:spPr>
          <a:xfrm>
            <a:off x="1116000" y="2171880"/>
            <a:ext cx="631836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Jesús dijo a sus discípulos:  </a:t>
            </a:r>
            <a:r>
              <a:rPr b="1" lang="es-ES" sz="4000" spc="-1" strike="noStrike">
                <a:solidFill>
                  <a:srgbClr val="000000"/>
                </a:solidFill>
                <a:latin typeface="Calibri"/>
              </a:rPr>
              <a:t>"Todo cuanto pidiereis en la oración, creed que lo recibisteis ya; y lo tendréis" </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arcos 11: 24) </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ángulo 1"/>
          <p:cNvSpPr/>
          <p:nvPr/>
        </p:nvSpPr>
        <p:spPr>
          <a:xfrm>
            <a:off x="684360" y="2314440"/>
            <a:ext cx="685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reemos al pie de la letra todo lo que nos dice? La seguridad es amplia e ilimitada, y fiel es el que ha prometid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ángulo 1"/>
          <p:cNvSpPr/>
          <p:nvPr/>
        </p:nvSpPr>
        <p:spPr>
          <a:xfrm>
            <a:off x="1133640" y="2416320"/>
            <a:ext cx="667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uede ser nuestra mente atraída hacia él; podemos meditar en sus obras, sus misericordias, sus bendicion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ángulo 1"/>
          <p:cNvSpPr/>
          <p:nvPr/>
        </p:nvSpPr>
        <p:spPr>
          <a:xfrm>
            <a:off x="1133640" y="2151000"/>
            <a:ext cx="6678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ando no recibimos precisamente las cosas que pedimos y al instante, debemos creer aún que el Señor oye y que contestará nuestras oracione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ángulo 2"/>
          <p:cNvSpPr/>
          <p:nvPr/>
        </p:nvSpPr>
        <p:spPr>
          <a:xfrm>
            <a:off x="971640" y="2276640"/>
            <a:ext cx="6624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omos tan cortos  de vista y propensos a errar, que algunas veces pedimos cosas que no serían una bendición para nosotr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ángulo 1"/>
          <p:cNvSpPr/>
          <p:nvPr/>
        </p:nvSpPr>
        <p:spPr>
          <a:xfrm>
            <a:off x="1224000" y="2492280"/>
            <a:ext cx="6443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nuestro Padre celestial contesta con amor nuestras oraciones dándonos aquello que es para nuestro más alto bien</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ángulo 1"/>
          <p:cNvSpPr/>
          <p:nvPr/>
        </p:nvSpPr>
        <p:spPr>
          <a:xfrm>
            <a:off x="1332000" y="2205000"/>
            <a:ext cx="6192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quello que nosotros mismos desearíamos si, alumbrados de celestial saber, pudiéramos ver todas las cosas como realmente son</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ángulo 1"/>
          <p:cNvSpPr/>
          <p:nvPr/>
        </p:nvSpPr>
        <p:spPr>
          <a:xfrm>
            <a:off x="1619280" y="2349360"/>
            <a:ext cx="5743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uando nos parezca que nuestras oraciones no son contestadas, debemos aferrarnos a la promes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ángulo 1"/>
          <p:cNvSpPr/>
          <p:nvPr/>
        </p:nvSpPr>
        <p:spPr>
          <a:xfrm>
            <a:off x="828720" y="2492280"/>
            <a:ext cx="6838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orque el tiempo de recibir contestación seguramente vendrá y recibiremos las bendiciones que más necesitam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ángulo 1"/>
          <p:cNvSpPr/>
          <p:nvPr/>
        </p:nvSpPr>
        <p:spPr>
          <a:xfrm>
            <a:off x="611280" y="2349360"/>
            <a:ext cx="7273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or supuesto, pretender que nuestras oraciones sean siempre contestadas en la misma forma y según la cosa particular que pidamos, es presunción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ángulo 1"/>
          <p:cNvSpPr/>
          <p:nvPr/>
        </p:nvSpPr>
        <p:spPr>
          <a:xfrm>
            <a:off x="990720" y="2314440"/>
            <a:ext cx="6605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ios es demasiado sabio para equivocarse y demasiado bueno para negar un bien a los que andan en integridad</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ángulo 1"/>
          <p:cNvSpPr/>
          <p:nvPr/>
        </p:nvSpPr>
        <p:spPr>
          <a:xfrm>
            <a:off x="1619280" y="2421000"/>
            <a:ext cx="5815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sí que no temáis confiar en él, aunque no veáis la inmediata respuesta de vuestras oracion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ángulo 1"/>
          <p:cNvSpPr/>
          <p:nvPr/>
        </p:nvSpPr>
        <p:spPr>
          <a:xfrm>
            <a:off x="1008000" y="2641680"/>
            <a:ext cx="6372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onfiad en la seguridad de su promesa</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edid, y se os dará"</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ángulo 1"/>
          <p:cNvSpPr/>
          <p:nvPr/>
        </p:nvSpPr>
        <p:spPr>
          <a:xfrm>
            <a:off x="1206360" y="2565360"/>
            <a:ext cx="6678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ero esto no es, en el sentido pleno de la palabra, estar en comunión con Él</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ángulo 1"/>
          <p:cNvSpPr/>
          <p:nvPr/>
        </p:nvSpPr>
        <p:spPr>
          <a:xfrm>
            <a:off x="900000" y="2349360"/>
            <a:ext cx="6912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i consultamos nuestras dudas y temores, o procuramos resolver cada cosa que no veamos claramente, antes de tener fe, solamente se acrecentarán y profundizarán las perplejidade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ángulo 1"/>
          <p:cNvSpPr/>
          <p:nvPr/>
        </p:nvSpPr>
        <p:spPr>
          <a:xfrm>
            <a:off x="1206360" y="2276640"/>
            <a:ext cx="631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as si venimos a Dios sintiéndonos desamparados y necesitados, como realmente som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ángulo 1"/>
          <p:cNvSpPr/>
          <p:nvPr/>
        </p:nvSpPr>
        <p:spPr>
          <a:xfrm>
            <a:off x="900000" y="2227320"/>
            <a:ext cx="653436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si venimos con humildad y con la verdadera certidumbre de la fe le presentamos nuestras necesidades a Aquel cuyo conocimiento es infinito</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ángulo 1"/>
          <p:cNvSpPr/>
          <p:nvPr/>
        </p:nvSpPr>
        <p:spPr>
          <a:xfrm>
            <a:off x="900000" y="1700280"/>
            <a:ext cx="698508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a quien nada se le oculta y quien gobierna todas las cosas por su voluntad y palabra, él puede y quiere atender nuestro clamor y hacer resplandecer su luz en nuestro coraz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ángulo 1"/>
          <p:cNvSpPr/>
          <p:nvPr/>
        </p:nvSpPr>
        <p:spPr>
          <a:xfrm>
            <a:off x="1422360" y="2565360"/>
            <a:ext cx="588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or la oración sincera nos ponemos en comunicación con la  mente del Infinit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ángulo 1"/>
          <p:cNvSpPr/>
          <p:nvPr/>
        </p:nvSpPr>
        <p:spPr>
          <a:xfrm>
            <a:off x="773280" y="2232000"/>
            <a:ext cx="703872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Quizás no tengamos al instante ninguna prueba notable de que el rostro de nuestro Redentor está inclinado hacia nosotros con compasión y amor, pero es así</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ángulo 1"/>
          <p:cNvSpPr/>
          <p:nvPr/>
        </p:nvSpPr>
        <p:spPr>
          <a:xfrm>
            <a:off x="1258920" y="2276640"/>
            <a:ext cx="6103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 podemos sentir su toque manifiesto, mas su mano nos sustenta con amor y piadosa ternur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ángulo 1"/>
          <p:cNvSpPr/>
          <p:nvPr/>
        </p:nvSpPr>
        <p:spPr>
          <a:xfrm>
            <a:off x="1116000" y="2276640"/>
            <a:ext cx="6318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ando imploramos misericordia y bendición de Dios, debemos tener un espíritu de amor y perdón en nuestro propio corazón</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ángulo 1"/>
          <p:cNvSpPr/>
          <p:nvPr/>
        </p:nvSpPr>
        <p:spPr>
          <a:xfrm>
            <a:off x="773280" y="2276640"/>
            <a:ext cx="689436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ómo podemos orar?  </a:t>
            </a:r>
            <a:r>
              <a:rPr b="1" lang="es-ES" sz="3200" spc="-1" strike="noStrike">
                <a:solidFill>
                  <a:srgbClr val="000000"/>
                </a:solidFill>
                <a:latin typeface="Calibri"/>
              </a:rPr>
              <a:t>"Perdónanos nuestras deudas, como también nosotros perdonamos a nuestros deudores" </a:t>
            </a:r>
            <a:r>
              <a:rPr b="0" lang="es-ES" sz="2400" spc="-1" strike="noStrike">
                <a:solidFill>
                  <a:srgbClr val="000000"/>
                </a:solidFill>
                <a:latin typeface="Calibri"/>
              </a:rPr>
              <a:t>(Mateo 6:12) ¿</a:t>
            </a:r>
            <a:r>
              <a:rPr b="0" lang="es-ES" sz="2400" spc="-1" strike="noStrike">
                <a:solidFill>
                  <a:srgbClr val="000000"/>
                </a:solidFill>
                <a:latin typeface="Antique Olive Roman"/>
              </a:rPr>
              <a:t>y abrigar, sin embargo, un espíritu que no perdona? </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ángulo 1"/>
          <p:cNvSpPr/>
          <p:nvPr/>
        </p:nvSpPr>
        <p:spPr>
          <a:xfrm>
            <a:off x="1133640" y="2565360"/>
            <a:ext cx="63910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Si esperamos que nuestras oraciones sean oídas, debemos perdonar a otros como esperamos ser perdonados nosotro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ángulo 1"/>
          <p:cNvSpPr/>
          <p:nvPr/>
        </p:nvSpPr>
        <p:spPr>
          <a:xfrm>
            <a:off x="1692360" y="2421000"/>
            <a:ext cx="5597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ara ponernos en comunión con Dios, debemos tener algo que decirle tocante a nuestra vida real</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ángulo 1"/>
          <p:cNvSpPr/>
          <p:nvPr/>
        </p:nvSpPr>
        <p:spPr>
          <a:xfrm>
            <a:off x="1206360" y="2354400"/>
            <a:ext cx="6174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perseverancia en la oración ha sido constituida en condición para recibi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ángulo 1"/>
          <p:cNvSpPr/>
          <p:nvPr/>
        </p:nvSpPr>
        <p:spPr>
          <a:xfrm>
            <a:off x="1547640" y="2570040"/>
            <a:ext cx="552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bemos orar siempre si queremos crecer en fe y en experienci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ángulo 1"/>
          <p:cNvSpPr/>
          <p:nvPr/>
        </p:nvSpPr>
        <p:spPr>
          <a:xfrm>
            <a:off x="1368360" y="2349360"/>
            <a:ext cx="5507280" cy="228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Debemos ser </a:t>
            </a:r>
            <a:r>
              <a:rPr b="1" lang="es-ES" sz="4000" spc="-1" strike="noStrike">
                <a:solidFill>
                  <a:srgbClr val="000000"/>
                </a:solidFill>
                <a:latin typeface="Calibri"/>
              </a:rPr>
              <a:t>"perseverantes en la oración"</a:t>
            </a:r>
            <a:r>
              <a:rPr b="0" lang="es-ES" sz="3600" spc="-1" strike="noStrike">
                <a:solidFill>
                  <a:srgbClr val="000000"/>
                </a:solidFill>
                <a:latin typeface="Calibri"/>
              </a:rPr>
              <a:t> </a:t>
            </a:r>
            <a:endParaRPr b="0" lang="en-US" sz="36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omanos 12: 12)</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ángulo 1"/>
          <p:cNvSpPr/>
          <p:nvPr/>
        </p:nvSpPr>
        <p:spPr>
          <a:xfrm>
            <a:off x="1422360" y="2637000"/>
            <a:ext cx="5597640" cy="21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erseverad en la oración, velando en ella, con acciones de gracia" </a:t>
            </a:r>
            <a:endParaRPr b="0" lang="en-US" sz="36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losenses 4: 2)</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ángulo 1"/>
          <p:cNvSpPr/>
          <p:nvPr/>
        </p:nvSpPr>
        <p:spPr>
          <a:xfrm>
            <a:off x="1332000" y="2492280"/>
            <a:ext cx="5832360" cy="21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apóstol Pedro exhorta a los cristianos a que sean </a:t>
            </a:r>
            <a:r>
              <a:rPr b="1" lang="es-ES" sz="3600" spc="-1" strike="noStrike">
                <a:solidFill>
                  <a:srgbClr val="000000"/>
                </a:solidFill>
                <a:latin typeface="Calibri"/>
              </a:rPr>
              <a:t>"sobrios, y vigilantes en las oraciones"</a:t>
            </a:r>
            <a:r>
              <a:rPr b="0" lang="es-ES" sz="3200" spc="-1" strike="noStrike">
                <a:solidFill>
                  <a:srgbClr val="000000"/>
                </a:solidFill>
                <a:latin typeface="Calibri"/>
              </a:rPr>
              <a:t> </a:t>
            </a:r>
            <a:endParaRPr b="0" lang="en-US" sz="32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 Pedro 4: 7)</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ángulo 2"/>
          <p:cNvSpPr/>
          <p:nvPr/>
        </p:nvSpPr>
        <p:spPr>
          <a:xfrm>
            <a:off x="826920" y="2205000"/>
            <a:ext cx="6462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an Pablo ordena:  </a:t>
            </a:r>
            <a:r>
              <a:rPr b="1" lang="es-ES" sz="3200" spc="-1" strike="noStrike">
                <a:solidFill>
                  <a:srgbClr val="000000"/>
                </a:solidFill>
                <a:latin typeface="Calibri"/>
              </a:rPr>
              <a:t>"En todas las circunstancias, por medio de la oración y la plegaria, con acciones de gracias, dense a conocer vuestras peticiones a Dios" </a:t>
            </a:r>
            <a:r>
              <a:rPr b="0" lang="es-ES" sz="2400" spc="-1" strike="noStrike">
                <a:solidFill>
                  <a:srgbClr val="000000"/>
                </a:solidFill>
                <a:latin typeface="Calibri"/>
              </a:rPr>
              <a:t>(Filipenses 4: 6)</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ángulo 1"/>
          <p:cNvSpPr/>
          <p:nvPr/>
        </p:nvSpPr>
        <p:spPr>
          <a:xfrm>
            <a:off x="1116000" y="2349360"/>
            <a:ext cx="622764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ntique Olive Roman"/>
              </a:rPr>
              <a:t>"Vosotros empero, hermanos... - dice Judas - orando en el Espíritu Santo, guardaos en el amor de Dios" </a:t>
            </a:r>
            <a:endParaRPr b="0" lang="en-US" sz="32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ntique Olive Roman"/>
              </a:rPr>
              <a:t>(Judas 20, 21)</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ángulo 1"/>
          <p:cNvSpPr/>
          <p:nvPr/>
        </p:nvSpPr>
        <p:spPr>
          <a:xfrm>
            <a:off x="611280" y="2205000"/>
            <a:ext cx="691344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Orar sin cesar es mantener una unión no interrumpida del alma con Dios, de modo que la vida de Dios  fluya a la nuestra; y de nuestra vida la pureza y la santidad refluyan a Dio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ángulo 1"/>
          <p:cNvSpPr/>
          <p:nvPr/>
        </p:nvSpPr>
        <p:spPr>
          <a:xfrm>
            <a:off x="1258920" y="2565360"/>
            <a:ext cx="5815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 necesario ser diligentes en la oración; ninguna cosa os lo impid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ángulo 1"/>
          <p:cNvSpPr/>
          <p:nvPr/>
        </p:nvSpPr>
        <p:spPr>
          <a:xfrm>
            <a:off x="1258920" y="2421000"/>
            <a:ext cx="5959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Haced cuanto podáis para que haya una comunión continua entre Jesús y vuestra alm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ángulo 1"/>
          <p:cNvSpPr/>
          <p:nvPr/>
        </p:nvSpPr>
        <p:spPr>
          <a:xfrm>
            <a:off x="1565280" y="2413080"/>
            <a:ext cx="5599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rar es el acto de abrir nuestro corazón a Dios como a un amig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ángulo 2"/>
          <p:cNvSpPr/>
          <p:nvPr/>
        </p:nvSpPr>
        <p:spPr>
          <a:xfrm>
            <a:off x="1476360" y="220500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provechad toda oportunidad de ir donde se suela orar</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ángulo 1"/>
          <p:cNvSpPr/>
          <p:nvPr/>
        </p:nvSpPr>
        <p:spPr>
          <a:xfrm>
            <a:off x="593640" y="2276640"/>
            <a:ext cx="685800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Los que están realmente procurando estar en comunión con Dios, asistirán a los cultos de oración, fieles en cumplir su deber, ávidos y ansiosos de cosechar todos los beneficios que puedan alcanzar</a:t>
            </a:r>
            <a:endParaRPr b="0" lang="en-US" sz="3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ángulo 1"/>
          <p:cNvSpPr/>
          <p:nvPr/>
        </p:nvSpPr>
        <p:spPr>
          <a:xfrm>
            <a:off x="1547640" y="2098800"/>
            <a:ext cx="5742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provecharán toda oportunidad de colocarse donde puedan recibir rayos de luz celestia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ángulo 2"/>
          <p:cNvSpPr/>
          <p:nvPr/>
        </p:nvSpPr>
        <p:spPr>
          <a:xfrm>
            <a:off x="1835280" y="2262240"/>
            <a:ext cx="5221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Calibri"/>
              </a:rPr>
              <a:t>Debemos también orar en el círculo de nuestra familia</a:t>
            </a:r>
            <a:endParaRPr b="0" lang="en-US" sz="4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ángulo 1"/>
          <p:cNvSpPr/>
          <p:nvPr/>
        </p:nvSpPr>
        <p:spPr>
          <a:xfrm>
            <a:off x="917640" y="2333520"/>
            <a:ext cx="6391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Calibri"/>
              </a:rPr>
              <a:t>y sobre todo no descuidar la oración privada, porque ésta es la vida del alma</a:t>
            </a:r>
            <a:endParaRPr b="0" lang="en-US" sz="4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ángulo 1"/>
          <p:cNvSpPr/>
          <p:nvPr/>
        </p:nvSpPr>
        <p:spPr>
          <a:xfrm>
            <a:off x="1349280" y="2565360"/>
            <a:ext cx="6031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s imposible que el alma florezca cuando se descuida la oración</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ángulo 1"/>
          <p:cNvSpPr/>
          <p:nvPr/>
        </p:nvSpPr>
        <p:spPr>
          <a:xfrm>
            <a:off x="1476360" y="2492280"/>
            <a:ext cx="5597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sola oración pública o con la familia no es suficiente</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ángulo 1"/>
          <p:cNvSpPr/>
          <p:nvPr/>
        </p:nvSpPr>
        <p:spPr>
          <a:xfrm>
            <a:off x="1278000" y="2565360"/>
            <a:ext cx="6102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n medio de la soledad abrid vuestra alma al ojo penetrante de Dios</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ángulo 1"/>
          <p:cNvSpPr/>
          <p:nvPr/>
        </p:nvSpPr>
        <p:spPr>
          <a:xfrm>
            <a:off x="1042920" y="2492280"/>
            <a:ext cx="624672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oración secreta sólo debe ser oída del que escudriña los corazones: </a:t>
            </a:r>
            <a:r>
              <a:rPr b="1" lang="es-ES" sz="4800" spc="-1" strike="noStrike">
                <a:solidFill>
                  <a:srgbClr val="000000"/>
                </a:solidFill>
                <a:latin typeface="Calibri"/>
              </a:rPr>
              <a:t>Dios</a:t>
            </a:r>
            <a:endParaRPr b="0" lang="en-US" sz="4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ángulo 1"/>
          <p:cNvSpPr/>
          <p:nvPr/>
        </p:nvSpPr>
        <p:spPr>
          <a:xfrm>
            <a:off x="1258920" y="2060640"/>
            <a:ext cx="5599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ingún oído curioso debe recibir el peso de tales peticiones</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ángulo 1"/>
          <p:cNvSpPr/>
          <p:nvPr/>
        </p:nvSpPr>
        <p:spPr>
          <a:xfrm>
            <a:off x="1349280" y="2492280"/>
            <a:ext cx="610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 es que se necesite esto para que Dios sepa lo que somos, sino a fin de capacitarnos para recibirl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ángulo 1"/>
          <p:cNvSpPr/>
          <p:nvPr/>
        </p:nvSpPr>
        <p:spPr>
          <a:xfrm>
            <a:off x="1206360" y="2386080"/>
            <a:ext cx="617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 la oración privada el alma esta libre de las influencias del ambiente, libre de excitación</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ángulo 1"/>
          <p:cNvSpPr/>
          <p:nvPr/>
        </p:nvSpPr>
        <p:spPr>
          <a:xfrm>
            <a:off x="1440000" y="2349360"/>
            <a:ext cx="550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Tranquila pero fervientemente se extenderá la oración hacia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ángulo 1"/>
          <p:cNvSpPr/>
          <p:nvPr/>
        </p:nvSpPr>
        <p:spPr>
          <a:xfrm>
            <a:off x="863640" y="2133720"/>
            <a:ext cx="6588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Dulce y permanente será la influencia que dimana de Aquel que ve en lo secreto, cuyo oído está abierto a la oración que sale de lo profundo del alma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ángulo 1"/>
          <p:cNvSpPr/>
          <p:nvPr/>
        </p:nvSpPr>
        <p:spPr>
          <a:xfrm>
            <a:off x="557280" y="2133720"/>
            <a:ext cx="696744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Por una fe sencilla y tranquila el alma se mantiene en comunión con Dios y recoge los rayos de la luz divina para fortalecerse y sostenerse en la lucha contra Satanás</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ángulo 1"/>
          <p:cNvSpPr/>
          <p:nvPr/>
        </p:nvSpPr>
        <p:spPr>
          <a:xfrm>
            <a:off x="1332000" y="2690640"/>
            <a:ext cx="5813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ios es el castillo de nuestra fortaleza</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ángulo 1"/>
          <p:cNvSpPr/>
          <p:nvPr/>
        </p:nvSpPr>
        <p:spPr>
          <a:xfrm>
            <a:off x="846000" y="2060640"/>
            <a:ext cx="639000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Orad en vuestro gabinete; y al ir a vuestro trabajo cotidiano, levantad a menudo vuestro corazón a Dios. De este modo anduvo Enoc con Dios</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ángulo 1"/>
          <p:cNvSpPr/>
          <p:nvPr/>
        </p:nvSpPr>
        <p:spPr>
          <a:xfrm>
            <a:off x="1116000" y="2425680"/>
            <a:ext cx="6246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as oraciones silenciosas llegan como precioso incienso al trono de la graci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ángulo 1"/>
          <p:cNvSpPr/>
          <p:nvPr/>
        </p:nvSpPr>
        <p:spPr>
          <a:xfrm>
            <a:off x="1133640" y="2550960"/>
            <a:ext cx="588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atanás no puede vencer a aquel cuyo corazón esta así apoyado en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ángulo 1"/>
          <p:cNvSpPr/>
          <p:nvPr/>
        </p:nvSpPr>
        <p:spPr>
          <a:xfrm>
            <a:off x="1187280" y="2205000"/>
            <a:ext cx="624708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No hay tiempo o lugar en que sea impropio orar a Dios</a:t>
            </a:r>
            <a:endParaRPr b="0" lang="en-US" sz="35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No hay nada que pueda impedirnos elevar nuestro corazón en ferviente oraci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ángulo 1"/>
          <p:cNvSpPr/>
          <p:nvPr/>
        </p:nvSpPr>
        <p:spPr>
          <a:xfrm>
            <a:off x="1258920" y="1940040"/>
            <a:ext cx="595944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En medio de las multitudes y del afán de nuestros negocios, podemos ofrecer a Dios nuestras peticiones e implorar la divina direcci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21:05:30Z</dcterms:created>
  <dc:creator>Orlando Rosales</dc:creator>
  <dc:description/>
  <dc:language>en-US</dc:language>
  <cp:lastModifiedBy>Karina de Martin</cp:lastModifiedBy>
  <dcterms:modified xsi:type="dcterms:W3CDTF">2017-03-14T12:40:48Z</dcterms:modified>
  <cp:revision>59</cp:revision>
  <dc:subject/>
  <dc:title>CAPÍTULO 11. ¿Podemos Comunicarnos con Dios? </dc:title>
</cp:coreProperties>
</file>