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  <p:sldId id="351" r:id="rId114"/>
    <p:sldId id="352" r:id="rId115"/>
    <p:sldId id="353" r:id="rId116"/>
    <p:sldId id="354" r:id="rId117"/>
    <p:sldId id="355" r:id="rId118"/>
    <p:sldId id="356" r:id="rId119"/>
    <p:sldId id="357" r:id="rId120"/>
    <p:sldId id="358" r:id="rId121"/>
    <p:sldId id="359" r:id="rId122"/>
    <p:sldId id="360" r:id="rId123"/>
    <p:sldId id="361" r:id="rId124"/>
    <p:sldId id="362" r:id="rId125"/>
    <p:sldId id="363" r:id="rId126"/>
    <p:sldId id="364" r:id="rId127"/>
    <p:sldId id="365" r:id="rId128"/>
    <p:sldId id="366" r:id="rId129"/>
    <p:sldId id="367" r:id="rId130"/>
    <p:sldId id="368" r:id="rId131"/>
    <p:sldId id="369" r:id="rId132"/>
    <p:sldId id="370" r:id="rId133"/>
    <p:sldId id="371" r:id="rId134"/>
    <p:sldId id="372" r:id="rId135"/>
    <p:sldId id="373" r:id="rId136"/>
    <p:sldId id="374" r:id="rId137"/>
    <p:sldId id="375" r:id="rId138"/>
    <p:sldId id="376" r:id="rId139"/>
    <p:sldId id="377" r:id="rId140"/>
    <p:sldId id="378" r:id="rId141"/>
    <p:sldId id="379" r:id="rId142"/>
    <p:sldId id="380" r:id="rId143"/>
    <p:sldId id="381" r:id="rId144"/>
    <p:sldId id="382" r:id="rId145"/>
    <p:sldId id="383" r:id="rId146"/>
    <p:sldId id="384" r:id="rId147"/>
    <p:sldId id="385" r:id="rId148"/>
    <p:sldId id="386" r:id="rId149"/>
    <p:sldId id="387" r:id="rId150"/>
    <p:sldId id="388" r:id="rId151"/>
    <p:sldId id="389" r:id="rId152"/>
    <p:sldId id="390" r:id="rId153"/>
    <p:sldId id="391" r:id="rId154"/>
    <p:sldId id="392" r:id="rId155"/>
    <p:sldId id="393" r:id="rId156"/>
    <p:sldId id="394" r:id="rId157"/>
    <p:sldId id="395" r:id="rId158"/>
    <p:sldId id="396" r:id="rId159"/>
    <p:sldId id="397" r:id="rId160"/>
    <p:sldId id="398" r:id="rId161"/>
    <p:sldId id="399" r:id="rId162"/>
    <p:sldId id="400" r:id="rId163"/>
    <p:sldId id="401" r:id="rId164"/>
    <p:sldId id="402" r:id="rId165"/>
    <p:sldId id="403" r:id="rId166"/>
    <p:sldId id="404" r:id="rId167"/>
    <p:sldId id="405" r:id="rId168"/>
    <p:sldId id="406" r:id="rId169"/>
    <p:sldId id="407" r:id="rId170"/>
    <p:sldId id="408" r:id="rId171"/>
    <p:sldId id="409" r:id="rId172"/>
    <p:sldId id="410" r:id="rId173"/>
    <p:sldId id="411" r:id="rId174"/>
    <p:sldId id="412" r:id="rId175"/>
    <p:sldId id="413" r:id="rId176"/>
    <p:sldId id="414" r:id="rId177"/>
    <p:sldId id="415" r:id="rId178"/>
    <p:sldId id="416" r:id="rId179"/>
    <p:sldId id="417" r:id="rId180"/>
    <p:sldId id="418" r:id="rId181"/>
    <p:sldId id="419" r:id="rId182"/>
    <p:sldId id="420" r:id="rId183"/>
    <p:sldId id="421" r:id="rId184"/>
    <p:sldId id="422" r:id="rId185"/>
    <p:sldId id="423" r:id="rId186"/>
    <p:sldId id="424" r:id="rId187"/>
    <p:sldId id="425" r:id="rId188"/>
    <p:sldId id="426" r:id="rId189"/>
    <p:sldId id="427" r:id="rId190"/>
    <p:sldId id="428" r:id="rId191"/>
    <p:sldId id="429" r:id="rId192"/>
    <p:sldId id="430" r:id="rId193"/>
    <p:sldId id="431" r:id="rId194"/>
    <p:sldId id="432" r:id="rId195"/>
    <p:sldId id="433" r:id="rId196"/>
    <p:sldId id="434" r:id="rId197"/>
    <p:sldId id="435" r:id="rId198"/>
    <p:sldId id="436" r:id="rId199"/>
    <p:sldId id="437" r:id="rId200"/>
    <p:sldId id="438" r:id="rId201"/>
    <p:sldId id="439" r:id="rId202"/>
    <p:sldId id="440" r:id="rId203"/>
    <p:sldId id="441" r:id="rId204"/>
    <p:sldId id="442" r:id="rId205"/>
    <p:sldId id="443" r:id="rId206"/>
    <p:sldId id="444" r:id="rId207"/>
    <p:sldId id="445" r:id="rId208"/>
    <p:sldId id="446" r:id="rId209"/>
    <p:sldId id="447" r:id="rId210"/>
    <p:sldId id="448" r:id="rId211"/>
    <p:sldId id="449" r:id="rId2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slide" Target="slides/slide96.xml"/><Relationship Id="rId115" Type="http://schemas.openxmlformats.org/officeDocument/2006/relationships/slide" Target="slides/slide97.xml"/><Relationship Id="rId116" Type="http://schemas.openxmlformats.org/officeDocument/2006/relationships/slide" Target="slides/slide98.xml"/><Relationship Id="rId117" Type="http://schemas.openxmlformats.org/officeDocument/2006/relationships/slide" Target="slides/slide99.xml"/><Relationship Id="rId118" Type="http://schemas.openxmlformats.org/officeDocument/2006/relationships/slide" Target="slides/slide100.xml"/><Relationship Id="rId119" Type="http://schemas.openxmlformats.org/officeDocument/2006/relationships/slide" Target="slides/slide101.xml"/><Relationship Id="rId120" Type="http://schemas.openxmlformats.org/officeDocument/2006/relationships/slide" Target="slides/slide102.xml"/><Relationship Id="rId121" Type="http://schemas.openxmlformats.org/officeDocument/2006/relationships/slide" Target="slides/slide103.xml"/><Relationship Id="rId122" Type="http://schemas.openxmlformats.org/officeDocument/2006/relationships/slide" Target="slides/slide104.xml"/><Relationship Id="rId123" Type="http://schemas.openxmlformats.org/officeDocument/2006/relationships/slide" Target="slides/slide105.xml"/><Relationship Id="rId124" Type="http://schemas.openxmlformats.org/officeDocument/2006/relationships/slide" Target="slides/slide106.xml"/><Relationship Id="rId125" Type="http://schemas.openxmlformats.org/officeDocument/2006/relationships/slide" Target="slides/slide107.xml"/><Relationship Id="rId126" Type="http://schemas.openxmlformats.org/officeDocument/2006/relationships/slide" Target="slides/slide108.xml"/><Relationship Id="rId127" Type="http://schemas.openxmlformats.org/officeDocument/2006/relationships/slide" Target="slides/slide109.xml"/><Relationship Id="rId128" Type="http://schemas.openxmlformats.org/officeDocument/2006/relationships/slide" Target="slides/slide110.xml"/><Relationship Id="rId129" Type="http://schemas.openxmlformats.org/officeDocument/2006/relationships/slide" Target="slides/slide111.xml"/><Relationship Id="rId130" Type="http://schemas.openxmlformats.org/officeDocument/2006/relationships/slide" Target="slides/slide112.xml"/><Relationship Id="rId131" Type="http://schemas.openxmlformats.org/officeDocument/2006/relationships/slide" Target="slides/slide113.xml"/><Relationship Id="rId132" Type="http://schemas.openxmlformats.org/officeDocument/2006/relationships/slide" Target="slides/slide114.xml"/><Relationship Id="rId133" Type="http://schemas.openxmlformats.org/officeDocument/2006/relationships/slide" Target="slides/slide115.xml"/><Relationship Id="rId134" Type="http://schemas.openxmlformats.org/officeDocument/2006/relationships/slide" Target="slides/slide116.xml"/><Relationship Id="rId135" Type="http://schemas.openxmlformats.org/officeDocument/2006/relationships/slide" Target="slides/slide117.xml"/><Relationship Id="rId136" Type="http://schemas.openxmlformats.org/officeDocument/2006/relationships/slide" Target="slides/slide118.xml"/><Relationship Id="rId137" Type="http://schemas.openxmlformats.org/officeDocument/2006/relationships/slide" Target="slides/slide119.xml"/><Relationship Id="rId138" Type="http://schemas.openxmlformats.org/officeDocument/2006/relationships/slide" Target="slides/slide120.xml"/><Relationship Id="rId139" Type="http://schemas.openxmlformats.org/officeDocument/2006/relationships/slide" Target="slides/slide121.xml"/><Relationship Id="rId140" Type="http://schemas.openxmlformats.org/officeDocument/2006/relationships/slide" Target="slides/slide122.xml"/><Relationship Id="rId141" Type="http://schemas.openxmlformats.org/officeDocument/2006/relationships/slide" Target="slides/slide123.xml"/><Relationship Id="rId142" Type="http://schemas.openxmlformats.org/officeDocument/2006/relationships/slide" Target="slides/slide124.xml"/><Relationship Id="rId143" Type="http://schemas.openxmlformats.org/officeDocument/2006/relationships/slide" Target="slides/slide125.xml"/><Relationship Id="rId144" Type="http://schemas.openxmlformats.org/officeDocument/2006/relationships/slide" Target="slides/slide126.xml"/><Relationship Id="rId145" Type="http://schemas.openxmlformats.org/officeDocument/2006/relationships/slide" Target="slides/slide127.xml"/><Relationship Id="rId146" Type="http://schemas.openxmlformats.org/officeDocument/2006/relationships/slide" Target="slides/slide128.xml"/><Relationship Id="rId147" Type="http://schemas.openxmlformats.org/officeDocument/2006/relationships/slide" Target="slides/slide129.xml"/><Relationship Id="rId148" Type="http://schemas.openxmlformats.org/officeDocument/2006/relationships/slide" Target="slides/slide130.xml"/><Relationship Id="rId149" Type="http://schemas.openxmlformats.org/officeDocument/2006/relationships/slide" Target="slides/slide131.xml"/><Relationship Id="rId150" Type="http://schemas.openxmlformats.org/officeDocument/2006/relationships/slide" Target="slides/slide132.xml"/><Relationship Id="rId151" Type="http://schemas.openxmlformats.org/officeDocument/2006/relationships/slide" Target="slides/slide133.xml"/><Relationship Id="rId152" Type="http://schemas.openxmlformats.org/officeDocument/2006/relationships/slide" Target="slides/slide134.xml"/><Relationship Id="rId153" Type="http://schemas.openxmlformats.org/officeDocument/2006/relationships/slide" Target="slides/slide135.xml"/><Relationship Id="rId154" Type="http://schemas.openxmlformats.org/officeDocument/2006/relationships/slide" Target="slides/slide136.xml"/><Relationship Id="rId155" Type="http://schemas.openxmlformats.org/officeDocument/2006/relationships/slide" Target="slides/slide137.xml"/><Relationship Id="rId156" Type="http://schemas.openxmlformats.org/officeDocument/2006/relationships/slide" Target="slides/slide138.xml"/><Relationship Id="rId157" Type="http://schemas.openxmlformats.org/officeDocument/2006/relationships/slide" Target="slides/slide139.xml"/><Relationship Id="rId158" Type="http://schemas.openxmlformats.org/officeDocument/2006/relationships/slide" Target="slides/slide140.xml"/><Relationship Id="rId159" Type="http://schemas.openxmlformats.org/officeDocument/2006/relationships/slide" Target="slides/slide141.xml"/><Relationship Id="rId160" Type="http://schemas.openxmlformats.org/officeDocument/2006/relationships/slide" Target="slides/slide142.xml"/><Relationship Id="rId161" Type="http://schemas.openxmlformats.org/officeDocument/2006/relationships/slide" Target="slides/slide143.xml"/><Relationship Id="rId162" Type="http://schemas.openxmlformats.org/officeDocument/2006/relationships/slide" Target="slides/slide144.xml"/><Relationship Id="rId163" Type="http://schemas.openxmlformats.org/officeDocument/2006/relationships/slide" Target="slides/slide145.xml"/><Relationship Id="rId164" Type="http://schemas.openxmlformats.org/officeDocument/2006/relationships/slide" Target="slides/slide146.xml"/><Relationship Id="rId165" Type="http://schemas.openxmlformats.org/officeDocument/2006/relationships/slide" Target="slides/slide147.xml"/><Relationship Id="rId166" Type="http://schemas.openxmlformats.org/officeDocument/2006/relationships/slide" Target="slides/slide148.xml"/><Relationship Id="rId167" Type="http://schemas.openxmlformats.org/officeDocument/2006/relationships/slide" Target="slides/slide149.xml"/><Relationship Id="rId168" Type="http://schemas.openxmlformats.org/officeDocument/2006/relationships/slide" Target="slides/slide150.xml"/><Relationship Id="rId169" Type="http://schemas.openxmlformats.org/officeDocument/2006/relationships/slide" Target="slides/slide151.xml"/><Relationship Id="rId170" Type="http://schemas.openxmlformats.org/officeDocument/2006/relationships/slide" Target="slides/slide152.xml"/><Relationship Id="rId171" Type="http://schemas.openxmlformats.org/officeDocument/2006/relationships/slide" Target="slides/slide153.xml"/><Relationship Id="rId172" Type="http://schemas.openxmlformats.org/officeDocument/2006/relationships/slide" Target="slides/slide154.xml"/><Relationship Id="rId173" Type="http://schemas.openxmlformats.org/officeDocument/2006/relationships/slide" Target="slides/slide155.xml"/><Relationship Id="rId174" Type="http://schemas.openxmlformats.org/officeDocument/2006/relationships/slide" Target="slides/slide156.xml"/><Relationship Id="rId175" Type="http://schemas.openxmlformats.org/officeDocument/2006/relationships/slide" Target="slides/slide157.xml"/><Relationship Id="rId176" Type="http://schemas.openxmlformats.org/officeDocument/2006/relationships/slide" Target="slides/slide158.xml"/><Relationship Id="rId177" Type="http://schemas.openxmlformats.org/officeDocument/2006/relationships/slide" Target="slides/slide159.xml"/><Relationship Id="rId178" Type="http://schemas.openxmlformats.org/officeDocument/2006/relationships/slide" Target="slides/slide160.xml"/><Relationship Id="rId179" Type="http://schemas.openxmlformats.org/officeDocument/2006/relationships/slide" Target="slides/slide161.xml"/><Relationship Id="rId180" Type="http://schemas.openxmlformats.org/officeDocument/2006/relationships/slide" Target="slides/slide162.xml"/><Relationship Id="rId181" Type="http://schemas.openxmlformats.org/officeDocument/2006/relationships/slide" Target="slides/slide163.xml"/><Relationship Id="rId182" Type="http://schemas.openxmlformats.org/officeDocument/2006/relationships/slide" Target="slides/slide164.xml"/><Relationship Id="rId183" Type="http://schemas.openxmlformats.org/officeDocument/2006/relationships/slide" Target="slides/slide165.xml"/><Relationship Id="rId184" Type="http://schemas.openxmlformats.org/officeDocument/2006/relationships/slide" Target="slides/slide166.xml"/><Relationship Id="rId185" Type="http://schemas.openxmlformats.org/officeDocument/2006/relationships/slide" Target="slides/slide167.xml"/><Relationship Id="rId186" Type="http://schemas.openxmlformats.org/officeDocument/2006/relationships/slide" Target="slides/slide168.xml"/><Relationship Id="rId187" Type="http://schemas.openxmlformats.org/officeDocument/2006/relationships/slide" Target="slides/slide169.xml"/><Relationship Id="rId188" Type="http://schemas.openxmlformats.org/officeDocument/2006/relationships/slide" Target="slides/slide170.xml"/><Relationship Id="rId189" Type="http://schemas.openxmlformats.org/officeDocument/2006/relationships/slide" Target="slides/slide171.xml"/><Relationship Id="rId190" Type="http://schemas.openxmlformats.org/officeDocument/2006/relationships/slide" Target="slides/slide172.xml"/><Relationship Id="rId191" Type="http://schemas.openxmlformats.org/officeDocument/2006/relationships/slide" Target="slides/slide173.xml"/><Relationship Id="rId192" Type="http://schemas.openxmlformats.org/officeDocument/2006/relationships/slide" Target="slides/slide174.xml"/><Relationship Id="rId193" Type="http://schemas.openxmlformats.org/officeDocument/2006/relationships/slide" Target="slides/slide175.xml"/><Relationship Id="rId194" Type="http://schemas.openxmlformats.org/officeDocument/2006/relationships/slide" Target="slides/slide176.xml"/><Relationship Id="rId195" Type="http://schemas.openxmlformats.org/officeDocument/2006/relationships/slide" Target="slides/slide177.xml"/><Relationship Id="rId196" Type="http://schemas.openxmlformats.org/officeDocument/2006/relationships/slide" Target="slides/slide178.xml"/><Relationship Id="rId197" Type="http://schemas.openxmlformats.org/officeDocument/2006/relationships/slide" Target="slides/slide179.xml"/><Relationship Id="rId198" Type="http://schemas.openxmlformats.org/officeDocument/2006/relationships/slide" Target="slides/slide180.xml"/><Relationship Id="rId199" Type="http://schemas.openxmlformats.org/officeDocument/2006/relationships/slide" Target="slides/slide181.xml"/><Relationship Id="rId200" Type="http://schemas.openxmlformats.org/officeDocument/2006/relationships/slide" Target="slides/slide182.xml"/><Relationship Id="rId201" Type="http://schemas.openxmlformats.org/officeDocument/2006/relationships/slide" Target="slides/slide183.xml"/><Relationship Id="rId202" Type="http://schemas.openxmlformats.org/officeDocument/2006/relationships/slide" Target="slides/slide184.xml"/><Relationship Id="rId203" Type="http://schemas.openxmlformats.org/officeDocument/2006/relationships/slide" Target="slides/slide185.xml"/><Relationship Id="rId204" Type="http://schemas.openxmlformats.org/officeDocument/2006/relationships/slide" Target="slides/slide186.xml"/><Relationship Id="rId205" Type="http://schemas.openxmlformats.org/officeDocument/2006/relationships/slide" Target="slides/slide187.xml"/><Relationship Id="rId206" Type="http://schemas.openxmlformats.org/officeDocument/2006/relationships/slide" Target="slides/slide188.xml"/><Relationship Id="rId207" Type="http://schemas.openxmlformats.org/officeDocument/2006/relationships/slide" Target="slides/slide189.xml"/><Relationship Id="rId208" Type="http://schemas.openxmlformats.org/officeDocument/2006/relationships/slide" Target="slides/slide190.xml"/><Relationship Id="rId209" Type="http://schemas.openxmlformats.org/officeDocument/2006/relationships/slide" Target="slides/slide191.xml"/><Relationship Id="rId210" Type="http://schemas.openxmlformats.org/officeDocument/2006/relationships/slide" Target="slides/slide192.xml"/><Relationship Id="rId211" Type="http://schemas.openxmlformats.org/officeDocument/2006/relationships/slide" Target="slides/slide193.xml"/><Relationship Id="rId212" Type="http://schemas.openxmlformats.org/officeDocument/2006/relationships/slide" Target="slides/slide194.xml"/><Relationship Id="rId2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F0C5-4C5D-4D83-8D9A-3EB66030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CCA-CA66-4AF5-9BBE-96B47877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C1ECD-E4E9-47ED-B9B4-634C9424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6B8A7-C266-4BE5-8222-D75D5EA0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56FE8-1E7B-48C7-A852-96113E9B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53071-E52B-4CCC-A2B0-BE8BC569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60F08-E5F7-4452-B570-43F1D40C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2D497-D1DA-4DC9-97EB-C74C8736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5C42C-7575-4392-97EB-9B0C8ADA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4B442-75A5-4B83-8748-ECAE1396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853EC-2D09-4C40-9F99-82118552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7C58D-30B6-4193-B443-07447A05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3AC-D05E-44BC-AD4F-C1C509F9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78780-F746-47F3-9E97-E193F6A1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8108C-B245-4111-A78A-F17246C6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B59D0-6D2B-4A76-B699-7A4089D0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0AECF-6DA9-4E7C-8F24-4D99424E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1DC02-DFB9-4181-96ED-AF166CFB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D4E21-B567-43D3-B587-15F5F1F8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C3680-7389-490B-A855-8159B2FB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8536C-7212-4CAE-AEFE-A82B33E8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005B9-C0CB-4BE7-ACEC-67CDD8F1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081E4-B6AE-483E-86FA-58887398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3E9-8A75-424B-9E0E-FD214309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C4725-E84C-406D-BA45-5A40FB83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0AE23-6260-4253-A735-D487D925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C8D58-A6FC-4C69-948E-9508EEA8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FEFB0-636E-4CE1-8E40-86CE9290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9E3CC-8856-4A58-8EBA-B07D3AF3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A2FE0-A20D-4090-ADBD-8DEC4C77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44A3D-3CC4-41F5-8D3E-BBC64B46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CD3CC-8E24-4E0F-89CA-34EE9B10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A16A4-4588-4A41-B4BA-42EFDD0E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5680C-ADDE-4431-BE35-1DA1A93F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6885-68F2-4958-B40A-BD2F68A3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E71ED-D61E-4540-801D-A330F973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03893-59DC-450E-BC48-0E6D0F47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26424-867E-400F-8662-B14BEAFB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3DFE9-AD0A-4576-8B9B-3DBD086D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D0CA0-C1D9-4808-974F-0BD5A969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84C58-FC24-4D11-B91B-67409474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3CDD4-2333-41A6-9490-66C8579B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39DB3-DE07-40A2-8E86-B6055443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C6BF0-7DA5-41C5-8F89-78D24041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25E74-DB9C-452B-A54D-E27C7A85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CDA4-3489-47E3-9659-A2232545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D59E2-9F70-4CDB-B6CC-4AC45B77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1591A-CDEA-41F4-B909-F844C650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B7FED-DBC3-4FF8-8E1F-B0AFFA5A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1C8E0-54FC-4DD4-AED6-09D03B8B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34645-8561-49DC-A3E9-DE557AF5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5ADED-DE3A-49A9-B90F-F2E0CFBA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17D19-7F0F-4DDD-82AF-6ED20E28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6AB80-1C85-43B8-B1FE-47951483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0AC41-F2A0-4204-B07A-5F956E8C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D1296-6310-4D55-BC74-17AA80F7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FE3B-F13E-4676-B19F-4BB8211C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13B91-10DA-4B5A-9B88-5A78170E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C764D-CF46-4088-9694-F8AF512A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4F1F6-D8BB-4089-859F-1C3C6641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82F6F-48E0-4FAA-9A60-2887315E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39AB67-9543-45F5-911E-50BA6286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21F95-3EDC-43F6-9709-556DD0A8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F4803-9FDC-4AEF-8B45-C8B40BAD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04F7D-4085-40E0-BBAE-97CABF72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69D7D-D5FB-487C-9FBB-EC229202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FA312C-CA10-45AF-AC19-D4EC43C6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F6FF-1AF9-42A8-92D1-92985399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3C7638-91BE-4691-B2E8-E94C91A3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95E81C-A7CB-4FB4-8708-66665C15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5FC92B-3C58-4609-AB0E-C1997AF6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8BEF2-D8C7-4BEC-AFE3-C5633E51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27EEC-5806-40E3-BF85-8E14A6DF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E175DF-2E72-4D97-BDE6-3180EFEF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3F0D7-E77A-43CA-9DA4-CB79E948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932E8-4B86-44D0-8402-3EE2BFB5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BFFE3-4EDE-443D-A6D4-81CF0EE7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9824D9-770D-42C5-8BD5-247A3807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2B58-A587-4559-80C9-32E35A1F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36F33-ED4D-4050-A15C-D3A944CF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FD0742-D247-43FD-A15E-334C0315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610F8-5B2F-4573-9033-AECCB9C9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2A7BE4-FFAE-4BED-91D9-FC3F0BF4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50564-FE14-48CB-8A30-41EA207B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8C1E43-8F0B-49E2-BF85-91C5847E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661FF-F2FD-4DF6-80FC-239020EC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30263-B677-4D1F-9CF5-4DCD3BB0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75D2F-2856-4527-A587-140E60E8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3F4EE1-4849-4EEE-B754-64ADFD49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7107-D8F4-47F3-8D5A-340507B8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3DD631-6EC4-4023-A3AA-11F438C6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7EB50-D006-46E5-881D-586388D2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13F64C-0DE2-4E80-9073-457EBA01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A2CF49-848B-408D-9D60-C969BEE7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DB7A6B-E554-45B6-9694-4A696D98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C42346-7039-46F1-A142-92C2A211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722FE2-8DCD-44D6-BAB2-2F3C3868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F19321-4875-4AAA-8CBF-46FA76D5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6210EE-3477-4395-BAA7-99145F86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78BFC3-A3D5-498C-9FC8-C7C6704F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75AB-FE5A-409E-949D-842D1C76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CD35A1-C632-4FA2-9372-739C04B3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62AC4-5EC7-4174-98DA-5D8AFA76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E10E5D-F9B4-4715-9BE3-12BDD451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5B830-E5E2-4543-9F8D-9DAEC6A0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71510F-D035-44BE-84E9-2F1AE979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519FD1-6614-4A88-B9D6-E02ADD01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C02F7D-0FBC-4913-9B70-7DBD9B6E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3DC486-BDC1-4742-86EE-363E2478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38F7B6-5001-495D-AA3F-0FB4F463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299D62-6CB2-4CCD-8964-08DA96A5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142-2DE8-4286-A299-B465DC3F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C05A-992C-42BB-8860-EA826B44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D59E12-70CF-4F3B-8893-3FEFBBC9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9FF5DD-3E77-4FB9-9FCC-6CFEA8C8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4D34C7-005C-4D5B-8F47-E6F3ECCF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BD814B-E2D2-4A02-BB00-8A3C1C86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6DBFE8-6A61-46E1-A26F-18A0689B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C994-3AAA-4DC4-B119-6E5A56A9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7861-9F9F-47E7-B091-9D3C7061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DAD0-4C30-4104-837A-DE5C8DAC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5826-D982-44AA-BFDB-7570A7B1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0BC7E-2237-4C7F-ABEB-1222F437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9FE43-F822-4E90-9395-39E394E4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D441B-9565-4DB9-93D8-2CDDEF2B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7FBD-023B-4851-8AB6-91B1E5C2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F4C3E-FCA5-4908-B939-EFE8CE7A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E60-3FE4-4DA7-9ED9-1F89A28F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50E85-F099-48A3-BAAF-007E9113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63E01-4D23-4C20-A8E7-1B5E7174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5F2AD-539F-4AB7-A6F9-5D74017B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2BD32-AE10-4B33-8F0F-1BD91BC5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BD858-A3C7-4FD4-A53B-E4697F8A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5D54A-FDDB-4717-97A3-E05E69E2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13EC7-4756-4E5D-9F11-B8EFD25F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DD692-E160-4DE5-A229-735918AE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396C4-EC66-4580-8717-8CB16EE7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53499-B368-4CA9-A4D8-7AFD4EEE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925-ACA2-4DE2-9CC6-5322F6AF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F8E15-9F2F-4462-A859-2CE8FC6B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93D18-53DE-4692-B1F9-1C5CBCEA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9683D-E24F-4FFE-B95F-392375D7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FCDC0-AA11-493B-A9DD-9DC16126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E41B0-A8DA-4EE0-A6EB-06DC8A72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4BB8F-46E5-4D01-AB32-82E715D2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61626-4A75-4B0A-A5D3-ADA55BB0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D8B93-A667-495B-892D-9C2D47F5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C425C-818E-4AC3-87EB-4ED89753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49714-E7E5-415A-9C81-EFA306AD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5ED-99C8-4A89-B160-E4A66212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907D9-190F-4818-8803-299BEA13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44EE1-C273-43A2-B5DC-CD7D7D39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1977E-EA93-4598-BDC1-5999F77D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7A6BD-5615-45EA-8FA4-3653178C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20F5A-6C7F-498B-83DD-AB4A2887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A583F-309A-4385-A39B-7934911F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41E8B-28CE-41A5-BE8E-D3A1B04D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449D9-794B-412F-95A1-B4DBB53D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024C7-E497-4F71-BFD5-5ED1C1D4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94002-23CC-410B-AEB1-1DFE0552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054-7296-410B-B51E-27E0647E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1BD0C-57CC-486E-8411-F0133428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7A7DD-33C2-4A1A-9F45-00BA68DD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DEB7C-2AD9-4462-A0C5-8F468A82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B05E7-58DE-4DCF-9715-33B96748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29308-35A9-4E14-9494-3CE416BC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9BE3C-B13B-40E8-B30D-04F3C041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035D6-4407-45CB-9737-261D18B8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2950C-28D2-4612-B4F7-4EDA76DA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0633B-E5A5-4359-93DC-1C68C739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F91D2-485E-44BD-B415-F7DA6572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3CC1-F757-4509-87B3-CD14A25A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02766-D12D-4387-9E0D-F3B4F00A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DF9A8-052A-4A67-A2FC-DDE5C5F7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D37B9-D75D-497C-9720-8F9D6B90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7C6C0-66FF-4813-9976-841F724B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40A27-ECD9-4468-B220-188E157E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2AA9D-719E-4915-A625-6ABEE77C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34975-CF9F-4A96-B4AD-06F5F7F2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C5B06-BB00-4E1A-AE96-23A17506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E8F47-4036-427A-80FD-6969FFB0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B403B-02C3-4DD1-9604-20D0DA82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83F-F649-4923-94E5-AF1664CC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414BA-27D6-4262-8A39-B1D25480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26A8E-2290-4FAD-8079-293C6B2E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45C31-3666-4037-B00D-8620BAD7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6960D-AAB0-4EA6-831D-AA5D36C9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FB996-81DB-4C8A-BC13-D4638D96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B52C4-E1CF-4B1C-877B-6333A59D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B4F88-1040-4F15-8796-8C8CD55A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FAA1E-2FF1-4D32-A299-90024850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E0E53-E732-4FDA-980A-C1CA765D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F00D6-A34C-4AA7-A7BA-B9FB7E8D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670-48F5-44A3-BFD8-1D45E30C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5B841-1C69-416F-9085-F2E79D39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1CA9C-206C-43D5-8045-EEA4EFFC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25B68-4549-42F4-A294-5B90B310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65D8A-560F-457F-9180-7A3FC8CA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61D2A-335E-457F-9588-D55B655A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29768-C061-430E-85C4-B83DFB13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598B9-900A-48E8-B4AE-34FCE4CE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DFD00-85A7-48CB-802C-D5C131C3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02938-DE55-4FE1-A17E-8E9328A3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C49B9-0E02-4A63-AC6E-9775C894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469C-004D-4DB4-8FE1-C914460C6BE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C785-B350-4CFB-A159-B3B2BD41457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6424-AF61-4D99-A551-8EC70C4F073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0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0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E13A-FD35-437E-88D2-9335CFD4EBFF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51C8-0679-4CF6-81D1-6B105277F03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0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0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4BA3-EA47-4718-9ABB-509253DFE9A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E5D2-9EBA-44FD-B471-1833DE51B4E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287A-F6C6-4475-B7F0-53958019B49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AB90-1835-472D-AD78-1419BBDA562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9922-09B3-4383-B52B-DB1735BD8764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9003-D297-4CC7-A95D-D270F09AAA3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1810-B292-470A-80F0-6B24A390302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ECED-5A05-4EFA-AF4F-84EDB6D001F4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0527-7CBB-468F-B720-21655910F06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3D9B-AAA9-4C20-8068-7F4DE26CC403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3B35-9AD9-4345-B111-F878B00AC2B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2114-161D-4029-9659-E4CB983C4BE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upo 10"/>
          <p:cNvGrpSpPr/>
          <p:nvPr/>
        </p:nvGrpSpPr>
        <p:grpSpPr>
          <a:xfrm>
            <a:off x="1258920" y="1752480"/>
            <a:ext cx="6678720" cy="3872520"/>
            <a:chOff x="1258920" y="1752480"/>
            <a:chExt cx="6678720" cy="3872520"/>
          </a:xfrm>
        </p:grpSpPr>
        <p:sp>
          <p:nvSpPr>
            <p:cNvPr id="1177" name="Rectángulo 1"/>
            <p:cNvSpPr/>
            <p:nvPr/>
          </p:nvSpPr>
          <p:spPr>
            <a:xfrm>
              <a:off x="1258920" y="1752480"/>
              <a:ext cx="6678720" cy="38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0" spc="-1" strike="noStrike">
                  <a:solidFill>
                    <a:srgbClr val="000000"/>
                  </a:solidFill>
                  <a:latin typeface="Century Gothic"/>
                </a:rPr>
                <a:t>La </a:t>
              </a:r>
              <a:r>
                <a:rPr b="0" lang="es-ES" sz="8000" spc="-1" strike="noStrike">
                  <a:solidFill>
                    <a:srgbClr val="000000"/>
                  </a:solidFill>
                  <a:latin typeface="Century Gothic"/>
                </a:rPr>
                <a:t>Fuente</a:t>
              </a:r>
              <a:r>
                <a:rPr b="0" lang="es-ES" sz="6000" spc="-1" strike="noStrike">
                  <a:solidFill>
                    <a:srgbClr val="000000"/>
                  </a:solidFill>
                  <a:latin typeface="Century Gothic"/>
                </a:rPr>
                <a:t> De </a:t>
              </a:r>
              <a:r>
                <a:rPr b="0" lang="es-ES" sz="8000" spc="-1" strike="noStrike">
                  <a:solidFill>
                    <a:srgbClr val="000000"/>
                  </a:solidFill>
                  <a:latin typeface="Century Gothic"/>
                </a:rPr>
                <a:t>Regocijo</a:t>
              </a:r>
              <a:r>
                <a:rPr b="0" lang="es-ES" sz="6000" spc="-1" strike="noStrike">
                  <a:solidFill>
                    <a:srgbClr val="000000"/>
                  </a:solidFill>
                  <a:latin typeface="Century Gothic"/>
                </a:rPr>
                <a:t> Y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800" spc="-1" strike="noStrike">
                  <a:solidFill>
                    <a:srgbClr val="000000"/>
                  </a:solidFill>
                  <a:latin typeface="Baskerville Old Face"/>
                </a:rPr>
                <a:t>FELICIDAD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Conector recto 5"/>
            <p:cNvSpPr/>
            <p:nvPr/>
          </p:nvSpPr>
          <p:spPr>
            <a:xfrm>
              <a:off x="1690920" y="4365000"/>
              <a:ext cx="2664360" cy="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Conector recto 9"/>
            <p:cNvSpPr/>
            <p:nvPr/>
          </p:nvSpPr>
          <p:spPr>
            <a:xfrm>
              <a:off x="4715280" y="4365000"/>
              <a:ext cx="2664360" cy="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Elipse 8"/>
            <p:cNvSpPr/>
            <p:nvPr/>
          </p:nvSpPr>
          <p:spPr>
            <a:xfrm>
              <a:off x="4499280" y="4293000"/>
              <a:ext cx="72000" cy="70560"/>
            </a:xfrm>
            <a:prstGeom prst="ellipse">
              <a:avLst/>
            </a:prstGeom>
            <a:solidFill>
              <a:srgbClr val="000000"/>
            </a:solidFill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ángulo 1"/>
          <p:cNvSpPr/>
          <p:nvPr/>
        </p:nvSpPr>
        <p:spPr>
          <a:xfrm>
            <a:off x="1116000" y="2090880"/>
            <a:ext cx="67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as si eres un verdadero representante de Jesús, puede ser que por ti sean inducidos a conocer algo de su bondad y sean ganados para amarlo y servir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ángulo 1"/>
          <p:cNvSpPr/>
          <p:nvPr/>
        </p:nvSpPr>
        <p:spPr>
          <a:xfrm>
            <a:off x="1692360" y="1739880"/>
            <a:ext cx="59576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risto no vino para ser servido sino para servir;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y cuando su amor reine en nuestro corazón, seguiremos su 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ángulo 1"/>
          <p:cNvSpPr/>
          <p:nvPr/>
        </p:nvSpPr>
        <p:spPr>
          <a:xfrm>
            <a:off x="1763640" y="2133720"/>
            <a:ext cx="5742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tenemos siempre presentes las acciones egoístas e injustas de otros,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ncontraremos que es imposible amarlos como Cristo nos ha am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ángulo 1"/>
          <p:cNvSpPr/>
          <p:nvPr/>
        </p:nvSpPr>
        <p:spPr>
          <a:xfrm>
            <a:off x="1116000" y="1873080"/>
            <a:ext cx="69850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Pero si nuestros pensamientos se espacian continuamente en el maravilloso amor y piedad de Cristo por nosotros, manifestaremos el mismo espíritu para con los demá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ángulo 1"/>
          <p:cNvSpPr/>
          <p:nvPr/>
        </p:nvSpPr>
        <p:spPr>
          <a:xfrm>
            <a:off x="1476360" y="2179800"/>
            <a:ext cx="64087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Debemos amarnos y respetarnos mutuamente, no obstante las faltas e imperfecciones que no podemos menos que observ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ángulo 1"/>
          <p:cNvSpPr/>
          <p:nvPr/>
        </p:nvSpPr>
        <p:spPr>
          <a:xfrm>
            <a:off x="1494000" y="2179800"/>
            <a:ext cx="61736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Debemos cultivar la humildad y la desconfianza en nosotros mismos y una paciencia llena de ternura para con las faltas aje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ángulo 1"/>
          <p:cNvSpPr/>
          <p:nvPr/>
        </p:nvSpPr>
        <p:spPr>
          <a:xfrm>
            <a:off x="1476360" y="2421000"/>
            <a:ext cx="610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to destruye toda clase de egoísmo y nos hace de corazón grande y gener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ángulo 1"/>
          <p:cNvSpPr/>
          <p:nvPr/>
        </p:nvSpPr>
        <p:spPr>
          <a:xfrm>
            <a:off x="1728720" y="1914480"/>
            <a:ext cx="5796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salmista dice: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Confía en Jehová y obra el bien; habita tranquilo en la tierra, y apaciéntate de la verdad"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Salmo 37: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ángulo 1"/>
          <p:cNvSpPr/>
          <p:nvPr/>
        </p:nvSpPr>
        <p:spPr>
          <a:xfrm>
            <a:off x="1547640" y="2333520"/>
            <a:ext cx="5886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Confía en Jehová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Cada día trae sus aflicciones, sus cuidados y perplej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ángulo 1"/>
          <p:cNvSpPr/>
          <p:nvPr/>
        </p:nvSpPr>
        <p:spPr>
          <a:xfrm>
            <a:off x="1422360" y="2158920"/>
            <a:ext cx="62452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y cuando los encontramos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¡cuán prontos estamos para hablar de ell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ángulo 1"/>
          <p:cNvSpPr/>
          <p:nvPr/>
        </p:nvSpPr>
        <p:spPr>
          <a:xfrm>
            <a:off x="1332000" y="2038320"/>
            <a:ext cx="655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antas penas imaginarias intervienen, tantos temores se abrigan, tal peso de ansiedades se manifiesta que cualquiera podría suponer que no tenemos un Salvador poderoso y misericordi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ángulo 1"/>
          <p:cNvSpPr/>
          <p:nvPr/>
        </p:nvSpPr>
        <p:spPr>
          <a:xfrm>
            <a:off x="1763640" y="2133720"/>
            <a:ext cx="567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os cristianos son como porta luces en el camino al ci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ángulo 1"/>
          <p:cNvSpPr/>
          <p:nvPr/>
        </p:nvSpPr>
        <p:spPr>
          <a:xfrm>
            <a:off x="1763640" y="2349360"/>
            <a:ext cx="57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ispuesto a oír todas nuestras peticiones y a ser nuestro protector constante en cada hora de neces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ángulo 1"/>
          <p:cNvSpPr/>
          <p:nvPr/>
        </p:nvSpPr>
        <p:spPr>
          <a:xfrm>
            <a:off x="1638360" y="2320920"/>
            <a:ext cx="588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lgunos temen siempre y toman cuitas prest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ángulo 1"/>
          <p:cNvSpPr/>
          <p:nvPr/>
        </p:nvSpPr>
        <p:spPr>
          <a:xfrm>
            <a:off x="1619280" y="1913040"/>
            <a:ext cx="61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odos los días están rodeados de las prendas del amor de Dios, todos los días gozan de las bondades de su provid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ángulo 1"/>
          <p:cNvSpPr/>
          <p:nvPr/>
        </p:nvSpPr>
        <p:spPr>
          <a:xfrm>
            <a:off x="1565280" y="2414520"/>
            <a:ext cx="610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ero pasan por alto estas bendiciones pres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ángulo 1"/>
          <p:cNvSpPr/>
          <p:nvPr/>
        </p:nvSpPr>
        <p:spPr>
          <a:xfrm>
            <a:off x="1709640" y="1954080"/>
            <a:ext cx="574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us mentes están siempre espaciándose en algo desagradable que temen que ven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ángulo 1"/>
          <p:cNvSpPr/>
          <p:nvPr/>
        </p:nvSpPr>
        <p:spPr>
          <a:xfrm>
            <a:off x="1565280" y="1862280"/>
            <a:ext cx="603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uede ser que realmente existan algunas dificultades que ciegan sus ojos a las muchas bendiciones que demandan grat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ángulo 1"/>
          <p:cNvSpPr/>
          <p:nvPr/>
        </p:nvSpPr>
        <p:spPr>
          <a:xfrm>
            <a:off x="1638360" y="2421000"/>
            <a:ext cx="6173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Las dificultades con que tropiezan, en vez de guiarlos a Dios, los alejan de él, porque despiertan desasosiego y pesa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ángulo 2"/>
          <p:cNvSpPr/>
          <p:nvPr/>
        </p:nvSpPr>
        <p:spPr>
          <a:xfrm>
            <a:off x="1692360" y="2138400"/>
            <a:ext cx="581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¿Hacemos bien en ser así incrédulos? ¿Por qué ser ingratos y desconfiad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ángulo 1"/>
          <p:cNvSpPr/>
          <p:nvPr/>
        </p:nvSpPr>
        <p:spPr>
          <a:xfrm>
            <a:off x="1476360" y="2498760"/>
            <a:ext cx="624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Jesús es nuestro amigo; todo el cielo está interesado en nuestro bienes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ángulo 1"/>
          <p:cNvSpPr/>
          <p:nvPr/>
        </p:nvSpPr>
        <p:spPr>
          <a:xfrm>
            <a:off x="1565280" y="2016000"/>
            <a:ext cx="60310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No debemos permitir que las perplejidades y cuidados cotidianos gasten las fuerzas de nuestro espíritu y oscurezcan nuestro semblan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ángulo 1"/>
          <p:cNvSpPr/>
          <p:nvPr/>
        </p:nvSpPr>
        <p:spPr>
          <a:xfrm>
            <a:off x="1638360" y="2282760"/>
            <a:ext cx="574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ienen que reflejar sobre el mundo la luz de Cristo que brilla sobre el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ángulo 1"/>
          <p:cNvSpPr/>
          <p:nvPr/>
        </p:nvSpPr>
        <p:spPr>
          <a:xfrm>
            <a:off x="1979640" y="2274840"/>
            <a:ext cx="531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 lo hacemos, habrá siempre algo que nos moleste y fati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ángulo 1"/>
          <p:cNvSpPr/>
          <p:nvPr/>
        </p:nvSpPr>
        <p:spPr>
          <a:xfrm>
            <a:off x="1258920" y="2205000"/>
            <a:ext cx="65358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debemos dar entrada a los cuidados que sólo nos gastan y destruyen,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as no nos ayudan a soportar las prueb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ángulo 1"/>
          <p:cNvSpPr/>
          <p:nvPr/>
        </p:nvSpPr>
        <p:spPr>
          <a:xfrm>
            <a:off x="1116000" y="2035080"/>
            <a:ext cx="66960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Podéis estar perplejos en los negocios; vuestra perspectiva puede ser cada día más sombría y podéis estar amenazados de pérdid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ángulo 1"/>
          <p:cNvSpPr/>
          <p:nvPr/>
        </p:nvSpPr>
        <p:spPr>
          <a:xfrm>
            <a:off x="1187280" y="246708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no os descorazonéis; confiad vuestras cargas a Dios y permaneced serenos y tranqui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ángulo 1"/>
          <p:cNvSpPr/>
          <p:nvPr/>
        </p:nvSpPr>
        <p:spPr>
          <a:xfrm>
            <a:off x="1476360" y="2077920"/>
            <a:ext cx="61736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Calibri"/>
              </a:rPr>
              <a:t>Pedid sabiduría para manejar vuestros negocios con discreción y así evitaréis pérdidas y desast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ángulo 1"/>
          <p:cNvSpPr/>
          <p:nvPr/>
        </p:nvSpPr>
        <p:spPr>
          <a:xfrm>
            <a:off x="1332000" y="2354400"/>
            <a:ext cx="624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Haced todo lo que esté de vuestra parte para obtener resultados favo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ángulo 1"/>
          <p:cNvSpPr/>
          <p:nvPr/>
        </p:nvSpPr>
        <p:spPr>
          <a:xfrm>
            <a:off x="1187280" y="2276640"/>
            <a:ext cx="66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Jesús nos ha prometido su ayuda,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pero no sin que hagamos lo que está de nuestra pa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ángulo 1"/>
          <p:cNvSpPr/>
          <p:nvPr/>
        </p:nvSpPr>
        <p:spPr>
          <a:xfrm>
            <a:off x="1206360" y="2098800"/>
            <a:ext cx="667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uando, confiando en vuestro Ayudador, hayáis hecho todo lo que podáis, aceptad con gozo los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ángulo 1"/>
          <p:cNvSpPr/>
          <p:nvPr/>
        </p:nvSpPr>
        <p:spPr>
          <a:xfrm>
            <a:off x="1908000" y="2170080"/>
            <a:ext cx="531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es la voluntad de Dios que su pueblo sea abrumado por el peso de los cuid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ángulo 1"/>
          <p:cNvSpPr/>
          <p:nvPr/>
        </p:nvSpPr>
        <p:spPr>
          <a:xfrm>
            <a:off x="1800360" y="2170080"/>
            <a:ext cx="550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ero al mismo tiempo no quiere que nos engañ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ángulo 1"/>
          <p:cNvSpPr/>
          <p:nvPr/>
        </p:nvSpPr>
        <p:spPr>
          <a:xfrm>
            <a:off x="1547640" y="2128680"/>
            <a:ext cx="61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Su vida y su carácter deben ser tales que por ellos adquieran otros una idea justa de Cristo y de su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ángulo 1"/>
          <p:cNvSpPr/>
          <p:nvPr/>
        </p:nvSpPr>
        <p:spPr>
          <a:xfrm>
            <a:off x="1638360" y="2097000"/>
            <a:ext cx="588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no nos dice: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No temáis; no hay peligro en vuestro camino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ángulo 1"/>
          <p:cNvSpPr/>
          <p:nvPr/>
        </p:nvSpPr>
        <p:spPr>
          <a:xfrm>
            <a:off x="1494000" y="2282760"/>
            <a:ext cx="631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sabe que hay pruebas y peligros y nos lo ha manifestado abierta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ángulo 1"/>
          <p:cNvSpPr/>
          <p:nvPr/>
        </p:nvSpPr>
        <p:spPr>
          <a:xfrm>
            <a:off x="1619280" y="1989000"/>
            <a:ext cx="595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no ofrece a su pueblo quitarlo de en medio de este mundo de pecado y maldad, pero le presenta un refugio que nunca fa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ángulo 1"/>
          <p:cNvSpPr/>
          <p:nvPr/>
        </p:nvSpPr>
        <p:spPr>
          <a:xfrm>
            <a:off x="1565280" y="1903320"/>
            <a:ext cx="603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u oración por sus discípulos fue: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No ruego que los quites del mundo, sino que los guardes del mal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ángulo 1"/>
          <p:cNvSpPr/>
          <p:nvPr/>
        </p:nvSpPr>
        <p:spPr>
          <a:xfrm>
            <a:off x="1403280" y="1773360"/>
            <a:ext cx="6337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En el mundo ­dice­ tendréis tribulación; pero tened buen ánimo; yo he vencido al mundo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San Juan 17: 15; 16: 3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ángulo 1"/>
          <p:cNvSpPr/>
          <p:nvPr/>
        </p:nvSpPr>
        <p:spPr>
          <a:xfrm>
            <a:off x="1349280" y="2179800"/>
            <a:ext cx="63914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En el Sermón del Monte, Cristo dio a sus discípulos preciosas lecciones en cuanto a la confianza que debe tenerse en Di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ángulo 1"/>
          <p:cNvSpPr/>
          <p:nvPr/>
        </p:nvSpPr>
        <p:spPr>
          <a:xfrm>
            <a:off x="1349280" y="1989000"/>
            <a:ext cx="653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as lecciones tenían como fin consolar a los hijos de Dios durante todos los si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ángulo 1"/>
          <p:cNvSpPr/>
          <p:nvPr/>
        </p:nvSpPr>
        <p:spPr>
          <a:xfrm>
            <a:off x="1835280" y="2421000"/>
            <a:ext cx="559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han llegado a nuestra época llenas de instrucción y consu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ángulo 2"/>
          <p:cNvSpPr/>
          <p:nvPr/>
        </p:nvSpPr>
        <p:spPr>
          <a:xfrm>
            <a:off x="1042920" y="1996920"/>
            <a:ext cx="70581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El Salvador llamó la atención de sus discípulos a cómo las aves del cielo entonan sus dulces cantos de alabanza sin estar abrumadas por los cuidados de la vida</a:t>
            </a:r>
            <a:r>
              <a:rPr b="0" lang="es-ES" sz="3400" spc="-1" strike="noStrike">
                <a:solidFill>
                  <a:srgbClr val="000000"/>
                </a:solidFill>
                <a:latin typeface="Calibri"/>
              </a:rPr>
              <a:t>, a pesar de que "no siembran, ni siegan"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ángulo 1"/>
          <p:cNvSpPr/>
          <p:nvPr/>
        </p:nvSpPr>
        <p:spPr>
          <a:xfrm>
            <a:off x="2070000" y="2170080"/>
            <a:ext cx="523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sin embargo, el gran Padre celestial las alim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ángulo 1"/>
          <p:cNvSpPr/>
          <p:nvPr/>
        </p:nvSpPr>
        <p:spPr>
          <a:xfrm>
            <a:off x="1349280" y="2276640"/>
            <a:ext cx="63183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Si representamos verdaderamente a Cristo, haremos que su servicio parezca atractivo, como es en realida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ángulo 1"/>
          <p:cNvSpPr/>
          <p:nvPr/>
        </p:nvSpPr>
        <p:spPr>
          <a:xfrm>
            <a:off x="1638360" y="2190600"/>
            <a:ext cx="58132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Salvador pregunta: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¿No valéis vosotros mucho más que ellas?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Mateo 6: 2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ángulo 1"/>
          <p:cNvSpPr/>
          <p:nvPr/>
        </p:nvSpPr>
        <p:spPr>
          <a:xfrm>
            <a:off x="1332000" y="2004840"/>
            <a:ext cx="66247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Calibri"/>
              </a:rPr>
              <a:t>El gran Dios, que alimenta a los hombres y a las bestias, extiende su mano para alimentar a todas sus criatur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ángulo 1"/>
          <p:cNvSpPr/>
          <p:nvPr/>
        </p:nvSpPr>
        <p:spPr>
          <a:xfrm>
            <a:off x="1835280" y="2421000"/>
            <a:ext cx="552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s aves del cielo no son tan insignificantes que no las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ángulo 1"/>
          <p:cNvSpPr/>
          <p:nvPr/>
        </p:nvSpPr>
        <p:spPr>
          <a:xfrm>
            <a:off x="1692360" y="2133720"/>
            <a:ext cx="5759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no toma el alimento y se lo da en el pico,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mas hace provisión para sus necesi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ángulo 1"/>
          <p:cNvSpPr/>
          <p:nvPr/>
        </p:nvSpPr>
        <p:spPr>
          <a:xfrm>
            <a:off x="1854360" y="2097000"/>
            <a:ext cx="567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eben juntar el grano que él ha derramado para el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ángulo 1"/>
          <p:cNvSpPr/>
          <p:nvPr/>
        </p:nvSpPr>
        <p:spPr>
          <a:xfrm>
            <a:off x="1692360" y="1849320"/>
            <a:ext cx="581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eben preparar el material para sus niditos y alimentar a sus pollue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ángulo 1"/>
          <p:cNvSpPr/>
          <p:nvPr/>
        </p:nvSpPr>
        <p:spPr>
          <a:xfrm>
            <a:off x="1422360" y="2230560"/>
            <a:ext cx="65343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las van cantando a su trabajo porque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vuestro Padre celestial las alimenta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ángulo 1"/>
          <p:cNvSpPr/>
          <p:nvPr/>
        </p:nvSpPr>
        <p:spPr>
          <a:xfrm>
            <a:off x="1781280" y="2414520"/>
            <a:ext cx="559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"¿no valéis vosotros mucho más que ellas?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ángulo 1"/>
          <p:cNvSpPr/>
          <p:nvPr/>
        </p:nvSpPr>
        <p:spPr>
          <a:xfrm>
            <a:off x="1512720" y="2027160"/>
            <a:ext cx="6299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¿No sois vosotros, como adoradores inteligentes y espirituales, de mucho más valor que las aves del cie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ángulo 1"/>
          <p:cNvSpPr/>
          <p:nvPr/>
        </p:nvSpPr>
        <p:spPr>
          <a:xfrm>
            <a:off x="1206360" y="2060640"/>
            <a:ext cx="67503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¿No suplirá nuestras necesidades el Autor de nuestro ser, el Conservador de nuestra existencia, el que nos formó a su propia imagen divina, si tan sólo confiamos en Él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ángulo 1"/>
          <p:cNvSpPr/>
          <p:nvPr/>
        </p:nvSpPr>
        <p:spPr>
          <a:xfrm>
            <a:off x="1116000" y="2060640"/>
            <a:ext cx="69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os cristianos que llenan su alma de amargura y tristeza, murmuraciones y quejas, están representando ante otros falsamente a Dios y la vida crist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ángulo 2"/>
          <p:cNvSpPr/>
          <p:nvPr/>
        </p:nvSpPr>
        <p:spPr>
          <a:xfrm>
            <a:off x="1116000" y="2060640"/>
            <a:ext cx="71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risto presentaba a sus discípulos las flores del campo, que crecen en rica profusión y brillan con la sencilla hermosura que el Padre celestial les ha dado, como una expresión de su amor hacia el ho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ángulo 1"/>
          <p:cNvSpPr/>
          <p:nvPr/>
        </p:nvSpPr>
        <p:spPr>
          <a:xfrm>
            <a:off x="1835280" y="2017800"/>
            <a:ext cx="55990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l decía: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Considerad los lirios del campo, cómo crecen"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Mateo 6: 2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ángulo 1"/>
          <p:cNvSpPr/>
          <p:nvPr/>
        </p:nvSpPr>
        <p:spPr>
          <a:xfrm>
            <a:off x="1692360" y="2273400"/>
            <a:ext cx="602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a belleza y la sencillez de estas flores naturales sobrepujan en excelencia, por mucho, a la gloria de Salom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ángulo 1"/>
          <p:cNvSpPr/>
          <p:nvPr/>
        </p:nvSpPr>
        <p:spPr>
          <a:xfrm>
            <a:off x="1258920" y="2205000"/>
            <a:ext cx="66070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El atavío más esplendoroso producido por la habilidad del arte no puede compararse con la gracia natural y la belleza radiante de las flores creadas por Di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ángulo 1"/>
          <p:cNvSpPr/>
          <p:nvPr/>
        </p:nvSpPr>
        <p:spPr>
          <a:xfrm>
            <a:off x="1258920" y="2089080"/>
            <a:ext cx="655308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Jesús dice: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Y  si Dios viste así a la hierba del campo que hoy es, y mañana es echada en el horno, ¿cuánto más a vosotros, hombres de poca fe?"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Mateo 6: 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ángulo 1"/>
          <p:cNvSpPr/>
          <p:nvPr/>
        </p:nvSpPr>
        <p:spPr>
          <a:xfrm>
            <a:off x="1619280" y="2098800"/>
            <a:ext cx="60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 Dios, el Artista divino, da a las flores, que perecen en un día, sus delicados y variados col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ángulo 1"/>
          <p:cNvSpPr/>
          <p:nvPr/>
        </p:nvSpPr>
        <p:spPr>
          <a:xfrm>
            <a:off x="1476360" y="2354400"/>
            <a:ext cx="617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¿cuánto mayor cuidado no tendrá por los que ha creado a su propia imag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ángulo 1"/>
          <p:cNvSpPr/>
          <p:nvPr/>
        </p:nvSpPr>
        <p:spPr>
          <a:xfrm>
            <a:off x="1781280" y="2344680"/>
            <a:ext cx="567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sta lección de Cristo es un reproche por la ansiedad, las perplejidades y dudas del corazón sin 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ángulo 1"/>
          <p:cNvSpPr/>
          <p:nvPr/>
        </p:nvSpPr>
        <p:spPr>
          <a:xfrm>
            <a:off x="1042920" y="2170080"/>
            <a:ext cx="712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Señor quiere que todos sus hijos e hijas sean felices, llenos de paz, obed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ángulo 1"/>
          <p:cNvSpPr/>
          <p:nvPr/>
        </p:nvSpPr>
        <p:spPr>
          <a:xfrm>
            <a:off x="1349280" y="2057400"/>
            <a:ext cx="64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Jesús dice: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Mi paz os doy; no según da el mundo, yo os la doy: no se turbe vuestro corazón, ni se acobarde"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(San Juan 14: 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ángulo 1"/>
          <p:cNvSpPr/>
          <p:nvPr/>
        </p:nvSpPr>
        <p:spPr>
          <a:xfrm>
            <a:off x="1692360" y="2282760"/>
            <a:ext cx="574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Hacen creer que Dios no se complace en que sus hijos sean fel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ángulo 1"/>
          <p:cNvSpPr/>
          <p:nvPr/>
        </p:nvSpPr>
        <p:spPr>
          <a:xfrm>
            <a:off x="1692360" y="1989000"/>
            <a:ext cx="5904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Estas cosas os he dicho, para que quede mi gozo en vosotros, y vuestro gozo sea completo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San Juan 15: 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ángulo 1"/>
          <p:cNvSpPr/>
          <p:nvPr/>
        </p:nvSpPr>
        <p:spPr>
          <a:xfrm>
            <a:off x="1027080" y="2262240"/>
            <a:ext cx="6858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La felicidad que se procura por motivos egoístas, fuera de la senda del deber, es desequilibrada, espasmódica y transitori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ángulo 1"/>
          <p:cNvSpPr/>
          <p:nvPr/>
        </p:nvSpPr>
        <p:spPr>
          <a:xfrm>
            <a:off x="1925640" y="2090880"/>
            <a:ext cx="538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asa y deja el alma vacía y triste; mas en el servicio de Dios hay gozo y satisfa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ángulo 1"/>
          <p:cNvSpPr/>
          <p:nvPr/>
        </p:nvSpPr>
        <p:spPr>
          <a:xfrm>
            <a:off x="1547640" y="2160720"/>
            <a:ext cx="5977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ios no abandona al cristiano en caminos inciertos;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no lo abandona a pesares vanos y contratiemp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ángulo 2"/>
          <p:cNvSpPr/>
          <p:nvPr/>
        </p:nvSpPr>
        <p:spPr>
          <a:xfrm>
            <a:off x="1763640" y="2027160"/>
            <a:ext cx="576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 no tenemos los placeres de esta vida, podemos aun gozarnos mirando a la vida venid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ángulo 1"/>
          <p:cNvSpPr/>
          <p:nvPr/>
        </p:nvSpPr>
        <p:spPr>
          <a:xfrm>
            <a:off x="1854360" y="2027160"/>
            <a:ext cx="552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ero aún aquí los cristianos pueden tener el gozo de la comunión con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ángulo 1"/>
          <p:cNvSpPr/>
          <p:nvPr/>
        </p:nvSpPr>
        <p:spPr>
          <a:xfrm>
            <a:off x="1638360" y="2282760"/>
            <a:ext cx="581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ueden tener la luz de su amor, el perpetuo consuelo de su pres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ángulo 1"/>
          <p:cNvSpPr/>
          <p:nvPr/>
        </p:nvSpPr>
        <p:spPr>
          <a:xfrm>
            <a:off x="1187280" y="2303640"/>
            <a:ext cx="684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da paso de la vida puede acercarnos más a Jesús, puede darnos una experiencia más profunda de su amor y acercarnos más al bendito hogar de p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ángulo 1"/>
          <p:cNvSpPr/>
          <p:nvPr/>
        </p:nvSpPr>
        <p:spPr>
          <a:xfrm>
            <a:off x="2286000" y="22748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perdáis pues vuestra confianza, sino tened firme seguridad, más firme que nunca 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ángulo 1"/>
          <p:cNvSpPr/>
          <p:nvPr/>
        </p:nvSpPr>
        <p:spPr>
          <a:xfrm>
            <a:off x="1403280" y="1989000"/>
            <a:ext cx="62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o perdáis pues vuestra confianza, sino tened firme seguridad, más firme que nunca 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ángulo 1"/>
          <p:cNvSpPr/>
          <p:nvPr/>
        </p:nvSpPr>
        <p:spPr>
          <a:xfrm>
            <a:off x="1763640" y="2421000"/>
            <a:ext cx="545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en esto dan falso testimonio contra nuestro Padre celest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ángulo 1"/>
          <p:cNvSpPr/>
          <p:nvPr/>
        </p:nvSpPr>
        <p:spPr>
          <a:xfrm>
            <a:off x="1278000" y="1916280"/>
            <a:ext cx="65340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¡Hasta aquí nos ha ayudado Jehová!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1 Samuel 7: 1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y nos ayudará hasta el f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ángulo 1"/>
          <p:cNvSpPr/>
          <p:nvPr/>
        </p:nvSpPr>
        <p:spPr>
          <a:xfrm>
            <a:off x="1042920" y="185112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iremos los monumentos conmemorativos de lo que Dios ha hecho para confortarnos y salvarnos de la mano del destr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ángulo 1"/>
          <p:cNvSpPr/>
          <p:nvPr/>
        </p:nvSpPr>
        <p:spPr>
          <a:xfrm>
            <a:off x="1854360" y="1954080"/>
            <a:ext cx="567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engamos siempre presentes todas las tiernas misericordias que Dios nos ha most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Rectángulo 1"/>
          <p:cNvSpPr/>
          <p:nvPr/>
        </p:nvSpPr>
        <p:spPr>
          <a:xfrm>
            <a:off x="1476360" y="1677960"/>
            <a:ext cx="64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as lágrimas que ha enjugado, las penas que ha quitado, las ansiedades que ha alejado, los temores que ha disipado, las necesidades que ha suplido, las bendiciones que ha derram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ángulo 1"/>
          <p:cNvSpPr/>
          <p:nvPr/>
        </p:nvSpPr>
        <p:spPr>
          <a:xfrm>
            <a:off x="1403280" y="2349360"/>
            <a:ext cx="631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ortificándonos así a nosotros mismos, para todo lo que está delante de nosotros en el resto de nuestra peregrin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ángulo 1"/>
          <p:cNvSpPr/>
          <p:nvPr/>
        </p:nvSpPr>
        <p:spPr>
          <a:xfrm>
            <a:off x="1638360" y="1882800"/>
            <a:ext cx="59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podemos menos que prever nuevas perplejidades en el conflicto venid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ángulo 1"/>
          <p:cNvSpPr/>
          <p:nvPr/>
        </p:nvSpPr>
        <p:spPr>
          <a:xfrm>
            <a:off x="1781280" y="1933560"/>
            <a:ext cx="57434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ero podemos mirar hacia lo pasado, tanto como hacia lo futuro, y decir: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¡Hasta aquí nos ha ayudado Jehová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ángulo 1"/>
          <p:cNvSpPr/>
          <p:nvPr/>
        </p:nvSpPr>
        <p:spPr>
          <a:xfrm>
            <a:off x="1944720" y="2108160"/>
            <a:ext cx="53640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Según tus días, serán tus fuerzas"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Deuteronomio 33: 2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ángulo 1"/>
          <p:cNvSpPr/>
          <p:nvPr/>
        </p:nvSpPr>
        <p:spPr>
          <a:xfrm>
            <a:off x="1835280" y="2025720"/>
            <a:ext cx="552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prueba no excederá a la fuerza que se nos dé para soportar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ángulo 1"/>
          <p:cNvSpPr/>
          <p:nvPr/>
        </p:nvSpPr>
        <p:spPr>
          <a:xfrm>
            <a:off x="1403280" y="2089080"/>
            <a:ext cx="63183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Así que sigamos con nuestro trabajo dondequiera lo hallemos, sabiendo que para cualquier cosa que venga, Él nos dará fuerza proporcionada a la prueb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ángulo 1"/>
          <p:cNvSpPr/>
          <p:nvPr/>
        </p:nvSpPr>
        <p:spPr>
          <a:xfrm>
            <a:off x="1619280" y="2133720"/>
            <a:ext cx="581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atanás triunfa cuando puede inducir a los hijos de Dios a la incredulidad y al desal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ángulo 1"/>
          <p:cNvSpPr/>
          <p:nvPr/>
        </p:nvSpPr>
        <p:spPr>
          <a:xfrm>
            <a:off x="1655640" y="2170080"/>
            <a:ext cx="601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luego las puertas del cielo se abrirán para recibir a los hijos de 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ángulo 1"/>
          <p:cNvSpPr/>
          <p:nvPr/>
        </p:nvSpPr>
        <p:spPr>
          <a:xfrm>
            <a:off x="1835280" y="1924200"/>
            <a:ext cx="545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de los labios del Rey de gloria resonará en sus oídos, como la más rica mú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Rectángulo 1"/>
          <p:cNvSpPr/>
          <p:nvPr/>
        </p:nvSpPr>
        <p:spPr>
          <a:xfrm>
            <a:off x="1258920" y="1893960"/>
            <a:ext cx="6697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la bendición: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¡Venid, benditos de mi Padre, poseed el reino destinado para vosotros desde la fundación del mundo!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Mateo 25: 3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ángulo 1"/>
          <p:cNvSpPr/>
          <p:nvPr/>
        </p:nvSpPr>
        <p:spPr>
          <a:xfrm>
            <a:off x="1619280" y="1989000"/>
            <a:ext cx="590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ntonces los redimidos serán recibidos con gozo en el lugar que Jesús les está prepara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ángulo 1"/>
          <p:cNvSpPr/>
          <p:nvPr/>
        </p:nvSpPr>
        <p:spPr>
          <a:xfrm>
            <a:off x="1638360" y="2098800"/>
            <a:ext cx="581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llí su compañía no será la de los viles de la tierra, mentirosos, idólatras, impuros e incrédu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ángulo 1"/>
          <p:cNvSpPr/>
          <p:nvPr/>
        </p:nvSpPr>
        <p:spPr>
          <a:xfrm>
            <a:off x="1187280" y="2276640"/>
            <a:ext cx="66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no la de los que hayan vencido a Satanás y que por la gracia divina hayan adquirido caracteres perfe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ángulo 1"/>
          <p:cNvSpPr/>
          <p:nvPr/>
        </p:nvSpPr>
        <p:spPr>
          <a:xfrm>
            <a:off x="1692360" y="1989000"/>
            <a:ext cx="579600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Calibri"/>
              </a:rPr>
              <a:t>Toda tendencia pecaminosa, toda imperfección que los aflige aquí, habrá sido quitada por la sangre de Cris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ángulo 1"/>
          <p:cNvSpPr/>
          <p:nvPr/>
        </p:nvSpPr>
        <p:spPr>
          <a:xfrm>
            <a:off x="1908000" y="2276640"/>
            <a:ext cx="552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se les concede la excelencia y brillantez de su gloria, que excede en mucho a la del s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ángulo 1"/>
          <p:cNvSpPr/>
          <p:nvPr/>
        </p:nvSpPr>
        <p:spPr>
          <a:xfrm>
            <a:off x="1692360" y="1862280"/>
            <a:ext cx="595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Y la belleza moral, la perfección de su carácter resplandecen con excelencia mucho mayor que este resplandor exter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ángulo 1"/>
          <p:cNvSpPr/>
          <p:nvPr/>
        </p:nvSpPr>
        <p:spPr>
          <a:xfrm>
            <a:off x="1638360" y="1984320"/>
            <a:ext cx="58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stán sin mancha delante del trono de Dios y participan de la dignidad y de los privilegios de los áng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ángulo 1"/>
          <p:cNvSpPr/>
          <p:nvPr/>
        </p:nvSpPr>
        <p:spPr>
          <a:xfrm>
            <a:off x="1206360" y="2027160"/>
            <a:ext cx="675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e regocija cuando nos ve desconfiar de Dios, dudando de su buena voluntad y de su poder para salvar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ángulo 1"/>
          <p:cNvSpPr/>
          <p:nvPr/>
        </p:nvSpPr>
        <p:spPr>
          <a:xfrm>
            <a:off x="1494000" y="1905120"/>
            <a:ext cx="61023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n vista de la herencia gloriosa que puede ser suya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¿qué rescate dará el hombre por su alma?"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Mateo 16: 2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Rectángulo 1"/>
          <p:cNvSpPr/>
          <p:nvPr/>
        </p:nvSpPr>
        <p:spPr>
          <a:xfrm>
            <a:off x="1584360" y="1914480"/>
            <a:ext cx="6156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uede ser pobre; con todo, posee en sí mismo una riqueza y dignidad que el mundo jamás podría haberle d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ángulo 1"/>
          <p:cNvSpPr/>
          <p:nvPr/>
        </p:nvSpPr>
        <p:spPr>
          <a:xfrm>
            <a:off x="1638360" y="1944720"/>
            <a:ext cx="5958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000000"/>
                </a:solidFill>
                <a:latin typeface="Calibri"/>
              </a:rPr>
              <a:t>El alma redimida y limpiada de pecado, con todas sus nobles facultades dedicadas al servicio de Dio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ángulo 1"/>
          <p:cNvSpPr/>
          <p:nvPr/>
        </p:nvSpPr>
        <p:spPr>
          <a:xfrm>
            <a:off x="1494000" y="1989000"/>
            <a:ext cx="610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 de un valor incomparable; y hay gozo en el cielo delante de Dios y de los santos ángeles por cada alma redim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Rectángulo 1"/>
          <p:cNvSpPr/>
          <p:nvPr/>
        </p:nvSpPr>
        <p:spPr>
          <a:xfrm>
            <a:off x="1908000" y="2313000"/>
            <a:ext cx="552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Gozo que se expresa con cánticos de santo triu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ángulo 2"/>
          <p:cNvSpPr/>
          <p:nvPr/>
        </p:nvSpPr>
        <p:spPr>
          <a:xfrm>
            <a:off x="1403280" y="2200320"/>
            <a:ext cx="639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os hijos de Dios están llamados a ser representantes de Cristo y a mostrar siempre la bondad y la misericordia del Señ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ángulo 1"/>
          <p:cNvSpPr/>
          <p:nvPr/>
        </p:nvSpPr>
        <p:spPr>
          <a:xfrm>
            <a:off x="1908000" y="2027160"/>
            <a:ext cx="531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e agrada hacernos sentir que el Señor nos hará daño por sus provid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ángulo 1"/>
          <p:cNvSpPr/>
          <p:nvPr/>
        </p:nvSpPr>
        <p:spPr>
          <a:xfrm>
            <a:off x="1763640" y="1811160"/>
            <a:ext cx="588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 la obra de Satanás representar al Señor como falto de compasión y pie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ángulo 1"/>
          <p:cNvSpPr/>
          <p:nvPr/>
        </p:nvSpPr>
        <p:spPr>
          <a:xfrm>
            <a:off x="1494000" y="2205000"/>
            <a:ext cx="617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ergiversa la verdad respecto a Él. Llena la imaginación de ideas falsas tocante a D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ángulo 1"/>
          <p:cNvSpPr/>
          <p:nvPr/>
        </p:nvSpPr>
        <p:spPr>
          <a:xfrm>
            <a:off x="1619280" y="2492280"/>
            <a:ext cx="588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en vez de espaciarnos en la verdad con respecto a nuestro Padre celest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ángulo 1"/>
          <p:cNvSpPr/>
          <p:nvPr/>
        </p:nvSpPr>
        <p:spPr>
          <a:xfrm>
            <a:off x="1512720" y="2282760"/>
            <a:ext cx="6299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muchísimas veces fijamos la mente en las falsas representaciones de Satan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ángulo 1"/>
          <p:cNvSpPr/>
          <p:nvPr/>
        </p:nvSpPr>
        <p:spPr>
          <a:xfrm>
            <a:off x="1619280" y="1989000"/>
            <a:ext cx="581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deshonramos a Dios desconfiando de Él y murmurando contra 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ángulo 1"/>
          <p:cNvSpPr/>
          <p:nvPr/>
        </p:nvSpPr>
        <p:spPr>
          <a:xfrm>
            <a:off x="1476360" y="2209680"/>
            <a:ext cx="588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atanás siempre procura presentar la vida religiosa como una vida de tinieb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ángulo 1"/>
          <p:cNvSpPr/>
          <p:nvPr/>
        </p:nvSpPr>
        <p:spPr>
          <a:xfrm>
            <a:off x="1547640" y="2160720"/>
            <a:ext cx="61200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Desea hacerla aparecer penosa y difícil; y cuando el cristiano presenta en su vida la religión bajo este aspecto, secunda la falsedad de Sataná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ángulo 1"/>
          <p:cNvSpPr/>
          <p:nvPr/>
        </p:nvSpPr>
        <p:spPr>
          <a:xfrm>
            <a:off x="1278000" y="2089080"/>
            <a:ext cx="63896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Muchos al recorrer el camino de la vida, fijan sus ojos en sus errores, fracasos y desengaños, y sus corazones se llenan de dolor y desalien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ángulo 1"/>
          <p:cNvSpPr/>
          <p:nvPr/>
        </p:nvSpPr>
        <p:spPr>
          <a:xfrm>
            <a:off x="1187280" y="1882800"/>
            <a:ext cx="675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ientras estaba yo en Europa, una hermana que había estado haciendo esto y que se hallaba profundamente apenada, me escribió pidiéndome algunos consejos que la anima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ángulo 1"/>
          <p:cNvSpPr/>
          <p:nvPr/>
        </p:nvSpPr>
        <p:spPr>
          <a:xfrm>
            <a:off x="1476360" y="2089080"/>
            <a:ext cx="62452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Como Jesús nos reveló el verdadero carácter del Padre, así tenemos que revelar a Cristo a un mundo que no conoce su ternura y piadoso am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ángulo 1"/>
          <p:cNvSpPr/>
          <p:nvPr/>
        </p:nvSpPr>
        <p:spPr>
          <a:xfrm>
            <a:off x="1638360" y="2274840"/>
            <a:ext cx="617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a noche que siguió a la lectura de su carta, soñé que estaba yo en un jardín y que uno, al parecer dueño del jardín, me conducía por los caminos del m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ángulo 1"/>
          <p:cNvSpPr/>
          <p:nvPr/>
        </p:nvSpPr>
        <p:spPr>
          <a:xfrm>
            <a:off x="1295280" y="2200320"/>
            <a:ext cx="65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Yo estaba recogiendo flores y gozando de su fragancia, cuando esta hermana, que había estado caminando a mi l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ángulo 1"/>
          <p:cNvSpPr/>
          <p:nvPr/>
        </p:nvSpPr>
        <p:spPr>
          <a:xfrm>
            <a:off x="1692360" y="2282760"/>
            <a:ext cx="574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me llamó la atención a algunos feos zarzales que le estorbaban el p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ángulo 1"/>
          <p:cNvSpPr/>
          <p:nvPr/>
        </p:nvSpPr>
        <p:spPr>
          <a:xfrm>
            <a:off x="1908000" y="2486160"/>
            <a:ext cx="545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Allí estaba ella afligida y llena de p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ángulo 1"/>
          <p:cNvSpPr/>
          <p:nvPr/>
        </p:nvSpPr>
        <p:spPr>
          <a:xfrm>
            <a:off x="1403280" y="2220840"/>
            <a:ext cx="65883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iba por el camino siguiendo al guía, sino que caminaba entre espinas y abrojos.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"¡Oh!"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urmuró ella,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"¿no es una lástima que este hermoso jardín esté echado a perder por las espinas?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ángulo 2"/>
          <p:cNvSpPr/>
          <p:nvPr/>
        </p:nvSpPr>
        <p:spPr>
          <a:xfrm>
            <a:off x="1258920" y="1832040"/>
            <a:ext cx="65358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ntonces el que nos guiaba dijo: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No hagáis caso de las espinas, porque solamente os molestarán. Cortad las rosas, los lirios y los clavele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ángulo 1"/>
          <p:cNvSpPr/>
          <p:nvPr/>
        </p:nvSpPr>
        <p:spPr>
          <a:xfrm>
            <a:off x="1709640" y="2090880"/>
            <a:ext cx="574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No ha habido en vuestra experiencia algunas horas feli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ángulo 1"/>
          <p:cNvSpPr/>
          <p:nvPr/>
        </p:nvSpPr>
        <p:spPr>
          <a:xfrm>
            <a:off x="1042920" y="2349360"/>
            <a:ext cx="685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¿No habéis tenido algunos momentos preciosos en que vuestro corazón ha palpitado de gozo respondiendo al Espíritu de Dios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ángulo 1"/>
          <p:cNvSpPr/>
          <p:nvPr/>
        </p:nvSpPr>
        <p:spPr>
          <a:xfrm>
            <a:off x="1133640" y="2252520"/>
            <a:ext cx="67514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¿No habéis tenido algunos momentos preciosos en que vuestro corazón ha palpitado de gozo respondiendo al Espíritu de Dios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ángulo 1"/>
          <p:cNvSpPr/>
          <p:nvPr/>
        </p:nvSpPr>
        <p:spPr>
          <a:xfrm>
            <a:off x="1476360" y="1758960"/>
            <a:ext cx="608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Cuando abrís el libro de vuestra experiencia pasada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no encontráis algunas páginas agradab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ángulo 1"/>
          <p:cNvSpPr/>
          <p:nvPr/>
        </p:nvSpPr>
        <p:spPr>
          <a:xfrm>
            <a:off x="1116000" y="206064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"De la manera que tú me enviaste a mí al mundo -decía Jesús-, así también yo los he enviado a ellos al mundo". "Yo en ellos, y tú en mí,... para que conozca el mundo que tú me enviast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San Juan 17: 18, 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ángulo 1"/>
          <p:cNvSpPr/>
          <p:nvPr/>
        </p:nvSpPr>
        <p:spPr>
          <a:xfrm>
            <a:off x="1476360" y="2027160"/>
            <a:ext cx="622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¿No son las promesas de Dios fragantes flores que crecen a cada lado de vuestro cami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ángulo 1"/>
          <p:cNvSpPr/>
          <p:nvPr/>
        </p:nvSpPr>
        <p:spPr>
          <a:xfrm>
            <a:off x="1709640" y="2354400"/>
            <a:ext cx="552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¿No permitiréis que su belleza y dulzura llenen vuestro corazón de goz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ángulo 2"/>
          <p:cNvSpPr/>
          <p:nvPr/>
        </p:nvSpPr>
        <p:spPr>
          <a:xfrm>
            <a:off x="1763640" y="1952640"/>
            <a:ext cx="567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s espinas y abrojos únicamente os herirán y causarán d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ángulo 1"/>
          <p:cNvSpPr/>
          <p:nvPr/>
        </p:nvSpPr>
        <p:spPr>
          <a:xfrm>
            <a:off x="1116000" y="1844640"/>
            <a:ext cx="667872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y si vosotros recogéis solamente estas cosas y las presentáis a otros,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¿no estáis, además de menospreciar la bondad de Dios, impidiendo que los demás anden en el camino de la vid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ángulo 1"/>
          <p:cNvSpPr/>
          <p:nvPr/>
        </p:nvSpPr>
        <p:spPr>
          <a:xfrm>
            <a:off x="1116000" y="2220840"/>
            <a:ext cx="67690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 es bueno reunir todos los recuerdos desagradables de la vida pasada, sus iniquidades y desengaños,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ablar de estos recuerdos y llorarlos hasta estar abrumados de desal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ángulo 1"/>
          <p:cNvSpPr/>
          <p:nvPr/>
        </p:nvSpPr>
        <p:spPr>
          <a:xfrm>
            <a:off x="2303640" y="209700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hombre desalentado está lleno de tinieb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ángulo 1"/>
          <p:cNvSpPr/>
          <p:nvPr/>
        </p:nvSpPr>
        <p:spPr>
          <a:xfrm>
            <a:off x="1512720" y="2368440"/>
            <a:ext cx="61549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echa fuera de su propio corazón la luz divina y proyecta sombra en el camino de los otr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ángulo 1"/>
          <p:cNvSpPr/>
          <p:nvPr/>
        </p:nvSpPr>
        <p:spPr>
          <a:xfrm>
            <a:off x="1835280" y="2282760"/>
            <a:ext cx="538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Gracias a Dios que nos ha presentado hermosísimos cuad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ángulo 1"/>
          <p:cNvSpPr/>
          <p:nvPr/>
        </p:nvSpPr>
        <p:spPr>
          <a:xfrm>
            <a:off x="1116000" y="2027160"/>
            <a:ext cx="675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Reunamos las pruebas benditas de su amor y tengámoslas siempre pres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ángulo 1"/>
          <p:cNvSpPr/>
          <p:nvPr/>
        </p:nvSpPr>
        <p:spPr>
          <a:xfrm>
            <a:off x="1422360" y="2133720"/>
            <a:ext cx="631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Hijo de Dios que deja el trono de su Padre y reviste su divinidad con la humanidad para poder rescatar al hombre del poder de Satan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ángulo 1"/>
          <p:cNvSpPr/>
          <p:nvPr/>
        </p:nvSpPr>
        <p:spPr>
          <a:xfrm>
            <a:off x="1258920" y="2201760"/>
            <a:ext cx="66978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apóstol Pablo dice a los discípulos de Jesús: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Sois manifiestamente una epístola de Cristo", "conocida y leída de todos los hombres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2 Corintios 3: 3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ángulo 1"/>
          <p:cNvSpPr/>
          <p:nvPr/>
        </p:nvSpPr>
        <p:spPr>
          <a:xfrm>
            <a:off x="1295280" y="2374920"/>
            <a:ext cx="64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u triunfo en nuestro favor, que abre el cielo a los pecadores y revela a la vista humana la morada donde la Divinidad descubre su gl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ángulo 1"/>
          <p:cNvSpPr/>
          <p:nvPr/>
        </p:nvSpPr>
        <p:spPr>
          <a:xfrm>
            <a:off x="1116000" y="2252520"/>
            <a:ext cx="68407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la raza caída, levantada de lo profundo de la ruina en que Satanás la había sumergido, puesta de nuevo en relación con el Dios infini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ángulo 1"/>
          <p:cNvSpPr/>
          <p:nvPr/>
        </p:nvSpPr>
        <p:spPr>
          <a:xfrm>
            <a:off x="1476360" y="2090880"/>
            <a:ext cx="62452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vestida de la justicia de Cristo y exaltada hasta su trono después de sufrir la prueba divina por la fe en nuestro Reden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ángulo 1"/>
          <p:cNvSpPr/>
          <p:nvPr/>
        </p:nvSpPr>
        <p:spPr>
          <a:xfrm>
            <a:off x="1854360" y="2349360"/>
            <a:ext cx="531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ales son las cosas que Dios quiere que contemple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ángulo 1"/>
          <p:cNvSpPr/>
          <p:nvPr/>
        </p:nvSpPr>
        <p:spPr>
          <a:xfrm>
            <a:off x="1476360" y="2158920"/>
            <a:ext cx="602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uando parece que dudamos del amor de Dios y que desconfiamos de sus promesas, lo deshonramos y contristamos su Santo Espír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ángulo 1"/>
          <p:cNvSpPr/>
          <p:nvPr/>
        </p:nvSpPr>
        <p:spPr>
          <a:xfrm>
            <a:off x="1403280" y="2513160"/>
            <a:ext cx="61930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¿Cómo se sentiría una madre si sus hijos estuvieran quejándose constantemente de ella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ángulo 1"/>
          <p:cNvSpPr/>
          <p:nvPr/>
        </p:nvSpPr>
        <p:spPr>
          <a:xfrm>
            <a:off x="1042920" y="2060640"/>
            <a:ext cx="69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como si no tuviera buenas intenciones para con ellos,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uando el esfuerzo de su vida entera hubiese sido fomentar sus intereses y proporcionarles comodida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ángulo 1"/>
          <p:cNvSpPr/>
          <p:nvPr/>
        </p:nvSpPr>
        <p:spPr>
          <a:xfrm>
            <a:off x="1692360" y="2492280"/>
            <a:ext cx="574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uponed que dudaran de su amor: quebrantarían su coraz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ángulo 1"/>
          <p:cNvSpPr/>
          <p:nvPr/>
        </p:nvSpPr>
        <p:spPr>
          <a:xfrm>
            <a:off x="2124000" y="2138400"/>
            <a:ext cx="509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¿Cómo se sentiría un padre si así lo trataran sus hij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ángulo 1"/>
          <p:cNvSpPr/>
          <p:nvPr/>
        </p:nvSpPr>
        <p:spPr>
          <a:xfrm>
            <a:off x="1187280" y="1944720"/>
            <a:ext cx="667872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¿Y cómo puede mirarnos nuestro Padre celestial cuando desconfiamos de su amor, que le ha inducido a dar a su Hijo unigénito para que tengamos vid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ángulo 1"/>
          <p:cNvSpPr/>
          <p:nvPr/>
        </p:nvSpPr>
        <p:spPr>
          <a:xfrm>
            <a:off x="1692360" y="2025720"/>
            <a:ext cx="581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n cada uno de sus hijos, Jesús envía una carta al m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ángulo 1"/>
          <p:cNvSpPr/>
          <p:nvPr/>
        </p:nvSpPr>
        <p:spPr>
          <a:xfrm>
            <a:off x="1278000" y="2090880"/>
            <a:ext cx="65340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apóstol dice: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"El que ni aun a su propio Hijo perdonó, sino que le entregó por todos nosotros, ¿cómo no nos ha de dar también de pura gracia todas las cosas?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Romanos 3: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ángulo 1"/>
          <p:cNvSpPr/>
          <p:nvPr/>
        </p:nvSpPr>
        <p:spPr>
          <a:xfrm>
            <a:off x="1349280" y="2201760"/>
            <a:ext cx="65358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Y sin embargo, cuántos están diciendo con sus hechos si no con sus palabras: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El Señor no dijo esto para mí. Tal vez ame a otros, pero a mí no me ama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ángulo 1"/>
          <p:cNvSpPr/>
          <p:nvPr/>
        </p:nvSpPr>
        <p:spPr>
          <a:xfrm>
            <a:off x="1781280" y="2016000"/>
            <a:ext cx="55274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Todo esto esta destruyendo vuestra propia alma, pues cada palabra de duda que proferís da lugar a las tentaciones de Sataná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ángulo 1"/>
          <p:cNvSpPr/>
          <p:nvPr/>
        </p:nvSpPr>
        <p:spPr>
          <a:xfrm>
            <a:off x="1763640" y="2179800"/>
            <a:ext cx="5526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hace crecer en vosotros la tendencia a dudar y es un agravio de parte vuestra a los ángeles ministrado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ángulo 1"/>
          <p:cNvSpPr/>
          <p:nvPr/>
        </p:nvSpPr>
        <p:spPr>
          <a:xfrm>
            <a:off x="1565280" y="2395440"/>
            <a:ext cx="588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uando Satanás os tiente, no salga de vosotros ninguna palabra de duda o tinieb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ángulo 2"/>
          <p:cNvSpPr/>
          <p:nvPr/>
        </p:nvSpPr>
        <p:spPr>
          <a:xfrm>
            <a:off x="1638360" y="2046240"/>
            <a:ext cx="5597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Si elegís abrir la puerta a sus sugestiones, se llenará vuestra mente de desconfianza y rebelió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ángulo 1"/>
          <p:cNvSpPr/>
          <p:nvPr/>
        </p:nvSpPr>
        <p:spPr>
          <a:xfrm>
            <a:off x="1547640" y="1882800"/>
            <a:ext cx="63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i habláis de vuestros sentimientos, cada duda que expreséis no reaccionará solamente sobre vosotros, sino que será una semilla que germinar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ángulo 1"/>
          <p:cNvSpPr/>
          <p:nvPr/>
        </p:nvSpPr>
        <p:spPr>
          <a:xfrm>
            <a:off x="1655640" y="1989000"/>
            <a:ext cx="55803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y dará fruto en la vida de otros, y tal vez sea imposible contrarrestar la influencia de vuestras palabr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ángulo 1"/>
          <p:cNvSpPr/>
          <p:nvPr/>
        </p:nvSpPr>
        <p:spPr>
          <a:xfrm>
            <a:off x="1133640" y="2209680"/>
            <a:ext cx="675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al vez podáis reponeros vosotros de la hora de la tentación y del lazo de Satan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ángulo 1"/>
          <p:cNvSpPr/>
          <p:nvPr/>
        </p:nvSpPr>
        <p:spPr>
          <a:xfrm>
            <a:off x="1619280" y="1935000"/>
            <a:ext cx="590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as puede ser que otros que hayan sido dominados por vuestra influencia, no puedan escapar de la incredulidad que hayáis  insinu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ángulo 1"/>
          <p:cNvSpPr/>
          <p:nvPr/>
        </p:nvSpPr>
        <p:spPr>
          <a:xfrm>
            <a:off x="1619280" y="2205000"/>
            <a:ext cx="624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 sois discípulos de Cristo, él envía en vosotros una carta a la familia, al pueblo, a la calle donde viví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ángulo 1"/>
          <p:cNvSpPr/>
          <p:nvPr/>
        </p:nvSpPr>
        <p:spPr>
          <a:xfrm>
            <a:off x="1763640" y="1989000"/>
            <a:ext cx="55990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Calibri"/>
              </a:rPr>
              <a:t>¡Cuanto importa que hablemos solamente las cosas que den fuerza espiritual y vida!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ángulo 1"/>
          <p:cNvSpPr/>
          <p:nvPr/>
        </p:nvSpPr>
        <p:spPr>
          <a:xfrm>
            <a:off x="1584360" y="2317680"/>
            <a:ext cx="59403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Calibri"/>
              </a:rPr>
              <a:t>Los ángeles están atentos para oír qué clase de informe dais al mundo acerca de vuestro Seño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ángulo 1"/>
          <p:cNvSpPr/>
          <p:nvPr/>
        </p:nvSpPr>
        <p:spPr>
          <a:xfrm>
            <a:off x="1565280" y="2282760"/>
            <a:ext cx="595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nversad de Aquel que vive para interceder por nosotros ante el Pad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ángulo 1"/>
          <p:cNvSpPr/>
          <p:nvPr/>
        </p:nvSpPr>
        <p:spPr>
          <a:xfrm>
            <a:off x="1781280" y="2349360"/>
            <a:ext cx="54547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Esté la alabanza de Dios en vuestros labios y corazones cuando estrechéis la mano de un amig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ángulo 1"/>
          <p:cNvSpPr/>
          <p:nvPr/>
        </p:nvSpPr>
        <p:spPr>
          <a:xfrm>
            <a:off x="1908000" y="2492280"/>
            <a:ext cx="545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o atraerá sus pensamientos a Jesú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ángulo 1"/>
          <p:cNvSpPr/>
          <p:nvPr/>
        </p:nvSpPr>
        <p:spPr>
          <a:xfrm>
            <a:off x="1692360" y="2128680"/>
            <a:ext cx="559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odos tenemos pruebas, aflicciones duras que sobrellevar y tentaciones fuertes que resist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ángulo 1"/>
          <p:cNvSpPr/>
          <p:nvPr/>
        </p:nvSpPr>
        <p:spPr>
          <a:xfrm>
            <a:off x="1709640" y="2209680"/>
            <a:ext cx="552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ero no las contéis a los mortales, antes llevad todo a Dios en o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ángulo 1"/>
          <p:cNvSpPr/>
          <p:nvPr/>
        </p:nvSpPr>
        <p:spPr>
          <a:xfrm>
            <a:off x="1781280" y="2282760"/>
            <a:ext cx="559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engamos por regla el no proferir nunca palabras de duda o desal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ángulo 1"/>
          <p:cNvSpPr/>
          <p:nvPr/>
        </p:nvSpPr>
        <p:spPr>
          <a:xfrm>
            <a:off x="1476360" y="1916280"/>
            <a:ext cx="62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Si hablamos palabras de santo gozo y de esperanza, podremos hacer mucho más para alumbrar el camino de otros y fortalecer sus esfuerz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ángulo 1"/>
          <p:cNvSpPr/>
          <p:nvPr/>
        </p:nvSpPr>
        <p:spPr>
          <a:xfrm>
            <a:off x="1295280" y="2021040"/>
            <a:ext cx="65167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Calibri"/>
              </a:rPr>
              <a:t>Hay muchas almas valientes, en extremo acosadas por la tentación, casi a punto de desmayar en el conflicto que sostienen con ellas mismas y con las potencias del m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ángulo 1"/>
          <p:cNvSpPr/>
          <p:nvPr/>
        </p:nvSpPr>
        <p:spPr>
          <a:xfrm>
            <a:off x="1619280" y="2098800"/>
            <a:ext cx="588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Jesús que mora en vosotros, quiere hablar a los corazones que no lo conoc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ángulo 1"/>
          <p:cNvSpPr/>
          <p:nvPr/>
        </p:nvSpPr>
        <p:spPr>
          <a:xfrm>
            <a:off x="1187280" y="2087640"/>
            <a:ext cx="67503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No las desalentéis en su dura lucha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legradlas con palabras de valor, ricas en esperanza, que las impulsen por su cam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ángulo 1"/>
          <p:cNvSpPr/>
          <p:nvPr/>
        </p:nvSpPr>
        <p:spPr>
          <a:xfrm>
            <a:off x="1476360" y="2077920"/>
            <a:ext cx="6120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e este modo la luz de Cristo resplandecerá en vosotros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Ninguno de nosotros vive para sí"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Romanos 14: 7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ángulo 1"/>
          <p:cNvSpPr/>
          <p:nvPr/>
        </p:nvSpPr>
        <p:spPr>
          <a:xfrm>
            <a:off x="1116000" y="2205000"/>
            <a:ext cx="682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or vuestra influencia inconsciente pueden los demás ser alentados y fortalec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ángulo 1"/>
          <p:cNvSpPr/>
          <p:nvPr/>
        </p:nvSpPr>
        <p:spPr>
          <a:xfrm>
            <a:off x="1494000" y="2349360"/>
            <a:ext cx="610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ueden ser desanimados y apartados de Cristo y de la ver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ángulo 1"/>
          <p:cNvSpPr/>
          <p:nvPr/>
        </p:nvSpPr>
        <p:spPr>
          <a:xfrm>
            <a:off x="1440000" y="2349360"/>
            <a:ext cx="63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Hay muchos que tienen ideas muy erróneas sobre la vida y el carácter de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ángulo 1"/>
          <p:cNvSpPr/>
          <p:nvPr/>
        </p:nvSpPr>
        <p:spPr>
          <a:xfrm>
            <a:off x="1619280" y="2282760"/>
            <a:ext cx="58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iensan que carecía de calor y alegría, que era austero, severo y tris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ángulo 1"/>
          <p:cNvSpPr/>
          <p:nvPr/>
        </p:nvSpPr>
        <p:spPr>
          <a:xfrm>
            <a:off x="1709640" y="2492280"/>
            <a:ext cx="567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ara muchos toda la vida religiosa se presenta bajo este aspecto sombrí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ángulo 1"/>
          <p:cNvSpPr/>
          <p:nvPr/>
        </p:nvSpPr>
        <p:spPr>
          <a:xfrm>
            <a:off x="1494000" y="2282760"/>
            <a:ext cx="617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e dice a menudo que Jesús lloraba, pero que nunca se supo que haya sonreí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ángulo 1"/>
          <p:cNvSpPr/>
          <p:nvPr/>
        </p:nvSpPr>
        <p:spPr>
          <a:xfrm>
            <a:off x="1638360" y="2025720"/>
            <a:ext cx="574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uestro Salvador fue a la verdad un varón de tristezas y d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ángulo 1"/>
          <p:cNvSpPr/>
          <p:nvPr/>
        </p:nvSpPr>
        <p:spPr>
          <a:xfrm>
            <a:off x="1638360" y="2025720"/>
            <a:ext cx="588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orque abrió su corazón a todas las miserias de los homb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ángulo 1"/>
          <p:cNvSpPr/>
          <p:nvPr/>
        </p:nvSpPr>
        <p:spPr>
          <a:xfrm>
            <a:off x="1476360" y="2179800"/>
            <a:ext cx="61549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Tal vez no leen la Biblia o no oyen la voz que les habla en sus páginas; no ven el amor de Dios en sus obr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ángulo 1"/>
          <p:cNvSpPr/>
          <p:nvPr/>
        </p:nvSpPr>
        <p:spPr>
          <a:xfrm>
            <a:off x="1800360" y="2190600"/>
            <a:ext cx="5580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Pero aunque su vida era abnegada y llena de dolores y cuidados, su espíritu no quedaba abrumado por ell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ángulo 1"/>
          <p:cNvSpPr/>
          <p:nvPr/>
        </p:nvSpPr>
        <p:spPr>
          <a:xfrm>
            <a:off x="1979640" y="2349360"/>
            <a:ext cx="552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n su rostro no se veía una expresión de amargura o d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ángulo 1"/>
          <p:cNvSpPr/>
          <p:nvPr/>
        </p:nvSpPr>
        <p:spPr>
          <a:xfrm>
            <a:off x="1709640" y="2060640"/>
            <a:ext cx="588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no siempre de paz y seren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u corazón era un manantial de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ángulo 1"/>
          <p:cNvSpPr/>
          <p:nvPr/>
        </p:nvSpPr>
        <p:spPr>
          <a:xfrm>
            <a:off x="1781280" y="2025720"/>
            <a:ext cx="567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dondequiera iba, llevaba descanso y paz, gozo y aleg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ángulo 1"/>
          <p:cNvSpPr/>
          <p:nvPr/>
        </p:nvSpPr>
        <p:spPr>
          <a:xfrm>
            <a:off x="1349280" y="239544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Nuestro Salvador fue profunda e intensamente serio, pero nunca sombrío o hurañ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ángulo 1"/>
          <p:cNvSpPr/>
          <p:nvPr/>
        </p:nvSpPr>
        <p:spPr>
          <a:xfrm>
            <a:off x="1565280" y="2209680"/>
            <a:ext cx="581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 vida de los que lo imitan estará por cierto llena de propósitos se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ángulo 1"/>
          <p:cNvSpPr/>
          <p:nvPr/>
        </p:nvSpPr>
        <p:spPr>
          <a:xfrm>
            <a:off x="1476360" y="2241720"/>
            <a:ext cx="608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endrán un profundo sentido de su responsabilidad 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ángulo 1"/>
          <p:cNvSpPr/>
          <p:nvPr/>
        </p:nvSpPr>
        <p:spPr>
          <a:xfrm>
            <a:off x="1619280" y="2486160"/>
            <a:ext cx="57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eprimirán la inconsiderada livian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ángulo 1"/>
          <p:cNvSpPr/>
          <p:nvPr/>
        </p:nvSpPr>
        <p:spPr>
          <a:xfrm>
            <a:off x="1835280" y="2349360"/>
            <a:ext cx="55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ntre ellos no habrá júbilo tumultuoso, ni bromas groseras; pues la religión de Jesús da paz como un rí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ángulo 1"/>
          <p:cNvSpPr/>
          <p:nvPr/>
        </p:nvSpPr>
        <p:spPr>
          <a:xfrm>
            <a:off x="1709640" y="1954080"/>
            <a:ext cx="581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extingue la luz del gozo, ni impide la jovialidad, ni oscurece el rostro alegre y sonr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21:08:48Z</dcterms:created>
  <dc:creator>Orlando Rosales</dc:creator>
  <dc:description/>
  <dc:language>en-US</dc:language>
  <cp:lastModifiedBy>Karina de Martin</cp:lastModifiedBy>
  <dcterms:modified xsi:type="dcterms:W3CDTF">2017-03-14T15:52:47Z</dcterms:modified>
  <cp:revision>39</cp:revision>
  <dc:subject/>
  <dc:title>CAPÍTULO 13. La Fuente de Regocijo y Felicidad </dc:title>
</cp:coreProperties>
</file>