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F5048-BBCA-45D9-B5D3-E73FA6177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D62C5-2664-4927-B00B-D6BFB3FFE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83B42-C151-499C-A1C9-25345BEE6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EBBBC-4CA7-4D25-A27D-3239E21AC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676E3-4D84-4B77-BB46-B5B7CC68B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DF276-DB88-4064-9FC9-BF4BC3483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F15FA-2D09-4A86-9D55-FDAAC5D28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545FB-DE09-44C1-8E63-4E9E3C0FD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F5AF3-59DD-451A-9F85-C67AB74D9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EA6FC-22C8-4981-A30E-F3364F9B6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84DB3-ACC9-4B28-B7D7-097DE3491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A6FC-1FFF-4AFA-A2ED-9B17B2804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AFB98-927B-477C-9879-08869D355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289B3-5658-4427-9592-2615F3D37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BA878-AE68-4D84-A427-68C5EC5C9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52165-8EF0-4D35-9FE6-AFFCFD91C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D3B5D-A5DA-4FB6-A2B2-30CE21315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74A0A6-208C-4692-BFA3-24A978C79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C89A5-A5FC-4ACB-9306-F0B5CFF96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4E723-CA18-4B6D-A532-84B029AF6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BA6E3-80BB-42FE-973F-006CAF0CC6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5B6B2-C008-4DFE-B5FB-66B331E6D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268DB-292D-46DE-B01E-0E50605CE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1D62D-2775-4594-B658-25FB7D24A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8FD36-E34D-4D50-B350-040D95627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CA7E5D-201C-4A14-8C8D-E2D57E854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06C46-FA43-4D1D-9E87-D06FC6582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3D2B68-BCB8-410D-AAE0-B7A369AA63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F9B8B7-1260-4FDE-B0E7-1EB8AD9A88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49BDCF-AC89-41A7-BB5D-365C850D39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F3D63F-5634-4EB3-9495-98ADE4BAB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2B04EE-E9DB-4FF2-AC44-215FFA989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DEBD07-1E6A-4F8F-80BE-1AB54D5620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AD0B-15FD-4268-9786-C61108A79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3A1FB9-5375-4902-B2A7-171DFC643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B03C9-5E0A-4FA6-B271-0AFCD0A009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A0A2F9-7F2A-40A3-B198-A5B1A539D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492F8-9A8F-4301-8831-717E9B872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1F5E9-31FB-49F8-89E8-00506F47E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60F158-2814-453A-88AD-2E2BC3031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27AEE-A9AB-4E4B-8154-578C1C0BE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D0D036-D2F2-471D-B9A7-CDC0D0223D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8CC1A8-840C-4DCE-8E1B-8F218CF830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00701-0847-4FDE-861A-BAB530542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B9E84-A1DA-4EFF-8A40-E709CFD58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BA82-7C7A-4AB3-AE5C-F78EAC4D0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8AD7-E2C3-4F60-8768-13DB44B23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127FF-AFAB-456D-9BE4-233F9CF36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2D75-520E-4F72-BAF4-1C296CFF7707}" type="slidenum">
              <a:rPr b="0" lang="es-E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87DE-FC33-4D6A-98C0-C3296752CABC}" type="slidenum">
              <a:rPr b="0" lang="es-E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B841-6F09-4D5A-BBBF-0846DA2887D3}" type="slidenum">
              <a:rPr b="0" lang="es-E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D812-211D-4894-83DA-5912B8B60797}" type="slidenum">
              <a:rPr b="0" lang="es-E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ángulo 1"/>
          <p:cNvSpPr/>
          <p:nvPr/>
        </p:nvSpPr>
        <p:spPr>
          <a:xfrm>
            <a:off x="611280" y="1420920"/>
            <a:ext cx="6751440" cy="259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entury Gothic"/>
              </a:rPr>
              <a:t>- CÓMO LOGRAR UNA -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Century Gothic"/>
              </a:rPr>
              <a:t>MAGNÍFICA RENOVACIÓN</a:t>
            </a:r>
            <a:endParaRPr b="0" lang="en-US" sz="6000" spc="-1" strike="noStrike">
              <a:solidFill>
                <a:srgbClr val="000000"/>
              </a:solidFill>
              <a:latin typeface="Arial"/>
            </a:endParaRPr>
          </a:p>
        </p:txBody>
      </p:sp>
      <p:sp>
        <p:nvSpPr>
          <p:cNvPr id="213" name="Rectángulo 2"/>
          <p:cNvSpPr/>
          <p:nvPr/>
        </p:nvSpPr>
        <p:spPr>
          <a:xfrm>
            <a:off x="707400" y="4149720"/>
            <a:ext cx="6860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Baskerville Old Face"/>
              </a:rPr>
              <a:t>PRIMAVERA  ETERNA</a:t>
            </a:r>
            <a:endParaRPr b="0" lang="en-US" sz="5400" spc="-1" strike="noStrike">
              <a:solidFill>
                <a:srgbClr val="000000"/>
              </a:solidFill>
              <a:latin typeface="Arial"/>
            </a:endParaRPr>
          </a:p>
        </p:txBody>
      </p:sp>
      <p:sp>
        <p:nvSpPr>
          <p:cNvPr id="214" name="Conector recto 6"/>
          <p:cNvSpPr/>
          <p:nvPr/>
        </p:nvSpPr>
        <p:spPr>
          <a:xfrm>
            <a:off x="630360" y="4149720"/>
            <a:ext cx="675000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215" name="Conector recto 10"/>
          <p:cNvSpPr/>
          <p:nvPr/>
        </p:nvSpPr>
        <p:spPr>
          <a:xfrm>
            <a:off x="684360" y="5013360"/>
            <a:ext cx="675000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ángulo 1"/>
          <p:cNvSpPr/>
          <p:nvPr/>
        </p:nvSpPr>
        <p:spPr>
          <a:xfrm>
            <a:off x="504720" y="2038320"/>
            <a:ext cx="680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000000"/>
                </a:solidFill>
                <a:latin typeface="Calibri"/>
              </a:rPr>
              <a:t>Cuando el corazón ha sido renovado por el Espíritu de Dios, el hecho se manifiesta en la vid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ángulo 1"/>
          <p:cNvSpPr/>
          <p:nvPr/>
        </p:nvSpPr>
        <p:spPr>
          <a:xfrm>
            <a:off x="684360" y="1790640"/>
            <a:ext cx="6912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 os entregáis a Él y lo aceptáis como vuestro Salvador, por pecaminosa que haya sido vuestra vida, seréis contados entre los justos por consideración a É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ángulo 1"/>
          <p:cNvSpPr/>
          <p:nvPr/>
        </p:nvSpPr>
        <p:spPr>
          <a:xfrm>
            <a:off x="1187280" y="1811160"/>
            <a:ext cx="617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carácter de Cristo toma el lugar del vuestro, y vosotros sois aceptados por Dios como si no hubierais peca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ángulo 1"/>
          <p:cNvSpPr/>
          <p:nvPr/>
        </p:nvSpPr>
        <p:spPr>
          <a:xfrm>
            <a:off x="1655640" y="1749600"/>
            <a:ext cx="6012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Más aún, Cristo cambia el corazón. Habita en vuestro corazón por la f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ángulo 1"/>
          <p:cNvSpPr/>
          <p:nvPr/>
        </p:nvSpPr>
        <p:spPr>
          <a:xfrm>
            <a:off x="990720" y="1989000"/>
            <a:ext cx="6245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béis mantener esta comunión con Cristo por la fe y la sumisión continua de vuestra voluntad a É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ángulo 1"/>
          <p:cNvSpPr/>
          <p:nvPr/>
        </p:nvSpPr>
        <p:spPr>
          <a:xfrm>
            <a:off x="1062000" y="1779480"/>
            <a:ext cx="5958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mientras hagáis esto, él obrará en vosotros para que queráis y hagáis conforme a su volunt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ángulo 1"/>
          <p:cNvSpPr/>
          <p:nvPr/>
        </p:nvSpPr>
        <p:spPr>
          <a:xfrm>
            <a:off x="1008000" y="1649520"/>
            <a:ext cx="6372360" cy="369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sí podéis deci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t>
            </a:r>
            <a:r>
              <a:rPr b="1" lang="es-ES" sz="3600" spc="-1" strike="noStrike">
                <a:solidFill>
                  <a:srgbClr val="000000"/>
                </a:solidFill>
                <a:latin typeface="Calibri"/>
              </a:rPr>
              <a:t>Aquella vida que ahora vivo en la carne, la vivo por la fe en el Hijo de Dios, el cual me amó, y se dio a sí mismo por mí”</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Gálatas 2: 20 )</a:t>
            </a:r>
            <a:br>
              <a:rPr sz="32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ángulo 1"/>
          <p:cNvSpPr/>
          <p:nvPr/>
        </p:nvSpPr>
        <p:spPr>
          <a:xfrm>
            <a:off x="792000" y="2201760"/>
            <a:ext cx="6659640" cy="265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sí dijo Jesús a sus discípulo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t>
            </a:r>
            <a:r>
              <a:rPr b="1" lang="es-ES" sz="3600" spc="-1" strike="noStrike">
                <a:solidFill>
                  <a:srgbClr val="000000"/>
                </a:solidFill>
                <a:latin typeface="Calibri"/>
              </a:rPr>
              <a:t>No sois vosotros quienes habláis, sino el Espíritu de vuestro Padre que habla en vosotro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teo 10: 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ángulo 1"/>
          <p:cNvSpPr/>
          <p:nvPr/>
        </p:nvSpPr>
        <p:spPr>
          <a:xfrm>
            <a:off x="1278000" y="1698480"/>
            <a:ext cx="61736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 modo que si Cristo obra en vosotros, manifestaréis el mismo espíritu y haréis las mismas obras: obras de justicia y obedienc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ángulo 1"/>
          <p:cNvSpPr/>
          <p:nvPr/>
        </p:nvSpPr>
        <p:spPr>
          <a:xfrm>
            <a:off x="1584360" y="2128680"/>
            <a:ext cx="57243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Así pues no hay nada en nosotros mismos de que jactarn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ángulo 1"/>
          <p:cNvSpPr/>
          <p:nvPr/>
        </p:nvSpPr>
        <p:spPr>
          <a:xfrm>
            <a:off x="1258920" y="2363760"/>
            <a:ext cx="6246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No tenemos motivo para ensalzarnos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ángulo 1"/>
          <p:cNvSpPr/>
          <p:nvPr/>
        </p:nvSpPr>
        <p:spPr>
          <a:xfrm>
            <a:off x="900000" y="1771560"/>
            <a:ext cx="6408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0000"/>
                </a:solidFill>
                <a:latin typeface="Calibri"/>
              </a:rPr>
              <a:t>Al paso que no podemos hacer nada par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0000"/>
                </a:solidFill>
                <a:latin typeface="Calibri"/>
              </a:rPr>
              <a:t>cambiar nuestro corazón, ni para ponernos en armonía con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ángulo 1"/>
          <p:cNvSpPr/>
          <p:nvPr/>
        </p:nvSpPr>
        <p:spPr>
          <a:xfrm>
            <a:off x="917640" y="1862280"/>
            <a:ext cx="6462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l único fundamento de nuestra esperanza es la justicia de Cristo imputada a nosotros y la que produce su Espíritu obrando en nosotros y por noso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ángulo 1"/>
          <p:cNvSpPr/>
          <p:nvPr/>
        </p:nvSpPr>
        <p:spPr>
          <a:xfrm>
            <a:off x="1206360" y="2170080"/>
            <a:ext cx="617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uando hablamos de la fe debemos tener siempre presente una distin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ángulo 1"/>
          <p:cNvSpPr/>
          <p:nvPr/>
        </p:nvSpPr>
        <p:spPr>
          <a:xfrm>
            <a:off x="1494000" y="2151000"/>
            <a:ext cx="5814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Hay una clase de creencia enteramente distinta de la f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ángulo 1"/>
          <p:cNvSpPr/>
          <p:nvPr/>
        </p:nvSpPr>
        <p:spPr>
          <a:xfrm>
            <a:off x="1206360" y="1555920"/>
            <a:ext cx="62452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existencia y el poder de Dios, la verdad de su Palabra, son hechos que aun Satanás y sus huestes no pueden negar de coraz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ángulo 1"/>
          <p:cNvSpPr/>
          <p:nvPr/>
        </p:nvSpPr>
        <p:spPr>
          <a:xfrm>
            <a:off x="1062000" y="1658880"/>
            <a:ext cx="653436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Biblia dice qu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os demonios lo creen, y tiembla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ntiago 2: 19)</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ero ésta no es f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ángulo 1"/>
          <p:cNvSpPr/>
          <p:nvPr/>
        </p:nvSpPr>
        <p:spPr>
          <a:xfrm>
            <a:off x="1349280" y="1882800"/>
            <a:ext cx="617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onde no sólo hay una creencia en la Palabra de Dios, sino una sumisión de la voluntad a É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ángulo 1"/>
          <p:cNvSpPr/>
          <p:nvPr/>
        </p:nvSpPr>
        <p:spPr>
          <a:xfrm>
            <a:off x="1622520" y="1698480"/>
            <a:ext cx="56134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onde se le da a él el corazón y los afectos se fijan en Él, allí hay fe, fe que obra por el amor y purifica el al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ángulo 1"/>
          <p:cNvSpPr/>
          <p:nvPr/>
        </p:nvSpPr>
        <p:spPr>
          <a:xfrm>
            <a:off x="1835280" y="1916280"/>
            <a:ext cx="509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Mediante esta fe, el corazón se renueva conforme a la imagen de D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ángulo 1"/>
          <p:cNvSpPr/>
          <p:nvPr/>
        </p:nvSpPr>
        <p:spPr>
          <a:xfrm>
            <a:off x="936720" y="1555920"/>
            <a:ext cx="6372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el corazón que en su estado carnal no se sujetaba a la ley de Dios ni tampoco podía, se deleita después en sus santos precep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ángulo 1"/>
          <p:cNvSpPr/>
          <p:nvPr/>
        </p:nvSpPr>
        <p:spPr>
          <a:xfrm>
            <a:off x="846000" y="1936800"/>
            <a:ext cx="6462720" cy="326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iciendo con el salmist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Oh cuánto amo tu ley! todo el día es ella mi meditació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lmo 119: 9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ángulo 1"/>
          <p:cNvSpPr/>
          <p:nvPr/>
        </p:nvSpPr>
        <p:spPr>
          <a:xfrm>
            <a:off x="1042920" y="1852560"/>
            <a:ext cx="6337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0000"/>
                </a:solidFill>
                <a:latin typeface="Calibri"/>
              </a:rPr>
              <a:t>Al paso que no debemos confiar para nada en nosotros ni en nuestras buenas ob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ángulo 1"/>
          <p:cNvSpPr/>
          <p:nvPr/>
        </p:nvSpPr>
        <p:spPr>
          <a:xfrm>
            <a:off x="1494000" y="1136520"/>
            <a:ext cx="5814720" cy="44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Y la justicia de la ley se cumple en nosotros, los que no andamo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conforme a la carne, mas conforme al espíritu”</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Romanos 8: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ángulo 1"/>
          <p:cNvSpPr/>
          <p:nvPr/>
        </p:nvSpPr>
        <p:spPr>
          <a:xfrm>
            <a:off x="1871640" y="1698480"/>
            <a:ext cx="52214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Hay quienes han conocido el amor perdonador de Cristo y desean realmente ser hijos de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ángulo 1"/>
          <p:cNvSpPr/>
          <p:nvPr/>
        </p:nvSpPr>
        <p:spPr>
          <a:xfrm>
            <a:off x="1422360" y="1996920"/>
            <a:ext cx="5742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in embargo, reconocen que su carácter es imperfecto y su vida defectuo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ángulo 1"/>
          <p:cNvSpPr/>
          <p:nvPr/>
        </p:nvSpPr>
        <p:spPr>
          <a:xfrm>
            <a:off x="1403280" y="1954080"/>
            <a:ext cx="5977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están propensos a dudar de que sus corazones hayan sido regenerados por el Espíritu San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ángulo 1"/>
          <p:cNvSpPr/>
          <p:nvPr/>
        </p:nvSpPr>
        <p:spPr>
          <a:xfrm>
            <a:off x="1781280" y="1844640"/>
            <a:ext cx="53118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 los tales quiero decirles que no se abandonen a la desesper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ángulo 1"/>
          <p:cNvSpPr/>
          <p:nvPr/>
        </p:nvSpPr>
        <p:spPr>
          <a:xfrm>
            <a:off x="1925640" y="1771560"/>
            <a:ext cx="5094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Tenemos a menudo que postrarnos y llorar a los pies de Jesús por causa de nuestras culpas y erro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ángulo 1"/>
          <p:cNvSpPr/>
          <p:nvPr/>
        </p:nvSpPr>
        <p:spPr>
          <a:xfrm>
            <a:off x="1763640" y="2178000"/>
            <a:ext cx="5364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pero no debemos desanimarn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ángulo 1"/>
          <p:cNvSpPr/>
          <p:nvPr/>
        </p:nvSpPr>
        <p:spPr>
          <a:xfrm>
            <a:off x="1332000" y="1698480"/>
            <a:ext cx="5886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un si somos vencidos por el enemigo, no somos arrojados, ni abandonados, ni rechazados por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ángulo 1"/>
          <p:cNvSpPr/>
          <p:nvPr/>
        </p:nvSpPr>
        <p:spPr>
          <a:xfrm>
            <a:off x="1638360" y="2151000"/>
            <a:ext cx="5597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o, Cristo está a la diestra de Dios e intercede por nosotr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ángulo 1"/>
          <p:cNvSpPr/>
          <p:nvPr/>
        </p:nvSpPr>
        <p:spPr>
          <a:xfrm>
            <a:off x="1206360" y="1442880"/>
            <a:ext cx="5958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Dice el discípulo amad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stas cosas os escribo, para que no pequéis. Y si alguno pecare, abogado tenemos para con el Padre, a saber, a Jesucristo el Jus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Juan 2: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ángulo 1"/>
          <p:cNvSpPr/>
          <p:nvPr/>
        </p:nvSpPr>
        <p:spPr>
          <a:xfrm>
            <a:off x="826920" y="2349360"/>
            <a:ext cx="64818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000000"/>
                </a:solidFill>
                <a:latin typeface="Calibri"/>
              </a:rPr>
              <a:t>Nuestras vidas han de revelar si la gracia de  Dios mora en nosotro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ángulo 1"/>
          <p:cNvSpPr/>
          <p:nvPr/>
        </p:nvSpPr>
        <p:spPr>
          <a:xfrm>
            <a:off x="1278000" y="1709640"/>
            <a:ext cx="595800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Y no olvidéis la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labras de Cristo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Porque el Padre mismo os ama”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n Juan 16: 27)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ángulo 1"/>
          <p:cNvSpPr/>
          <p:nvPr/>
        </p:nvSpPr>
        <p:spPr>
          <a:xfrm>
            <a:off x="1133640" y="1779480"/>
            <a:ext cx="624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quiere que os reconciliéis con él, quiere ver su pureza y santidad reflejadas en vosotr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ángulo 1"/>
          <p:cNvSpPr/>
          <p:nvPr/>
        </p:nvSpPr>
        <p:spPr>
          <a:xfrm>
            <a:off x="1565280" y="1719360"/>
            <a:ext cx="5670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si tan sólo queréis entregaros a él, el que comenzó en vosotros la buena obra la perfeccionará, hasta el día de Jesucris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ángulo 1"/>
          <p:cNvSpPr/>
          <p:nvPr/>
        </p:nvSpPr>
        <p:spPr>
          <a:xfrm>
            <a:off x="1494000" y="2343240"/>
            <a:ext cx="559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Orad con más fervor; creed más plename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ángulo 1"/>
          <p:cNvSpPr/>
          <p:nvPr/>
        </p:nvSpPr>
        <p:spPr>
          <a:xfrm>
            <a:off x="900000" y="1954080"/>
            <a:ext cx="6605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 medida que desconfiemos de nuestra propia fuerza, confiaremos en el poder de nuestro Reden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ángulo 1"/>
          <p:cNvSpPr/>
          <p:nvPr/>
        </p:nvSpPr>
        <p:spPr>
          <a:xfrm>
            <a:off x="1638360" y="2151000"/>
            <a:ext cx="5381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y luego alabaremos a Aquel que es la salud de nuestro rost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ángulo 1"/>
          <p:cNvSpPr/>
          <p:nvPr/>
        </p:nvSpPr>
        <p:spPr>
          <a:xfrm>
            <a:off x="2124000" y="1916280"/>
            <a:ext cx="4572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uanto más cerca estéis de Jesús, más imperfectos os reconoceré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ángulo 1"/>
          <p:cNvSpPr/>
          <p:nvPr/>
        </p:nvSpPr>
        <p:spPr>
          <a:xfrm>
            <a:off x="1042920" y="1916280"/>
            <a:ext cx="62658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orque veréis más claramente vuestros defectos a la luz del contraste de su perfecta naturalez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ángulo 1"/>
          <p:cNvSpPr/>
          <p:nvPr/>
        </p:nvSpPr>
        <p:spPr>
          <a:xfrm>
            <a:off x="1349280" y="1660680"/>
            <a:ext cx="60310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ta es una evidencia de que los engaños de Satanás han perdido su poder y de que el Espíritu de Dios os está despertan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ángulo 1"/>
          <p:cNvSpPr/>
          <p:nvPr/>
        </p:nvSpPr>
        <p:spPr>
          <a:xfrm>
            <a:off x="1422360" y="1738440"/>
            <a:ext cx="595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 puede existir amor profundo por Jesús en el corazón que no comprende su propia perversid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ángulo 1"/>
          <p:cNvSpPr/>
          <p:nvPr/>
        </p:nvSpPr>
        <p:spPr>
          <a:xfrm>
            <a:off x="611280" y="2492280"/>
            <a:ext cx="68943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Se notará un cambio en el carácter, en las costumbres y ocupacion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ángulo 1"/>
          <p:cNvSpPr/>
          <p:nvPr/>
        </p:nvSpPr>
        <p:spPr>
          <a:xfrm>
            <a:off x="1403280" y="1738440"/>
            <a:ext cx="5761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alma que se haya transformado por la gracia de Cristo, admirará su divino carác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ángulo 1"/>
          <p:cNvSpPr/>
          <p:nvPr/>
        </p:nvSpPr>
        <p:spPr>
          <a:xfrm>
            <a:off x="1692360" y="2060640"/>
            <a:ext cx="51656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Pero el no ver nuestra propia deformidad mor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ángulo 1"/>
          <p:cNvSpPr/>
          <p:nvPr/>
        </p:nvSpPr>
        <p:spPr>
          <a:xfrm>
            <a:off x="1547640" y="1882800"/>
            <a:ext cx="568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 una prueba inequívoca de que no hemos llegado a ver la belleza y excelencia de Cris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ángulo 1"/>
          <p:cNvSpPr/>
          <p:nvPr/>
        </p:nvSpPr>
        <p:spPr>
          <a:xfrm>
            <a:off x="1619280" y="202572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Mientras menos cosas dignas de estima veamos en nosotr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ángulo 1"/>
          <p:cNvSpPr/>
          <p:nvPr/>
        </p:nvSpPr>
        <p:spPr>
          <a:xfrm>
            <a:off x="1655640" y="2098800"/>
            <a:ext cx="5292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ás encontraremos que estimar en la pureza y santidad infinitas de nuestro Salvad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ángulo 1"/>
          <p:cNvSpPr/>
          <p:nvPr/>
        </p:nvSpPr>
        <p:spPr>
          <a:xfrm>
            <a:off x="1278000" y="1882800"/>
            <a:ext cx="6173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Una idea de nuestra pecaminosidad nos puede guiar a Aquel que nos puede perdon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ángulo 1"/>
          <p:cNvSpPr/>
          <p:nvPr/>
        </p:nvSpPr>
        <p:spPr>
          <a:xfrm>
            <a:off x="1422360" y="1698480"/>
            <a:ext cx="5742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cuando, comprendiendo nuestra impotencia, nos esforcemos en seguir a Cristo, él se nos revelará con pod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ángulo 1"/>
          <p:cNvSpPr/>
          <p:nvPr/>
        </p:nvSpPr>
        <p:spPr>
          <a:xfrm>
            <a:off x="917640" y="1924200"/>
            <a:ext cx="6391080" cy="27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anto más nos guíe la necesidad a Él y a la Palabra de Dios, </a:t>
            </a:r>
            <a:r>
              <a:rPr b="1" lang="es-ES" sz="3600" spc="-1" strike="noStrike">
                <a:solidFill>
                  <a:srgbClr val="000000"/>
                </a:solidFill>
                <a:latin typeface="Calibri"/>
              </a:rPr>
              <a:t>tanto más elevada visión tendremos de su carácter y más plenamente reflejaremos su imag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ángulo 1"/>
          <p:cNvSpPr/>
          <p:nvPr/>
        </p:nvSpPr>
        <p:spPr>
          <a:xfrm>
            <a:off x="1258920" y="1916280"/>
            <a:ext cx="5905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La diferencia será muy clara e inequívoca entre lo que han sido y lo que s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ángulo 1"/>
          <p:cNvSpPr/>
          <p:nvPr/>
        </p:nvSpPr>
        <p:spPr>
          <a:xfrm>
            <a:off x="773280" y="1924200"/>
            <a:ext cx="63198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carácter se da a conocer, no por las obras buenas o malas que de vez en cuando se ejecut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ángulo 1"/>
          <p:cNvSpPr/>
          <p:nvPr/>
        </p:nvSpPr>
        <p:spPr>
          <a:xfrm>
            <a:off x="1206360" y="2170080"/>
            <a:ext cx="5813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ino por la tendencia de las palabras y de los actos en la vida diar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ángulo 1"/>
          <p:cNvSpPr/>
          <p:nvPr/>
        </p:nvSpPr>
        <p:spPr>
          <a:xfrm>
            <a:off x="971640" y="2060640"/>
            <a:ext cx="63910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Es cierto que puede haber una corrección del comportamiento externo, </a:t>
            </a:r>
            <a:r>
              <a:rPr b="1" lang="es-ES" sz="4000" spc="-1" strike="noStrike">
                <a:solidFill>
                  <a:srgbClr val="000000"/>
                </a:solidFill>
                <a:latin typeface="Calibri"/>
              </a:rPr>
              <a:t>sin el poder regenerador de Cris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ángulo 1"/>
          <p:cNvSpPr/>
          <p:nvPr/>
        </p:nvSpPr>
        <p:spPr>
          <a:xfrm>
            <a:off x="971640" y="1989000"/>
            <a:ext cx="624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amor a la influencia y el deseo de la estimación de otros pueden producir una vida muy ordena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ángulo 2"/>
          <p:cNvSpPr/>
          <p:nvPr/>
        </p:nvSpPr>
        <p:spPr>
          <a:xfrm>
            <a:off x="755640" y="2048040"/>
            <a:ext cx="6534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I  ALGUNO está en Cristo, es una nueva criatura: las cosas viejas pasaron ya, he aquí que todo se ha hecho nuevo"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 Corintios 5: 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ángulo 1"/>
          <p:cNvSpPr/>
          <p:nvPr/>
        </p:nvSpPr>
        <p:spPr>
          <a:xfrm>
            <a:off x="1224000" y="2025720"/>
            <a:ext cx="5869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respeto propio puede impulsarnos a evitar la apariencia del m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ángulo 1"/>
          <p:cNvSpPr/>
          <p:nvPr/>
        </p:nvSpPr>
        <p:spPr>
          <a:xfrm>
            <a:off x="1403280" y="2057400"/>
            <a:ext cx="5616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Un corazón egoísta puede ejecutar obras generos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ángulo 1"/>
          <p:cNvSpPr/>
          <p:nvPr/>
        </p:nvSpPr>
        <p:spPr>
          <a:xfrm>
            <a:off x="863640" y="1989000"/>
            <a:ext cx="6732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De qué medio nos valdremos, entonces, para saber a qué clase pertenecem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ángulo 1"/>
          <p:cNvSpPr/>
          <p:nvPr/>
        </p:nvSpPr>
        <p:spPr>
          <a:xfrm>
            <a:off x="720720" y="2170080"/>
            <a:ext cx="6730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Quién posee nuestro corazón? ¿Con quién están nuestros pensamien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ángulo 1"/>
          <p:cNvSpPr/>
          <p:nvPr/>
        </p:nvSpPr>
        <p:spPr>
          <a:xfrm>
            <a:off x="826920" y="2098800"/>
            <a:ext cx="6516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 quién nos gusta hablar? ¿Para quién son nuestros más ardientes afectos y nuestras mejores energí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ángulo 1"/>
          <p:cNvSpPr/>
          <p:nvPr/>
        </p:nvSpPr>
        <p:spPr>
          <a:xfrm>
            <a:off x="900000" y="2027160"/>
            <a:ext cx="6408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i somos de Cristo, nuestros pensamientos están con él y nuestros más gratos pensamientos son para é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ángulo 1"/>
          <p:cNvSpPr/>
          <p:nvPr/>
        </p:nvSpPr>
        <p:spPr>
          <a:xfrm>
            <a:off x="1206360" y="2170080"/>
            <a:ext cx="5886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odo lo que tenemos y somos lo hemos consagrado a é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ángulo 1"/>
          <p:cNvSpPr/>
          <p:nvPr/>
        </p:nvSpPr>
        <p:spPr>
          <a:xfrm>
            <a:off x="1422360" y="2241720"/>
            <a:ext cx="5813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seamos vehementemente ser semejantes a é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ángulo 1"/>
          <p:cNvSpPr/>
          <p:nvPr/>
        </p:nvSpPr>
        <p:spPr>
          <a:xfrm>
            <a:off x="1422360" y="242100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ener su Espíritu, hacer su voluntad y agradarle en 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ángulo 2"/>
          <p:cNvSpPr/>
          <p:nvPr/>
        </p:nvSpPr>
        <p:spPr>
          <a:xfrm>
            <a:off x="1062000" y="1924200"/>
            <a:ext cx="624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os que son hechos nuevas criaturas en Cristo Jesús manifiestan los frutos del Espírit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ángulo 1"/>
          <p:cNvSpPr/>
          <p:nvPr/>
        </p:nvSpPr>
        <p:spPr>
          <a:xfrm>
            <a:off x="431640" y="2421000"/>
            <a:ext cx="7309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Tal vez alguno no Podrá decir el tiempo o el lugar exacto, ni trazar toda la cadena de circunstancias del proceso de su convers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ángulo 1"/>
          <p:cNvSpPr/>
          <p:nvPr/>
        </p:nvSpPr>
        <p:spPr>
          <a:xfrm>
            <a:off x="863640" y="1905120"/>
            <a:ext cx="637236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mor, gozo, paz, longanimidad, benignidad, bondad, fidelidad, mansedumbre, templanza"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Gálatas 5: 22, 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ángulo 1"/>
          <p:cNvSpPr/>
          <p:nvPr/>
        </p:nvSpPr>
        <p:spPr>
          <a:xfrm>
            <a:off x="792000" y="2170080"/>
            <a:ext cx="64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Ya no se conforman por más tiempo con las concupiscencias anterio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ángulo 1"/>
          <p:cNvSpPr/>
          <p:nvPr/>
        </p:nvSpPr>
        <p:spPr>
          <a:xfrm>
            <a:off x="1547640" y="2457360"/>
            <a:ext cx="5381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ino que por la fe del Hijo de Dios siguen sus pisad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ángulo 1"/>
          <p:cNvSpPr/>
          <p:nvPr/>
        </p:nvSpPr>
        <p:spPr>
          <a:xfrm>
            <a:off x="1278000" y="2241720"/>
            <a:ext cx="5815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reflejan su carácter y se purifican a sí mismos así como él es pu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ángulo 1"/>
          <p:cNvSpPr/>
          <p:nvPr/>
        </p:nvSpPr>
        <p:spPr>
          <a:xfrm>
            <a:off x="971640" y="1882800"/>
            <a:ext cx="6192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man ahora las cosas que en un tiempo aborrecían y aborrecen las cosas que en otro tiempo amab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ángulo 1"/>
          <p:cNvSpPr/>
          <p:nvPr/>
        </p:nvSpPr>
        <p:spPr>
          <a:xfrm>
            <a:off x="701640" y="2276640"/>
            <a:ext cx="6750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que era orgulloso y dominante, ahora es manso y humilde de coraz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ángulo 1"/>
          <p:cNvSpPr/>
          <p:nvPr/>
        </p:nvSpPr>
        <p:spPr>
          <a:xfrm>
            <a:off x="1619280" y="2205000"/>
            <a:ext cx="5310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que antes era vano y altanero, ahora es serio y discre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ángulo 1"/>
          <p:cNvSpPr/>
          <p:nvPr/>
        </p:nvSpPr>
        <p:spPr>
          <a:xfrm>
            <a:off x="863640" y="2313000"/>
            <a:ext cx="6372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que antes era borracho, ahora es sobrio y el que era libertino, pu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ángulo 1"/>
          <p:cNvSpPr/>
          <p:nvPr/>
        </p:nvSpPr>
        <p:spPr>
          <a:xfrm>
            <a:off x="1763640" y="2025720"/>
            <a:ext cx="5310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Han dejado las costumbres y modas vanas del mund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ángulo 1"/>
          <p:cNvSpPr/>
          <p:nvPr/>
        </p:nvSpPr>
        <p:spPr>
          <a:xfrm>
            <a:off x="755640" y="1792440"/>
            <a:ext cx="6480360" cy="326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cristianos no buscan </a:t>
            </a:r>
            <a:r>
              <a:rPr b="1" lang="es-ES" sz="3600" spc="-1" strike="noStrike">
                <a:solidFill>
                  <a:srgbClr val="000000"/>
                </a:solidFill>
                <a:latin typeface="Calibri"/>
              </a:rPr>
              <a:t>"el adorno exterior", </a:t>
            </a:r>
            <a:r>
              <a:rPr b="0" lang="es-ES" sz="3200" spc="-1" strike="noStrike">
                <a:solidFill>
                  <a:srgbClr val="000000"/>
                </a:solidFill>
                <a:latin typeface="Calibri"/>
              </a:rPr>
              <a:t>sino que </a:t>
            </a:r>
            <a:r>
              <a:rPr b="1" lang="es-ES" sz="3600" spc="-1" strike="noStrike">
                <a:solidFill>
                  <a:srgbClr val="000000"/>
                </a:solidFill>
                <a:latin typeface="Calibri"/>
              </a:rPr>
              <a:t>"sea adornado el hombre interior del corazón, con la ropa imperecedera de un espíritu manso y sosegad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 Pedro 3: 3,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ángulo 1"/>
          <p:cNvSpPr/>
          <p:nvPr/>
        </p:nvSpPr>
        <p:spPr>
          <a:xfrm>
            <a:off x="1512720" y="1851120"/>
            <a:ext cx="5580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pero esto no prueba que no se haya convertid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ángulo 1"/>
          <p:cNvSpPr/>
          <p:nvPr/>
        </p:nvSpPr>
        <p:spPr>
          <a:xfrm>
            <a:off x="846000" y="2068560"/>
            <a:ext cx="653436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o hay evidencia de arrepentimiento verdadero cuando no se produce una reforma en la vi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ángulo 1"/>
          <p:cNvSpPr/>
          <p:nvPr/>
        </p:nvSpPr>
        <p:spPr>
          <a:xfrm>
            <a:off x="1116000" y="2205000"/>
            <a:ext cx="6156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 restituye la prenda, devuelve lo que hubiere robado, confiesa sus pecados y ama a Dios y a su prójim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ángulo 1"/>
          <p:cNvSpPr/>
          <p:nvPr/>
        </p:nvSpPr>
        <p:spPr>
          <a:xfrm>
            <a:off x="1206360" y="2313000"/>
            <a:ext cx="6029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pecador puede estar seguro de que pasó de muerte a vi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ángulo 1"/>
          <p:cNvSpPr/>
          <p:nvPr/>
        </p:nvSpPr>
        <p:spPr>
          <a:xfrm>
            <a:off x="1278000" y="202572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uando venimos a Cristo, como seres errados y pecaminoso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ángulo 1"/>
          <p:cNvSpPr/>
          <p:nvPr/>
        </p:nvSpPr>
        <p:spPr>
          <a:xfrm>
            <a:off x="1116000" y="1989000"/>
            <a:ext cx="61927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y nos hacemos participantes de su gracia perdonadora, </a:t>
            </a:r>
            <a:r>
              <a:rPr b="1" lang="es-ES" sz="4400" spc="-1" strike="noStrike">
                <a:solidFill>
                  <a:srgbClr val="000000"/>
                </a:solidFill>
                <a:latin typeface="Calibri"/>
              </a:rPr>
              <a:t>nace en nuestro corazón el amor a É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ángulo 1"/>
          <p:cNvSpPr/>
          <p:nvPr/>
        </p:nvSpPr>
        <p:spPr>
          <a:xfrm>
            <a:off x="1422360" y="195264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oda carga resulta ligera; porque el yugo de Cristo es sua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ángulo 1"/>
          <p:cNvSpPr/>
          <p:nvPr/>
        </p:nvSpPr>
        <p:spPr>
          <a:xfrm>
            <a:off x="1565280" y="1952640"/>
            <a:ext cx="5527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uestros deberes se hacen deliciosos y los sacrificios, un goz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ángulo 1"/>
          <p:cNvSpPr/>
          <p:nvPr/>
        </p:nvSpPr>
        <p:spPr>
          <a:xfrm>
            <a:off x="846000" y="1832040"/>
            <a:ext cx="63900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El sendero que en el pasado nos parecía cubierto de tinieblas </a:t>
            </a:r>
            <a:r>
              <a:rPr b="1" lang="es-ES" sz="4400" spc="-1" strike="noStrike">
                <a:solidFill>
                  <a:srgbClr val="000000"/>
                </a:solidFill>
                <a:latin typeface="Calibri"/>
              </a:rPr>
              <a:t>ahora brilla con los rayos del Sol de Justi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ángulo 1"/>
          <p:cNvSpPr/>
          <p:nvPr/>
        </p:nvSpPr>
        <p:spPr>
          <a:xfrm>
            <a:off x="1547640" y="213372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belleza del carácter de Cristo se verá en los que le sigu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ángulo 1"/>
          <p:cNvSpPr/>
          <p:nvPr/>
        </p:nvSpPr>
        <p:spPr>
          <a:xfrm>
            <a:off x="1655640" y="2414520"/>
            <a:ext cx="5364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ra su delicia hacer la voluntad de Dio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ángulo 1"/>
          <p:cNvSpPr/>
          <p:nvPr/>
        </p:nvSpPr>
        <p:spPr>
          <a:xfrm>
            <a:off x="468360" y="1874880"/>
            <a:ext cx="6983280" cy="332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sto dijo a Nicodem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viento de donde quiere sopla, y oyes su sonido, mas no sabes de dónde viene, ni adónde va; así es todo aquel que es nacido del Espíritu"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n Juan 3: 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ángulo 1"/>
          <p:cNvSpPr/>
          <p:nvPr/>
        </p:nvSpPr>
        <p:spPr>
          <a:xfrm>
            <a:off x="971640" y="1779480"/>
            <a:ext cx="624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poder predominante en la vida de nuestro Salvador era el amor a Dios y el celo por su glor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ángulo 1"/>
          <p:cNvSpPr/>
          <p:nvPr/>
        </p:nvSpPr>
        <p:spPr>
          <a:xfrm>
            <a:off x="1619280" y="2025720"/>
            <a:ext cx="5383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amor embellecía y ennoblecía todas sus ac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ángulo 1"/>
          <p:cNvSpPr/>
          <p:nvPr/>
        </p:nvSpPr>
        <p:spPr>
          <a:xfrm>
            <a:off x="1403280" y="1924200"/>
            <a:ext cx="561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amor es de  Dios, no puede producirlo u originarlo el corazón inconver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ángulo 1"/>
          <p:cNvSpPr/>
          <p:nvPr/>
        </p:nvSpPr>
        <p:spPr>
          <a:xfrm>
            <a:off x="1295280" y="2386080"/>
            <a:ext cx="594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e encuentra solamente en el corazón donde Cristo rei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ángulo 1"/>
          <p:cNvSpPr/>
          <p:nvPr/>
        </p:nvSpPr>
        <p:spPr>
          <a:xfrm>
            <a:off x="1062000" y="2405160"/>
            <a:ext cx="6102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sotros amamos, por cuanto él nos amó primero"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Juan 4: 1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ángulo 1"/>
          <p:cNvSpPr/>
          <p:nvPr/>
        </p:nvSpPr>
        <p:spPr>
          <a:xfrm>
            <a:off x="1278000" y="1852560"/>
            <a:ext cx="58863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n el corazón regenerado por la gracia divina, el amor es el móvil de las ac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ángulo 1"/>
          <p:cNvSpPr/>
          <p:nvPr/>
        </p:nvSpPr>
        <p:spPr>
          <a:xfrm>
            <a:off x="826920" y="2128680"/>
            <a:ext cx="6553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Modifica el carácter, gobierna los impulsos, restringe las pasiones, domina la enemistad y ennoblece los afec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ángulo 1"/>
          <p:cNvSpPr/>
          <p:nvPr/>
        </p:nvSpPr>
        <p:spPr>
          <a:xfrm>
            <a:off x="684360" y="2243160"/>
            <a:ext cx="6730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te amor alimenta en el alma, endulza la vida y derrama una influencia purificador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 todo su derred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ángulo 1"/>
          <p:cNvSpPr/>
          <p:nvPr/>
        </p:nvSpPr>
        <p:spPr>
          <a:xfrm>
            <a:off x="1042920" y="1636560"/>
            <a:ext cx="61563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Hay dos errores contra los cuales los hijos de Dios, deben especialmente guardar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ángulo 1"/>
          <p:cNvSpPr/>
          <p:nvPr/>
        </p:nvSpPr>
        <p:spPr>
          <a:xfrm>
            <a:off x="1008000" y="1698480"/>
            <a:ext cx="6300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primero, </a:t>
            </a:r>
            <a:r>
              <a:rPr b="0" lang="es-ES" sz="4000" spc="-1" strike="noStrike">
                <a:solidFill>
                  <a:srgbClr val="000000"/>
                </a:solidFill>
                <a:latin typeface="Calibri"/>
              </a:rPr>
              <a:t>es el de fijarse en sus propias obras, </a:t>
            </a:r>
            <a:r>
              <a:rPr b="1" lang="es-ES" sz="4000" spc="-1" strike="noStrike">
                <a:solidFill>
                  <a:srgbClr val="000000"/>
                </a:solidFill>
                <a:latin typeface="Calibri"/>
              </a:rPr>
              <a:t>confiando en alguna cosa que puedan hacer, para ponerse en armonía con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ángulo 1"/>
          <p:cNvSpPr/>
          <p:nvPr/>
        </p:nvSpPr>
        <p:spPr>
          <a:xfrm>
            <a:off x="539640" y="2565360"/>
            <a:ext cx="66963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sí como el viento es invisible y, sin embargo, se ven y se sienten claramente sus efectos, así obra el Espíritu de Dios en el corazón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ángulo 1"/>
          <p:cNvSpPr/>
          <p:nvPr/>
        </p:nvSpPr>
        <p:spPr>
          <a:xfrm>
            <a:off x="468360" y="2200320"/>
            <a:ext cx="698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l que está procurando llegar a ser santo mediante sus propios esfuerzos por guardar la ley, está procurando una imposibi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ángulo 1"/>
          <p:cNvSpPr/>
          <p:nvPr/>
        </p:nvSpPr>
        <p:spPr>
          <a:xfrm>
            <a:off x="1062000" y="2027160"/>
            <a:ext cx="6246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Todo lo que el hombre puede hacer sin Cristo está contaminado de amor propio y peca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ángulo 1"/>
          <p:cNvSpPr/>
          <p:nvPr/>
        </p:nvSpPr>
        <p:spPr>
          <a:xfrm>
            <a:off x="1116000" y="205740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l error opuesto y no menos peligroso es que la fe en Cristo exime a los hombres de guardar la ley de D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ángulo 1"/>
          <p:cNvSpPr/>
          <p:nvPr/>
        </p:nvSpPr>
        <p:spPr>
          <a:xfrm>
            <a:off x="990720" y="1924200"/>
            <a:ext cx="63896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que puesto que solamente por la fe somos hechos participantes de la gracia de Cris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ángulo 1"/>
          <p:cNvSpPr/>
          <p:nvPr/>
        </p:nvSpPr>
        <p:spPr>
          <a:xfrm>
            <a:off x="1403280" y="2170080"/>
            <a:ext cx="5796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uestras obras no tienen nada que ver con nuestra reden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ángulo 1"/>
          <p:cNvSpPr/>
          <p:nvPr/>
        </p:nvSpPr>
        <p:spPr>
          <a:xfrm>
            <a:off x="1476360" y="2098800"/>
            <a:ext cx="5813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ero nótese aquí que la obediencia no es un mero cumplimiento externo, sino un servicio de am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ángulo 1"/>
          <p:cNvSpPr/>
          <p:nvPr/>
        </p:nvSpPr>
        <p:spPr>
          <a:xfrm>
            <a:off x="1565280" y="2313000"/>
            <a:ext cx="5527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ley de Dios es una expresión de  su misma naturalez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ángulo 1"/>
          <p:cNvSpPr/>
          <p:nvPr/>
        </p:nvSpPr>
        <p:spPr>
          <a:xfrm>
            <a:off x="792000" y="2252520"/>
            <a:ext cx="651672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s la personificación del gran principio del amor y, en consecuencia, el fundamento de su gobierno en los cielos y en la tierr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ángulo 1"/>
          <p:cNvSpPr/>
          <p:nvPr/>
        </p:nvSpPr>
        <p:spPr>
          <a:xfrm>
            <a:off x="755640" y="1989000"/>
            <a:ext cx="6553080" cy="25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i nuestros corazones son regenerados a la semejanza de Dios, si el amor divino es implantado en el corazón, </a:t>
            </a:r>
            <a:r>
              <a:rPr b="1" lang="es-ES" sz="3400" spc="-1" strike="noStrike">
                <a:solidFill>
                  <a:srgbClr val="000000"/>
                </a:solidFill>
                <a:latin typeface="Calibri"/>
              </a:rPr>
              <a:t>¿no se manifestará la ley de Dios en la vida?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ángulo 1"/>
          <p:cNvSpPr/>
          <p:nvPr/>
        </p:nvSpPr>
        <p:spPr>
          <a:xfrm>
            <a:off x="1062000" y="2230560"/>
            <a:ext cx="63183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uando es implantado el principio del amor en el corazón, cuando el hombre es renovado conforme a la imagen del que lo cre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ángulo 1"/>
          <p:cNvSpPr/>
          <p:nvPr/>
        </p:nvSpPr>
        <p:spPr>
          <a:xfrm>
            <a:off x="1008000" y="2243160"/>
            <a:ext cx="615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poder regenerador que ningún ojo humano puede ver, engendra una vida nueva en el alm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ángulo 1"/>
          <p:cNvSpPr/>
          <p:nvPr/>
        </p:nvSpPr>
        <p:spPr>
          <a:xfrm>
            <a:off x="1116000" y="2486160"/>
            <a:ext cx="6264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e cumple en Él la promesa del nuevo pac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ángulo 1"/>
          <p:cNvSpPr/>
          <p:nvPr/>
        </p:nvSpPr>
        <p:spPr>
          <a:xfrm>
            <a:off x="1258920" y="2077920"/>
            <a:ext cx="5834160" cy="24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ondré mis leyes en su corazón, y también en su mente las escribiré"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ebreos 10: 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ángulo 1"/>
          <p:cNvSpPr/>
          <p:nvPr/>
        </p:nvSpPr>
        <p:spPr>
          <a:xfrm>
            <a:off x="1547640" y="2087640"/>
            <a:ext cx="545472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Y si la ley está escrita en el corazón, </a:t>
            </a:r>
            <a:r>
              <a:rPr b="1" lang="es-ES" sz="4400" spc="-1" strike="noStrike">
                <a:solidFill>
                  <a:srgbClr val="000000"/>
                </a:solidFill>
                <a:latin typeface="Calibri"/>
              </a:rPr>
              <a:t>¿no modelará la vi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ángulo 1"/>
          <p:cNvSpPr/>
          <p:nvPr/>
        </p:nvSpPr>
        <p:spPr>
          <a:xfrm>
            <a:off x="1332000" y="2098800"/>
            <a:ext cx="588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obediencia, es decir, el servicio y la lealtad de amor, es la verdadera prueba del discipula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ángulo 1"/>
          <p:cNvSpPr/>
          <p:nvPr/>
        </p:nvSpPr>
        <p:spPr>
          <a:xfrm>
            <a:off x="360360" y="1658880"/>
            <a:ext cx="7307280" cy="375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iendo así, la Escritura dic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ste es el amor de Dios, que guardemos sus mandamientos" "El que dice:  Yo le conozco, y no guarda sus mandamientos, es mentiroso, y no hay verdad en é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Juan 5: 3; 2: 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ángulo 1"/>
          <p:cNvSpPr/>
          <p:nvPr/>
        </p:nvSpPr>
        <p:spPr>
          <a:xfrm>
            <a:off x="1152360" y="2089080"/>
            <a:ext cx="629928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n vez de que la fe exima al hombre de la obediencia, es la fe, y sólo ella, la que lo hace participante de la gracia de Cristo y lo capacita para obedecerl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ángulo 1"/>
          <p:cNvSpPr/>
          <p:nvPr/>
        </p:nvSpPr>
        <p:spPr>
          <a:xfrm>
            <a:off x="1224000" y="2343240"/>
            <a:ext cx="608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o ganamos la salvación con nuestra obedienci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ángulo 1"/>
          <p:cNvSpPr/>
          <p:nvPr/>
        </p:nvSpPr>
        <p:spPr>
          <a:xfrm>
            <a:off x="1206360" y="2097000"/>
            <a:ext cx="5886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orque la salvación es el don gratuito de Dios, que se recibe por la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ángulo 1"/>
          <p:cNvSpPr/>
          <p:nvPr/>
        </p:nvSpPr>
        <p:spPr>
          <a:xfrm>
            <a:off x="1403280" y="2290680"/>
            <a:ext cx="5761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Pero la obediencia es el fruto de la f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ángulo 1"/>
          <p:cNvSpPr/>
          <p:nvPr/>
        </p:nvSpPr>
        <p:spPr>
          <a:xfrm>
            <a:off x="684360" y="1700280"/>
            <a:ext cx="6767280" cy="381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abéis que él fue manifestado para  quitar los pecados, y en él no hay pecado Todo aquel que mora en él no peca; todo aquel que peca no le ha visto, ni le ha conocid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Juan 3: 5, 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ángulo 1"/>
          <p:cNvSpPr/>
          <p:nvPr/>
        </p:nvSpPr>
        <p:spPr>
          <a:xfrm>
            <a:off x="917640" y="1913040"/>
            <a:ext cx="63183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crea un nuevo ser conforme a la imagen de Di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ángulo 1"/>
          <p:cNvSpPr/>
          <p:nvPr/>
        </p:nvSpPr>
        <p:spPr>
          <a:xfrm>
            <a:off x="611280" y="1596960"/>
            <a:ext cx="71294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He aquí la verdadera prueba. Si moramos en Cristo, si el amor de Dios mora en nosotros, nuestros sentimientos, nuestros pensamientos, nuestras acciones, tienen que  estar en armonía con la voluntad de D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ángulo 1"/>
          <p:cNvSpPr/>
          <p:nvPr/>
        </p:nvSpPr>
        <p:spPr>
          <a:xfrm>
            <a:off x="1133640" y="1484280"/>
            <a:ext cx="6246720" cy="41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como se expresa en los preceptos de su santa le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Hijitos míos, no dejéis que nadie os engañe! el que obra justicia es justo, así como él es jus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Juan 3: 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ángulo 1"/>
          <p:cNvSpPr/>
          <p:nvPr/>
        </p:nvSpPr>
        <p:spPr>
          <a:xfrm>
            <a:off x="1008000" y="1843200"/>
            <a:ext cx="6372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abemos lo que es justicia por el modelo de la santa ley de Dios, como se expresa en los Diez Mandamientos dados en el Sina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ángulo 1"/>
          <p:cNvSpPr/>
          <p:nvPr/>
        </p:nvSpPr>
        <p:spPr>
          <a:xfrm>
            <a:off x="900000" y="1843200"/>
            <a:ext cx="6408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a así llamada fe en Cristo, que según se declara exime a los hombres de la obligación de la obediencia a Dios, no es fe sino presunc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ángulo 1"/>
          <p:cNvSpPr/>
          <p:nvPr/>
        </p:nvSpPr>
        <p:spPr>
          <a:xfrm>
            <a:off x="1187280" y="1989000"/>
            <a:ext cx="5977080" cy="30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or gracia sois salvos, por medio de la fe" </a:t>
            </a:r>
            <a:r>
              <a:rPr b="0" lang="es-ES" sz="4000" spc="-1" strike="noStrike">
                <a:solidFill>
                  <a:srgbClr val="000000"/>
                </a:solidFill>
                <a:latin typeface="Calibri"/>
              </a:rPr>
              <a:t>Mas </a:t>
            </a:r>
            <a:r>
              <a:rPr b="1" lang="es-ES" sz="4000" spc="-1" strike="noStrike">
                <a:solidFill>
                  <a:srgbClr val="000000"/>
                </a:solidFill>
                <a:latin typeface="Calibri"/>
              </a:rPr>
              <a:t>"la fe, si no tuviere obras, es de suyo muerta"</a:t>
            </a:r>
            <a:r>
              <a:rPr b="0" lang="es-ES" sz="4000" spc="-1" strike="noStrike">
                <a:solidFill>
                  <a:srgbClr val="000000"/>
                </a:solidFill>
                <a:latin typeface="Calibri"/>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Efesios 2: 8; Santiago 2: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ángulo 1"/>
          <p:cNvSpPr/>
          <p:nvPr/>
        </p:nvSpPr>
        <p:spPr>
          <a:xfrm>
            <a:off x="684360" y="1700280"/>
            <a:ext cx="684036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Jesús dijo de sí mismo antes de venir al mun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e complazco en hacer tu voluntad, oh Dios mío, y tu ley está en medio de mi corazón"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mo 40: 8)</a:t>
            </a:r>
            <a:endParaRPr b="0" lang="en-US" sz="3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ángulo 1"/>
          <p:cNvSpPr/>
          <p:nvPr/>
        </p:nvSpPr>
        <p:spPr>
          <a:xfrm>
            <a:off x="1008000" y="1565280"/>
            <a:ext cx="6300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 cuando estaba por ascender a los cielos, dijo otra vez</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o he guardado los mandamientos de mi Padre, y permanezco en su amor"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an Juan 15: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ángulo 1"/>
          <p:cNvSpPr/>
          <p:nvPr/>
        </p:nvSpPr>
        <p:spPr>
          <a:xfrm>
            <a:off x="1349280" y="1749600"/>
            <a:ext cx="581508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ues que Cristo también sufrió por vosotros, dejándoos ejemplo, para que sigáis en sus pisada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Pedro 2: 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ángulo 1"/>
          <p:cNvSpPr/>
          <p:nvPr/>
        </p:nvSpPr>
        <p:spPr>
          <a:xfrm>
            <a:off x="1187280" y="1708200"/>
            <a:ext cx="6121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condición para alcanzar la vida eterna es ahora exactamente la misma de siempr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ángulo 1"/>
          <p:cNvSpPr/>
          <p:nvPr/>
        </p:nvSpPr>
        <p:spPr>
          <a:xfrm>
            <a:off x="900000" y="1749600"/>
            <a:ext cx="6480360" cy="301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tal cual era en el paraíso antes de la caída de nuestros primeros padres: </a:t>
            </a:r>
            <a:r>
              <a:rPr b="1" lang="es-ES" sz="4000" spc="-1" strike="noStrike">
                <a:solidFill>
                  <a:srgbClr val="000000"/>
                </a:solidFill>
                <a:latin typeface="Calibri"/>
              </a:rPr>
              <a:t>la perfecta obediencia a la ley de Dios, la perfecta justic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ángulo 1"/>
          <p:cNvSpPr/>
          <p:nvPr/>
        </p:nvSpPr>
        <p:spPr>
          <a:xfrm>
            <a:off x="576360" y="2060640"/>
            <a:ext cx="7020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Aunque la obra del Espíritu es silenciosa e imperceptible, sus efectos son manifies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ángulo 1"/>
          <p:cNvSpPr/>
          <p:nvPr/>
        </p:nvSpPr>
        <p:spPr>
          <a:xfrm>
            <a:off x="1206360" y="1247760"/>
            <a:ext cx="617400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i la vida eterna se concediera con alguna condición inferior a ésta, peligraría la felicidad de todo el univer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ángulo 1"/>
          <p:cNvSpPr/>
          <p:nvPr/>
        </p:nvSpPr>
        <p:spPr>
          <a:xfrm>
            <a:off x="1440000" y="1779480"/>
            <a:ext cx="5796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e le abriría la puerta al pecado con todo su séquito de dolor y miseria para siemp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ángulo 1"/>
          <p:cNvSpPr/>
          <p:nvPr/>
        </p:nvSpPr>
        <p:spPr>
          <a:xfrm>
            <a:off x="1349280" y="2060640"/>
            <a:ext cx="610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ra posible para Adán, antes de la caída, conservar un carácter justo por la obediencia a la ley de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ángulo 1"/>
          <p:cNvSpPr/>
          <p:nvPr/>
        </p:nvSpPr>
        <p:spPr>
          <a:xfrm>
            <a:off x="1008000" y="1771560"/>
            <a:ext cx="64436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as no lo hizo, y por causa de su caída tenemos una naturaleza pecaminosa y no podemos hacernos justos a nosotros mism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ángulo 1"/>
          <p:cNvSpPr/>
          <p:nvPr/>
        </p:nvSpPr>
        <p:spPr>
          <a:xfrm>
            <a:off x="1187280" y="1536840"/>
            <a:ext cx="655344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uesto que somos pecadores y malos, no podemos obedecer perfectamente una ley san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ángulo 1"/>
          <p:cNvSpPr/>
          <p:nvPr/>
        </p:nvSpPr>
        <p:spPr>
          <a:xfrm>
            <a:off x="1224000" y="1779480"/>
            <a:ext cx="6084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o tenemos por nosotros mismos justicia con que cumplir lo que la ley de Dios dema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ángulo 1"/>
          <p:cNvSpPr/>
          <p:nvPr/>
        </p:nvSpPr>
        <p:spPr>
          <a:xfrm>
            <a:off x="1133640" y="1984320"/>
            <a:ext cx="6462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ea typeface="Arial"/>
              </a:rPr>
              <a:t>Mas Cristo nos ha preparado una vía de escap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ángulo 1"/>
          <p:cNvSpPr/>
          <p:nvPr/>
        </p:nvSpPr>
        <p:spPr>
          <a:xfrm>
            <a:off x="1258920" y="1319040"/>
            <a:ext cx="60847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Vivió sobre la tierra en medio de pruebas y tentaciones tales como las que nosotros tenemos que arrostr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ángulo 1"/>
          <p:cNvSpPr/>
          <p:nvPr/>
        </p:nvSpPr>
        <p:spPr>
          <a:xfrm>
            <a:off x="1494000" y="2251080"/>
            <a:ext cx="574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Sin embargo, su vida fue impecabl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ángulo 1"/>
          <p:cNvSpPr/>
          <p:nvPr/>
        </p:nvSpPr>
        <p:spPr>
          <a:xfrm>
            <a:off x="1494000" y="1924200"/>
            <a:ext cx="59576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Murió por nosotros y ahora ofrece quitarnos nuestros pecados y vestirnos de su justi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20:59:59Z</dcterms:created>
  <dc:creator>Orlando Rosales</dc:creator>
  <dc:description/>
  <dc:language>en-US</dc:language>
  <cp:lastModifiedBy>Karina de Martin</cp:lastModifiedBy>
  <dcterms:modified xsi:type="dcterms:W3CDTF">2017-03-13T03:13:08Z</dcterms:modified>
  <cp:revision>63</cp:revision>
  <dc:subject/>
  <dc:title>CAPÍTULO 7. Cómo Lograr una Magnífica Renovación </dc:title>
</cp:coreProperties>
</file>