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51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4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55.xml.rels" ContentType="application/vnd.openxmlformats-package.relationships+xml"/>
  <Override PartName="/ppt/slides/_rels/slide144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56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  <p:sldId id="294" r:id="rId57"/>
    <p:sldId id="295" r:id="rId58"/>
    <p:sldId id="296" r:id="rId59"/>
    <p:sldId id="297" r:id="rId60"/>
    <p:sldId id="298" r:id="rId61"/>
    <p:sldId id="299" r:id="rId62"/>
    <p:sldId id="300" r:id="rId63"/>
    <p:sldId id="301" r:id="rId64"/>
    <p:sldId id="302" r:id="rId65"/>
    <p:sldId id="303" r:id="rId66"/>
    <p:sldId id="304" r:id="rId67"/>
    <p:sldId id="305" r:id="rId68"/>
    <p:sldId id="306" r:id="rId69"/>
    <p:sldId id="307" r:id="rId70"/>
    <p:sldId id="308" r:id="rId71"/>
    <p:sldId id="309" r:id="rId72"/>
    <p:sldId id="310" r:id="rId73"/>
    <p:sldId id="311" r:id="rId74"/>
    <p:sldId id="312" r:id="rId75"/>
    <p:sldId id="313" r:id="rId76"/>
    <p:sldId id="314" r:id="rId77"/>
    <p:sldId id="315" r:id="rId78"/>
    <p:sldId id="316" r:id="rId79"/>
    <p:sldId id="317" r:id="rId80"/>
    <p:sldId id="318" r:id="rId81"/>
    <p:sldId id="319" r:id="rId82"/>
    <p:sldId id="320" r:id="rId83"/>
    <p:sldId id="321" r:id="rId84"/>
    <p:sldId id="322" r:id="rId85"/>
    <p:sldId id="323" r:id="rId86"/>
    <p:sldId id="324" r:id="rId87"/>
    <p:sldId id="325" r:id="rId88"/>
    <p:sldId id="326" r:id="rId89"/>
    <p:sldId id="327" r:id="rId90"/>
    <p:sldId id="328" r:id="rId91"/>
    <p:sldId id="329" r:id="rId92"/>
    <p:sldId id="330" r:id="rId93"/>
    <p:sldId id="331" r:id="rId94"/>
    <p:sldId id="332" r:id="rId95"/>
    <p:sldId id="333" r:id="rId96"/>
    <p:sldId id="334" r:id="rId97"/>
    <p:sldId id="335" r:id="rId98"/>
    <p:sldId id="336" r:id="rId99"/>
    <p:sldId id="337" r:id="rId100"/>
    <p:sldId id="338" r:id="rId101"/>
    <p:sldId id="339" r:id="rId102"/>
    <p:sldId id="340" r:id="rId103"/>
    <p:sldId id="341" r:id="rId104"/>
    <p:sldId id="342" r:id="rId105"/>
    <p:sldId id="343" r:id="rId106"/>
    <p:sldId id="344" r:id="rId107"/>
    <p:sldId id="345" r:id="rId108"/>
    <p:sldId id="346" r:id="rId109"/>
    <p:sldId id="347" r:id="rId110"/>
    <p:sldId id="348" r:id="rId111"/>
    <p:sldId id="349" r:id="rId112"/>
    <p:sldId id="350" r:id="rId113"/>
    <p:sldId id="351" r:id="rId114"/>
    <p:sldId id="352" r:id="rId115"/>
    <p:sldId id="353" r:id="rId116"/>
    <p:sldId id="354" r:id="rId117"/>
    <p:sldId id="355" r:id="rId118"/>
    <p:sldId id="356" r:id="rId119"/>
    <p:sldId id="357" r:id="rId120"/>
    <p:sldId id="358" r:id="rId121"/>
    <p:sldId id="359" r:id="rId122"/>
    <p:sldId id="360" r:id="rId123"/>
    <p:sldId id="361" r:id="rId124"/>
    <p:sldId id="362" r:id="rId125"/>
    <p:sldId id="363" r:id="rId126"/>
    <p:sldId id="364" r:id="rId127"/>
    <p:sldId id="365" r:id="rId128"/>
    <p:sldId id="366" r:id="rId129"/>
    <p:sldId id="367" r:id="rId130"/>
    <p:sldId id="368" r:id="rId131"/>
    <p:sldId id="369" r:id="rId132"/>
    <p:sldId id="370" r:id="rId133"/>
    <p:sldId id="371" r:id="rId134"/>
    <p:sldId id="372" r:id="rId135"/>
    <p:sldId id="373" r:id="rId136"/>
    <p:sldId id="374" r:id="rId137"/>
    <p:sldId id="375" r:id="rId138"/>
    <p:sldId id="376" r:id="rId139"/>
    <p:sldId id="377" r:id="rId140"/>
    <p:sldId id="378" r:id="rId141"/>
    <p:sldId id="379" r:id="rId142"/>
    <p:sldId id="380" r:id="rId143"/>
    <p:sldId id="381" r:id="rId144"/>
    <p:sldId id="382" r:id="rId145"/>
    <p:sldId id="383" r:id="rId146"/>
    <p:sldId id="384" r:id="rId147"/>
    <p:sldId id="385" r:id="rId148"/>
    <p:sldId id="386" r:id="rId149"/>
    <p:sldId id="387" r:id="rId150"/>
    <p:sldId id="388" r:id="rId151"/>
    <p:sldId id="389" r:id="rId152"/>
    <p:sldId id="390" r:id="rId153"/>
    <p:sldId id="391" r:id="rId154"/>
    <p:sldId id="392" r:id="rId155"/>
    <p:sldId id="393" r:id="rId156"/>
    <p:sldId id="394" r:id="rId157"/>
    <p:sldId id="395" r:id="rId158"/>
    <p:sldId id="396" r:id="rId159"/>
    <p:sldId id="397" r:id="rId160"/>
    <p:sldId id="398" r:id="rId161"/>
    <p:sldId id="399" r:id="rId162"/>
    <p:sldId id="400" r:id="rId163"/>
    <p:sldId id="401" r:id="rId164"/>
    <p:sldId id="402" r:id="rId165"/>
    <p:sldId id="403" r:id="rId166"/>
    <p:sldId id="404" r:id="rId167"/>
    <p:sldId id="405" r:id="rId168"/>
    <p:sldId id="406" r:id="rId1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slide" Target="slides/slide39.xml"/><Relationship Id="rId58" Type="http://schemas.openxmlformats.org/officeDocument/2006/relationships/slide" Target="slides/slide40.xml"/><Relationship Id="rId59" Type="http://schemas.openxmlformats.org/officeDocument/2006/relationships/slide" Target="slides/slide41.xml"/><Relationship Id="rId60" Type="http://schemas.openxmlformats.org/officeDocument/2006/relationships/slide" Target="slides/slide42.xml"/><Relationship Id="rId61" Type="http://schemas.openxmlformats.org/officeDocument/2006/relationships/slide" Target="slides/slide43.xml"/><Relationship Id="rId62" Type="http://schemas.openxmlformats.org/officeDocument/2006/relationships/slide" Target="slides/slide44.xml"/><Relationship Id="rId63" Type="http://schemas.openxmlformats.org/officeDocument/2006/relationships/slide" Target="slides/slide45.xml"/><Relationship Id="rId64" Type="http://schemas.openxmlformats.org/officeDocument/2006/relationships/slide" Target="slides/slide46.xml"/><Relationship Id="rId65" Type="http://schemas.openxmlformats.org/officeDocument/2006/relationships/slide" Target="slides/slide47.xml"/><Relationship Id="rId66" Type="http://schemas.openxmlformats.org/officeDocument/2006/relationships/slide" Target="slides/slide48.xml"/><Relationship Id="rId67" Type="http://schemas.openxmlformats.org/officeDocument/2006/relationships/slide" Target="slides/slide49.xml"/><Relationship Id="rId68" Type="http://schemas.openxmlformats.org/officeDocument/2006/relationships/slide" Target="slides/slide50.xml"/><Relationship Id="rId69" Type="http://schemas.openxmlformats.org/officeDocument/2006/relationships/slide" Target="slides/slide51.xml"/><Relationship Id="rId70" Type="http://schemas.openxmlformats.org/officeDocument/2006/relationships/slide" Target="slides/slide52.xml"/><Relationship Id="rId71" Type="http://schemas.openxmlformats.org/officeDocument/2006/relationships/slide" Target="slides/slide53.xml"/><Relationship Id="rId72" Type="http://schemas.openxmlformats.org/officeDocument/2006/relationships/slide" Target="slides/slide54.xml"/><Relationship Id="rId73" Type="http://schemas.openxmlformats.org/officeDocument/2006/relationships/slide" Target="slides/slide55.xml"/><Relationship Id="rId74" Type="http://schemas.openxmlformats.org/officeDocument/2006/relationships/slide" Target="slides/slide56.xml"/><Relationship Id="rId75" Type="http://schemas.openxmlformats.org/officeDocument/2006/relationships/slide" Target="slides/slide57.xml"/><Relationship Id="rId76" Type="http://schemas.openxmlformats.org/officeDocument/2006/relationships/slide" Target="slides/slide58.xml"/><Relationship Id="rId77" Type="http://schemas.openxmlformats.org/officeDocument/2006/relationships/slide" Target="slides/slide59.xml"/><Relationship Id="rId78" Type="http://schemas.openxmlformats.org/officeDocument/2006/relationships/slide" Target="slides/slide60.xml"/><Relationship Id="rId79" Type="http://schemas.openxmlformats.org/officeDocument/2006/relationships/slide" Target="slides/slide61.xml"/><Relationship Id="rId80" Type="http://schemas.openxmlformats.org/officeDocument/2006/relationships/slide" Target="slides/slide62.xml"/><Relationship Id="rId81" Type="http://schemas.openxmlformats.org/officeDocument/2006/relationships/slide" Target="slides/slide63.xml"/><Relationship Id="rId82" Type="http://schemas.openxmlformats.org/officeDocument/2006/relationships/slide" Target="slides/slide64.xml"/><Relationship Id="rId83" Type="http://schemas.openxmlformats.org/officeDocument/2006/relationships/slide" Target="slides/slide65.xml"/><Relationship Id="rId84" Type="http://schemas.openxmlformats.org/officeDocument/2006/relationships/slide" Target="slides/slide66.xml"/><Relationship Id="rId85" Type="http://schemas.openxmlformats.org/officeDocument/2006/relationships/slide" Target="slides/slide67.xml"/><Relationship Id="rId86" Type="http://schemas.openxmlformats.org/officeDocument/2006/relationships/slide" Target="slides/slide68.xml"/><Relationship Id="rId87" Type="http://schemas.openxmlformats.org/officeDocument/2006/relationships/slide" Target="slides/slide69.xml"/><Relationship Id="rId88" Type="http://schemas.openxmlformats.org/officeDocument/2006/relationships/slide" Target="slides/slide70.xml"/><Relationship Id="rId89" Type="http://schemas.openxmlformats.org/officeDocument/2006/relationships/slide" Target="slides/slide71.xml"/><Relationship Id="rId90" Type="http://schemas.openxmlformats.org/officeDocument/2006/relationships/slide" Target="slides/slide72.xml"/><Relationship Id="rId91" Type="http://schemas.openxmlformats.org/officeDocument/2006/relationships/slide" Target="slides/slide73.xml"/><Relationship Id="rId92" Type="http://schemas.openxmlformats.org/officeDocument/2006/relationships/slide" Target="slides/slide74.xml"/><Relationship Id="rId93" Type="http://schemas.openxmlformats.org/officeDocument/2006/relationships/slide" Target="slides/slide75.xml"/><Relationship Id="rId94" Type="http://schemas.openxmlformats.org/officeDocument/2006/relationships/slide" Target="slides/slide76.xml"/><Relationship Id="rId95" Type="http://schemas.openxmlformats.org/officeDocument/2006/relationships/slide" Target="slides/slide77.xml"/><Relationship Id="rId96" Type="http://schemas.openxmlformats.org/officeDocument/2006/relationships/slide" Target="slides/slide78.xml"/><Relationship Id="rId97" Type="http://schemas.openxmlformats.org/officeDocument/2006/relationships/slide" Target="slides/slide79.xml"/><Relationship Id="rId98" Type="http://schemas.openxmlformats.org/officeDocument/2006/relationships/slide" Target="slides/slide80.xml"/><Relationship Id="rId99" Type="http://schemas.openxmlformats.org/officeDocument/2006/relationships/slide" Target="slides/slide81.xml"/><Relationship Id="rId100" Type="http://schemas.openxmlformats.org/officeDocument/2006/relationships/slide" Target="slides/slide82.xml"/><Relationship Id="rId101" Type="http://schemas.openxmlformats.org/officeDocument/2006/relationships/slide" Target="slides/slide83.xml"/><Relationship Id="rId102" Type="http://schemas.openxmlformats.org/officeDocument/2006/relationships/slide" Target="slides/slide84.xml"/><Relationship Id="rId103" Type="http://schemas.openxmlformats.org/officeDocument/2006/relationships/slide" Target="slides/slide85.xml"/><Relationship Id="rId104" Type="http://schemas.openxmlformats.org/officeDocument/2006/relationships/slide" Target="slides/slide86.xml"/><Relationship Id="rId105" Type="http://schemas.openxmlformats.org/officeDocument/2006/relationships/slide" Target="slides/slide87.xml"/><Relationship Id="rId106" Type="http://schemas.openxmlformats.org/officeDocument/2006/relationships/slide" Target="slides/slide88.xml"/><Relationship Id="rId107" Type="http://schemas.openxmlformats.org/officeDocument/2006/relationships/slide" Target="slides/slide89.xml"/><Relationship Id="rId108" Type="http://schemas.openxmlformats.org/officeDocument/2006/relationships/slide" Target="slides/slide90.xml"/><Relationship Id="rId109" Type="http://schemas.openxmlformats.org/officeDocument/2006/relationships/slide" Target="slides/slide91.xml"/><Relationship Id="rId110" Type="http://schemas.openxmlformats.org/officeDocument/2006/relationships/slide" Target="slides/slide92.xml"/><Relationship Id="rId111" Type="http://schemas.openxmlformats.org/officeDocument/2006/relationships/slide" Target="slides/slide93.xml"/><Relationship Id="rId112" Type="http://schemas.openxmlformats.org/officeDocument/2006/relationships/slide" Target="slides/slide94.xml"/><Relationship Id="rId113" Type="http://schemas.openxmlformats.org/officeDocument/2006/relationships/slide" Target="slides/slide95.xml"/><Relationship Id="rId114" Type="http://schemas.openxmlformats.org/officeDocument/2006/relationships/slide" Target="slides/slide96.xml"/><Relationship Id="rId115" Type="http://schemas.openxmlformats.org/officeDocument/2006/relationships/slide" Target="slides/slide97.xml"/><Relationship Id="rId116" Type="http://schemas.openxmlformats.org/officeDocument/2006/relationships/slide" Target="slides/slide98.xml"/><Relationship Id="rId117" Type="http://schemas.openxmlformats.org/officeDocument/2006/relationships/slide" Target="slides/slide99.xml"/><Relationship Id="rId118" Type="http://schemas.openxmlformats.org/officeDocument/2006/relationships/slide" Target="slides/slide100.xml"/><Relationship Id="rId119" Type="http://schemas.openxmlformats.org/officeDocument/2006/relationships/slide" Target="slides/slide101.xml"/><Relationship Id="rId120" Type="http://schemas.openxmlformats.org/officeDocument/2006/relationships/slide" Target="slides/slide102.xml"/><Relationship Id="rId121" Type="http://schemas.openxmlformats.org/officeDocument/2006/relationships/slide" Target="slides/slide103.xml"/><Relationship Id="rId122" Type="http://schemas.openxmlformats.org/officeDocument/2006/relationships/slide" Target="slides/slide104.xml"/><Relationship Id="rId123" Type="http://schemas.openxmlformats.org/officeDocument/2006/relationships/slide" Target="slides/slide105.xml"/><Relationship Id="rId124" Type="http://schemas.openxmlformats.org/officeDocument/2006/relationships/slide" Target="slides/slide106.xml"/><Relationship Id="rId125" Type="http://schemas.openxmlformats.org/officeDocument/2006/relationships/slide" Target="slides/slide107.xml"/><Relationship Id="rId126" Type="http://schemas.openxmlformats.org/officeDocument/2006/relationships/slide" Target="slides/slide108.xml"/><Relationship Id="rId127" Type="http://schemas.openxmlformats.org/officeDocument/2006/relationships/slide" Target="slides/slide109.xml"/><Relationship Id="rId128" Type="http://schemas.openxmlformats.org/officeDocument/2006/relationships/slide" Target="slides/slide110.xml"/><Relationship Id="rId129" Type="http://schemas.openxmlformats.org/officeDocument/2006/relationships/slide" Target="slides/slide111.xml"/><Relationship Id="rId130" Type="http://schemas.openxmlformats.org/officeDocument/2006/relationships/slide" Target="slides/slide112.xml"/><Relationship Id="rId131" Type="http://schemas.openxmlformats.org/officeDocument/2006/relationships/slide" Target="slides/slide113.xml"/><Relationship Id="rId132" Type="http://schemas.openxmlformats.org/officeDocument/2006/relationships/slide" Target="slides/slide114.xml"/><Relationship Id="rId133" Type="http://schemas.openxmlformats.org/officeDocument/2006/relationships/slide" Target="slides/slide115.xml"/><Relationship Id="rId134" Type="http://schemas.openxmlformats.org/officeDocument/2006/relationships/slide" Target="slides/slide116.xml"/><Relationship Id="rId135" Type="http://schemas.openxmlformats.org/officeDocument/2006/relationships/slide" Target="slides/slide117.xml"/><Relationship Id="rId136" Type="http://schemas.openxmlformats.org/officeDocument/2006/relationships/slide" Target="slides/slide118.xml"/><Relationship Id="rId137" Type="http://schemas.openxmlformats.org/officeDocument/2006/relationships/slide" Target="slides/slide119.xml"/><Relationship Id="rId138" Type="http://schemas.openxmlformats.org/officeDocument/2006/relationships/slide" Target="slides/slide120.xml"/><Relationship Id="rId139" Type="http://schemas.openxmlformats.org/officeDocument/2006/relationships/slide" Target="slides/slide121.xml"/><Relationship Id="rId140" Type="http://schemas.openxmlformats.org/officeDocument/2006/relationships/slide" Target="slides/slide122.xml"/><Relationship Id="rId141" Type="http://schemas.openxmlformats.org/officeDocument/2006/relationships/slide" Target="slides/slide123.xml"/><Relationship Id="rId142" Type="http://schemas.openxmlformats.org/officeDocument/2006/relationships/slide" Target="slides/slide124.xml"/><Relationship Id="rId143" Type="http://schemas.openxmlformats.org/officeDocument/2006/relationships/slide" Target="slides/slide125.xml"/><Relationship Id="rId144" Type="http://schemas.openxmlformats.org/officeDocument/2006/relationships/slide" Target="slides/slide126.xml"/><Relationship Id="rId145" Type="http://schemas.openxmlformats.org/officeDocument/2006/relationships/slide" Target="slides/slide127.xml"/><Relationship Id="rId146" Type="http://schemas.openxmlformats.org/officeDocument/2006/relationships/slide" Target="slides/slide128.xml"/><Relationship Id="rId147" Type="http://schemas.openxmlformats.org/officeDocument/2006/relationships/slide" Target="slides/slide129.xml"/><Relationship Id="rId148" Type="http://schemas.openxmlformats.org/officeDocument/2006/relationships/slide" Target="slides/slide130.xml"/><Relationship Id="rId149" Type="http://schemas.openxmlformats.org/officeDocument/2006/relationships/slide" Target="slides/slide131.xml"/><Relationship Id="rId150" Type="http://schemas.openxmlformats.org/officeDocument/2006/relationships/slide" Target="slides/slide132.xml"/><Relationship Id="rId151" Type="http://schemas.openxmlformats.org/officeDocument/2006/relationships/slide" Target="slides/slide133.xml"/><Relationship Id="rId152" Type="http://schemas.openxmlformats.org/officeDocument/2006/relationships/slide" Target="slides/slide134.xml"/><Relationship Id="rId153" Type="http://schemas.openxmlformats.org/officeDocument/2006/relationships/slide" Target="slides/slide135.xml"/><Relationship Id="rId154" Type="http://schemas.openxmlformats.org/officeDocument/2006/relationships/slide" Target="slides/slide136.xml"/><Relationship Id="rId155" Type="http://schemas.openxmlformats.org/officeDocument/2006/relationships/slide" Target="slides/slide137.xml"/><Relationship Id="rId156" Type="http://schemas.openxmlformats.org/officeDocument/2006/relationships/slide" Target="slides/slide138.xml"/><Relationship Id="rId157" Type="http://schemas.openxmlformats.org/officeDocument/2006/relationships/slide" Target="slides/slide139.xml"/><Relationship Id="rId158" Type="http://schemas.openxmlformats.org/officeDocument/2006/relationships/slide" Target="slides/slide140.xml"/><Relationship Id="rId159" Type="http://schemas.openxmlformats.org/officeDocument/2006/relationships/slide" Target="slides/slide141.xml"/><Relationship Id="rId160" Type="http://schemas.openxmlformats.org/officeDocument/2006/relationships/slide" Target="slides/slide142.xml"/><Relationship Id="rId161" Type="http://schemas.openxmlformats.org/officeDocument/2006/relationships/slide" Target="slides/slide143.xml"/><Relationship Id="rId162" Type="http://schemas.openxmlformats.org/officeDocument/2006/relationships/slide" Target="slides/slide144.xml"/><Relationship Id="rId163" Type="http://schemas.openxmlformats.org/officeDocument/2006/relationships/slide" Target="slides/slide145.xml"/><Relationship Id="rId164" Type="http://schemas.openxmlformats.org/officeDocument/2006/relationships/slide" Target="slides/slide146.xml"/><Relationship Id="rId165" Type="http://schemas.openxmlformats.org/officeDocument/2006/relationships/slide" Target="slides/slide147.xml"/><Relationship Id="rId166" Type="http://schemas.openxmlformats.org/officeDocument/2006/relationships/slide" Target="slides/slide148.xml"/><Relationship Id="rId167" Type="http://schemas.openxmlformats.org/officeDocument/2006/relationships/slide" Target="slides/slide149.xml"/><Relationship Id="rId168" Type="http://schemas.openxmlformats.org/officeDocument/2006/relationships/slide" Target="slides/slide150.xml"/><Relationship Id="rId169" Type="http://schemas.openxmlformats.org/officeDocument/2006/relationships/slide" Target="slides/slide151.xml"/><Relationship Id="rId1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9A57-6A35-4296-BCC5-E9FCAD11C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2F87-B878-492E-AB06-7106AB2C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582C2-978B-4592-B776-89BE5429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5726E-D3B0-4DF2-A035-E1DB02D1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76CA6-642F-4CA8-8F13-2B90CAC7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80DCB-E2E0-4C9D-8261-93135940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43A6C-77F2-432F-8A9D-12B9ED08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DB3DB-1A5B-41D9-BCC7-9419AC53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CCC95-B0D9-4607-AEAE-08807371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10BBBB-0CE8-4789-8948-718D0BCF3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6F4ADA-3440-4ACD-9353-B5F6A377B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26D378-F4E2-4D1A-A28E-7CBE2ED7E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89CC-9B63-478A-8CA0-3A039B382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E337B8-E48B-478F-9411-E11B6A58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179B78-66B0-4777-8F58-DDFE3278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9BA25C-118B-4417-B9EE-9EB98305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26F68A-51EF-42AB-BD34-F4ACBA8D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DA5C11-440B-4179-9F33-A6DBD5D7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BE19FD-9D08-47D1-9881-8224B5D6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BD3365-3B0F-43D6-878A-5FFA71D3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6AAB8A-3EAA-443C-8CC2-1C85B1C9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603B2F-F015-4740-AF84-AA03DF53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0709A-00A5-46AD-8086-C3BDC4162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885D-709E-4727-AB04-8C8779C12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E16DBB-40BC-4BC2-AE97-F8F75BABE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F158D-CC95-418C-90F5-854A747F7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026A5-1EEA-43E9-89AF-141291CD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40D12-534A-442F-A0F7-D20BA693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C3616-54B0-4240-9BBF-174678AD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F8EBB-A7B5-4362-964D-8406EBC7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4F1AE-272C-47AD-9785-3F178845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ECF24-41B2-4AE9-BDC4-3225B809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7F8A21-CF53-4E34-88E9-B8F4C3F4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B68F6-8006-49C1-80BD-F93F066E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4EF1-0FC7-4104-9A5C-EBB3CD71B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6DC30-C8A6-48EC-9317-700E0DDA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8EB90-C62B-4F6D-B9D7-A6D2EB9E8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DB4A8-714C-41AB-AD93-98F680933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B82B78-F574-449F-89E3-FB1073E78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C30E5F-A035-4D55-AD44-261E3D48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A1FA44-DBC0-44B9-86B8-145BF1DF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E6DB2C-283D-4AA4-BBB7-DA17CC37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46A5AD-808E-4913-9536-B00EEB5A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E58C13-8B7E-44E1-9999-C8C6FA81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4A037-24C2-4CA7-85FB-C824120C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1D42-C173-42C8-8101-F9AB4C85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75AE38-8572-4A4A-9FA8-C9B73FFE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69CFB6-09C5-4E56-BA29-F5AB8B67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96A8B4-EE1B-4336-8930-7BDF8EC2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D03E85-597D-4693-860E-B8CCB7087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3F3EA1-D3EC-4090-A2B7-1FA1AB828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A669AD-34FC-4E06-864F-2492EE59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0E72C0-3D94-4BF2-BF8B-026939A5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A94E34-32A2-4A04-BFD0-C25A6780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329E4B-ACEF-478D-A946-64E3481A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FD2440-1BE3-4008-ADA7-5A11C00B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CD42-0348-4044-8232-071EC113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F3C1BA-3CE5-4624-A1D7-95E8E991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7D1A95-93C1-41A8-8A95-4ECDA6BB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C22C4F-BA08-48FC-AF26-F55C292A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C2727F-87C6-47F4-9D4E-A93A651A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B51280-CB92-487F-A991-A8942123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A5F3F8-ABCD-4C1F-9CE9-D70C16058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9001C2-8297-4EC3-B628-3E35EAF72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6922CB-4650-48C1-AB84-E61A7F342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591E07-035D-4D27-8ACE-CFC5D0E9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45F0E3-D436-4BD0-B861-A414E457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48F0-DDAD-420D-A6CE-0726C190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7870F5-BC99-4AEC-816D-3CF16231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749B53-52D6-4736-A2A7-9A9A29ED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1F1F90-8293-4A03-9B33-E97B4D81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E966D6-CA98-43B5-9608-1F0713DE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F39F20-CCD0-4A75-AF04-E0B8726E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348F26-4EF2-47D6-A5DE-74003FA0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6557E1-76D1-4704-8B83-4B0AE20D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B10C1F-F0CF-457A-B4BC-B39D1B791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F4AB5E-D9B8-4555-B4EA-FCD2ECE99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DEFED7-9A92-4967-9B77-CA7A56CAE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7CE4-9C9F-4D4C-B627-7F371152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28C4A4-E204-46E7-9D73-90E35FE1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DC7D26-AB06-4258-A19D-597439F8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DE5762-62D1-404A-ACD3-691670D9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507FD3-53D9-4BF7-986C-E0702D0F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E44C86-2B6C-4DB5-8739-494B21EA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D89C56-6C94-47EB-AFFB-3E285692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B7899C-8C9B-4A1A-9E49-A45127F2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C7201E-F1D8-4BA6-B150-04BD8DD9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4934C4-5810-4FA9-8907-D146424D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133644-4A6B-4642-B9E1-3A6278ACD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D77C-7698-45B4-879D-A03ACCC6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3253A8-C267-4FFA-9717-A877D5A51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0274C6-FCBB-4F45-8E17-51E159148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E54A57-983F-4345-8A38-D2865816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12D25B-CCBA-471C-90BB-A1BD3016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AFE167-572D-41E1-9A7C-FF4B41F9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160424-171D-4DAB-967C-B3B09925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810F0C-F698-4AE8-889A-2779C8A6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994FC2-BB15-42E9-AE69-B54878BC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CCB61B-B737-4E20-9929-054B18B8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BC2820-278B-4C98-8F59-98CE7364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1CFE-EA2C-4D0A-BC39-47FED55F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89A8BD-CAEA-4E0A-A3B6-4F802BA9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8D8534-0307-48E1-8177-D69D70BB3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B6D8C4-D7C3-4FC9-8B77-3D0130F40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E12AD9-2665-4313-8A8F-79BA5C7CF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275CC1-FBCB-4EB3-9574-B5B81077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F65F34-6B12-4FB1-A0C5-4FA206E8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A6C54B-246A-4D6B-AC97-FC2E0F72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D8EDAD-ACEB-480F-B2BD-2CBE7C34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8CEE5E-9825-4FB6-85A1-B385D752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5F21C2-E3C3-45BC-8DA4-FB0D1EAF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0D62-A8BA-48BF-ADC3-A410F7F2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78EB-3081-430C-A71D-76CC9FB0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F611AD-CAD1-4811-A9BB-2DFF30F9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0B2831-81FC-4829-BB1B-758A0601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D93253-AC09-4E2D-B2E0-6A250D3B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7AB075-7271-499E-8BA5-55D86A050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544C1C-0F76-4F8F-8ACF-21E3724F5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DB29-53EC-4BB0-8CFA-90349850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A572-903F-4A82-A7DB-F0C9FBA1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7EA6-2803-459F-91E8-92F8B66F8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15CB-3597-4C71-9A38-D24139D26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4F098-5475-4603-9032-B83DCD723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F1D4F-993D-4F6D-AC95-111AEFD0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4B06F-2F44-4F4E-9BB2-C8376E49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C031E-FC96-4CAC-B75F-F226F936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987CC-5CFD-461D-81BE-5225D173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B043-746B-4848-9A69-A87B9208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F2C1B-36C1-4639-B580-9777DF4E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902A3-9B61-4556-8946-1C68FBE4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EC00C-FA75-447F-B0DD-670D2DEF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06AB9-8628-4A6A-978E-C8EFCC46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7D6C5-FE09-49D6-89D1-A76C9C3B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1736C-0E12-4B9F-879F-E47C0C2EC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109CF-833B-4B07-8CEB-44A9DE1EC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203E7-B2FD-44EC-91D8-B063AA3A7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37C0A-74C1-4167-946A-6FBB5DDC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B42FE-4686-4CEF-B400-8CBC4C1A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C222-0ED3-49EF-B54D-C03B94DA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30EDB-67E6-4E3C-B906-8B03B1EC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50F4E-5B6E-4B00-8C12-2DD8E8AD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2EA82-9985-49C8-A465-9A874A0E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CC16B-4109-4606-A0F3-7F53AAF6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FF829-84B2-447C-8D07-01AC762D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CD429-5310-4297-A6C4-01917DCB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777BA-5CEC-4955-9A9B-B2F4FD7F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74A5D-1B84-4C22-871C-646A36E06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A9CAC-3CA5-4276-873B-2AFCDD5FD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B8E23-0B24-43EA-A949-1D47EEA92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1550-C6C9-42DF-9D79-BA038361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8FE68-411F-4C55-98EE-4221EED1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4755D-778C-4540-9374-B1030D91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3997B-C80F-40F6-8999-08F61337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92997-240E-492B-BDB9-3C951DBA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8D24F-CB6D-4995-90AE-884E8B8F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4FEEB-591C-47FD-85FD-47916167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4E8CF-B84C-4F63-8D31-3FDB66BE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95EE1-9B76-4BEA-998A-0B549678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2CE5C-51A9-4E87-AF8E-329D1726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98AC1-F2BB-47D8-839E-B1C115EDF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B255-00B3-4698-89E7-4C546F9E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56463-2C69-40DE-9786-E2022461F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D5096-BB44-4533-B368-F09B1842B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F3A0A-8E5E-4185-BF18-4727D6AD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91BA9-CDFF-4EDE-9FBF-7F3E83E6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5E048-3A88-410B-A402-D0EFE016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784D7-4116-4261-8324-9FF8AC27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3169B-5F6B-4140-9EE2-32A9490C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CFC5A-0EA5-425A-98ED-46FBEFEF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3D678-862D-4CBE-B51C-0C151BE3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DB78D-ECE3-49E4-AF7A-65EF1CD9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FA5B-C7FF-4252-AFE3-0857CA74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2AECE-1E77-46AB-A2D0-9143A910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0BB81-CBC9-4C65-8CEB-5DC68D7E4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A15B1-315F-46EA-A3B6-191B41B11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43DAE-FDA4-4B56-8F60-BEC040EF3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D16AD-DE9F-4F77-A542-00EA388F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25274-6D54-4303-AA50-D8419C13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9C760-6573-4A0C-ADBB-8D9407B4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D1317-026A-4B5C-AEC2-8E4DDCC8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E77C1-B52F-40DB-950A-B71AD9D2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4BC46-E08D-4835-BD57-063AD298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774C-F4CC-4A67-B2D2-818062D1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1FE41-5810-4EAC-8D4D-7D5E5ECD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E1377-54F8-411F-B38F-646B67BC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1F1A9-8F52-48CB-A12E-2D5C6A9B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32862-4D3F-4106-8CAC-6956998DE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9F122-4281-498E-B53E-338A7954C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CE6C9-8412-4800-82B0-5D98ACC3F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5CACA-4A42-4BBD-A5CD-77A07546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E4A23-F49A-4D1F-985A-296FC37D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0E75F-ED47-4F61-B191-7BA07EE1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201F9-ED22-4202-8C14-EB6829D4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FF29-52FF-4A68-97A1-A396DC63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0C2E4-BD70-41DA-83A8-8BD27FCE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943B8-D6D8-4856-B47B-44CDC2F8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D5E6C-8077-42A8-80D3-41FC2AC8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71A9C-0785-47B7-9503-3612944E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02849-0CD7-4CD7-BB07-C10DED18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55F4E-B5B5-4FE7-9F48-B3BF30B12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68D5A-B51C-43F2-A4D5-74C220FBD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0D5BA-E310-4E41-B109-F41C8E13E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53207-2EC4-4C3D-B9D9-82293261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58C37-1A20-4C31-97BD-A0700482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ECBE-3750-47E5-9BF3-3230358A23EB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26D5-6EA7-4506-BDB3-CA6C747EEB52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8973-350C-4B14-8376-B972835EDBF8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14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331A-FEAC-41D3-B7DE-24B4A280A001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2CAE-DB21-416C-820B-CB5C7AECCE39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10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11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0786-DE32-481E-9011-5C7D6EF7B24C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056A-DDE3-4FD5-8A94-9D4AC56AAACC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8ACC-096A-4414-BEB7-89F463A1718B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2A83-86DC-49DE-B608-7D7FD33443DD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C64A-B02B-4055-BA2B-A3318855DFC7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28C2-46B9-4C08-80C1-8271D615FF58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6B04-306E-4357-8BC8-AD960EF6B01B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C0E1-14BF-48C7-A00B-B9576871DA4C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CF7C-3006-4541-91B4-C85AC4E2DF7E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5328-A9E6-4124-8981-A1B846B8EF4C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2AD1-C5A1-4CCC-A6CA-D6CA040FCA3A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577F-94E1-400B-9479-00AA3F7E99CD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1440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55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0" lang="es-ES" sz="18600" spc="-1" strike="noStrike">
                <a:solidFill>
                  <a:srgbClr val="000000"/>
                </a:solidFill>
                <a:latin typeface="Century Gothic"/>
              </a:rPr>
              <a:t>AMOR</a:t>
            </a:r>
            <a:r>
              <a:rPr b="1" lang="es-ES" sz="155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1" lang="es-ES" sz="12900" spc="-1" strike="noStrike">
                <a:solidFill>
                  <a:srgbClr val="000000"/>
                </a:solidFill>
                <a:latin typeface="Andalus"/>
                <a:ea typeface="Andalus"/>
              </a:rPr>
              <a:t>SUPREMO</a:t>
            </a:r>
            <a:br>
              <a:rPr sz="15500"/>
            </a:br>
            <a:endParaRPr b="0" lang="en-US" sz="129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ángulo 1"/>
          <p:cNvSpPr/>
          <p:nvPr/>
        </p:nvSpPr>
        <p:spPr>
          <a:xfrm>
            <a:off x="324000" y="1197000"/>
            <a:ext cx="8496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"Los ojos de todos miran a Ti, Y tú les das su alimento a su tiempo. Abres tu mano, Y satisfaces el deseo de todo ser viviente"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(Salmo 145: 15, 1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ángulo 1"/>
          <p:cNvSpPr/>
          <p:nvPr/>
        </p:nvSpPr>
        <p:spPr>
          <a:xfrm>
            <a:off x="468360" y="1268280"/>
            <a:ext cx="813600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¡No, no! "Porque de tal manera amó Dios al mundo, que dio a su Hijo unigénito"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(San Juan 3: 16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Rectángulo 1"/>
          <p:cNvSpPr/>
          <p:nvPr/>
        </p:nvSpPr>
        <p:spPr>
          <a:xfrm>
            <a:off x="468360" y="2205000"/>
            <a:ext cx="820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No es que el Padre nos ame por causa de la gran propiciaci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ángulo 1"/>
          <p:cNvSpPr/>
          <p:nvPr/>
        </p:nvSpPr>
        <p:spPr>
          <a:xfrm>
            <a:off x="539640" y="1862280"/>
            <a:ext cx="835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Sino que proveyó la propiciación porque nos ama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ángulo 1"/>
          <p:cNvSpPr/>
          <p:nvPr/>
        </p:nvSpPr>
        <p:spPr>
          <a:xfrm>
            <a:off x="324000" y="1989000"/>
            <a:ext cx="85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Cristo, fue el medio por el cual Dios derramó su amor sobre un mundo caído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Rectángulo 1"/>
          <p:cNvSpPr/>
          <p:nvPr/>
        </p:nvSpPr>
        <p:spPr>
          <a:xfrm>
            <a:off x="324000" y="1557360"/>
            <a:ext cx="842472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"Dios estaba en Cristo, reconciliando consigo mismo al mundo" </a:t>
            </a:r>
            <a:br>
              <a:rPr sz="6000"/>
            </a:b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(2 Corintios 5: 19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ángulo 1"/>
          <p:cNvSpPr/>
          <p:nvPr/>
        </p:nvSpPr>
        <p:spPr>
          <a:xfrm>
            <a:off x="684360" y="1844640"/>
            <a:ext cx="7991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Dios sufrió con su Hij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n la agonía del Getseman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ángulo 1"/>
          <p:cNvSpPr/>
          <p:nvPr/>
        </p:nvSpPr>
        <p:spPr>
          <a:xfrm>
            <a:off x="611280" y="1268280"/>
            <a:ext cx="80643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n la muerte del Calvario, el corazón del Amor Infinito pagó el precio de nuestra redenció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Rectángulo 1"/>
          <p:cNvSpPr/>
          <p:nvPr/>
        </p:nvSpPr>
        <p:spPr>
          <a:xfrm>
            <a:off x="395280" y="1844640"/>
            <a:ext cx="8424720" cy="30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Jesús decía: </a:t>
            </a:r>
            <a:r>
              <a:rPr b="1" lang="es-ES" sz="5100" spc="-1" strike="noStrike">
                <a:solidFill>
                  <a:srgbClr val="000000"/>
                </a:solidFill>
                <a:latin typeface="Calibri"/>
              </a:rPr>
              <a:t>"Por esto el Padre me ama, por cuanto yo pongo mi vida para volverla a tomar" 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(San Juan 10: 17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ángulo 2"/>
          <p:cNvSpPr/>
          <p:nvPr/>
        </p:nvSpPr>
        <p:spPr>
          <a:xfrm>
            <a:off x="395280" y="1658880"/>
            <a:ext cx="8400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Es decir: </a:t>
            </a: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"De tal manera os amaba mi Padre, que ha dado mi vida para redimiros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Rectángulo 1"/>
          <p:cNvSpPr/>
          <p:nvPr/>
        </p:nvSpPr>
        <p:spPr>
          <a:xfrm>
            <a:off x="826920" y="1916280"/>
            <a:ext cx="7561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Por haberme hecho vuestro Sustituto y Fianz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ángulo 1"/>
          <p:cNvSpPr/>
          <p:nvPr/>
        </p:nvSpPr>
        <p:spPr>
          <a:xfrm>
            <a:off x="395280" y="1506600"/>
            <a:ext cx="8353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Dios hizo al hombre perfectamente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santo y feliz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Rectángulo 1"/>
          <p:cNvSpPr/>
          <p:nvPr/>
        </p:nvSpPr>
        <p:spPr>
          <a:xfrm>
            <a:off x="468360" y="1995480"/>
            <a:ext cx="8207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or haber entregado mi vida y tomado vuestras transgres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ángulo 1"/>
          <p:cNvSpPr/>
          <p:nvPr/>
        </p:nvSpPr>
        <p:spPr>
          <a:xfrm>
            <a:off x="826920" y="1700280"/>
            <a:ext cx="7561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Soy más caro a mi Padre; por mi sacrificio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ángulo 6"/>
          <p:cNvSpPr/>
          <p:nvPr/>
        </p:nvSpPr>
        <p:spPr>
          <a:xfrm>
            <a:off x="468360" y="2068560"/>
            <a:ext cx="813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Nadie sino el Hijo de Dios podía efectuar nuestra redenc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Rectángulo 1"/>
          <p:cNvSpPr/>
          <p:nvPr/>
        </p:nvSpPr>
        <p:spPr>
          <a:xfrm>
            <a:off x="468360" y="1628640"/>
            <a:ext cx="7991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Porque sólo él, que estaba  en el seno del Padre podía darlo a conocer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ángulo 1"/>
          <p:cNvSpPr/>
          <p:nvPr/>
        </p:nvSpPr>
        <p:spPr>
          <a:xfrm>
            <a:off x="684360" y="1628640"/>
            <a:ext cx="7902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Sólo Él, que conocía la altura y la profundidad del amor de Dios, podía manifestarl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ángulo 1"/>
          <p:cNvSpPr/>
          <p:nvPr/>
        </p:nvSpPr>
        <p:spPr>
          <a:xfrm>
            <a:off x="468360" y="1773360"/>
            <a:ext cx="8424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Nada menos que el infinito sacrificio hecho por Cristo en favor del hombre caí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podía expresar el amor del Padre hacia la perdida humanida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Rectángulo 1"/>
          <p:cNvSpPr/>
          <p:nvPr/>
        </p:nvSpPr>
        <p:spPr>
          <a:xfrm>
            <a:off x="468360" y="1862280"/>
            <a:ext cx="82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Porque de tal manera amó Dios al mundo, que dio a su Hijo unigénit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ángulo 1"/>
          <p:cNvSpPr/>
          <p:nvPr/>
        </p:nvSpPr>
        <p:spPr>
          <a:xfrm>
            <a:off x="539640" y="1916280"/>
            <a:ext cx="79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Lo dio no solamente para que viviese entre los hombr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ángulo 1"/>
          <p:cNvSpPr/>
          <p:nvPr/>
        </p:nvSpPr>
        <p:spPr>
          <a:xfrm>
            <a:off x="611280" y="134136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No sólo para que llevase los pecados de ellos y muriese como su sacrifici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Rectángulo 1"/>
          <p:cNvSpPr/>
          <p:nvPr/>
        </p:nvSpPr>
        <p:spPr>
          <a:xfrm>
            <a:off x="755640" y="1587600"/>
            <a:ext cx="770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Cristo debía identificarse con los intereses y necesidades de la humanidad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ángulo 1"/>
          <p:cNvSpPr/>
          <p:nvPr/>
        </p:nvSpPr>
        <p:spPr>
          <a:xfrm>
            <a:off x="324000" y="1341360"/>
            <a:ext cx="8569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La hermosa tierra no tenía</a:t>
            </a:r>
            <a:r>
              <a:rPr b="0" lang="es-VE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mancha de decadencia ni sombra de maldición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al salir de la mano del Creado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ángulo 1"/>
          <p:cNvSpPr/>
          <p:nvPr/>
        </p:nvSpPr>
        <p:spPr>
          <a:xfrm>
            <a:off x="395280" y="1525680"/>
            <a:ext cx="828036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El que era uno con Dios se ha unido con los homb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con lazos que jamás serán quebrantados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ángulo 1"/>
          <p:cNvSpPr/>
          <p:nvPr/>
        </p:nvSpPr>
        <p:spPr>
          <a:xfrm>
            <a:off x="395280" y="2133720"/>
            <a:ext cx="842472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Jesús "no se avergüenza de llamarlos hermanos" 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(Hebreos 2: 1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Rectángulo 1"/>
          <p:cNvSpPr/>
          <p:nvPr/>
        </p:nvSpPr>
        <p:spPr>
          <a:xfrm>
            <a:off x="539640" y="184464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s nuestro Sacrificio, nuestro Abogado, nuestro Herman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ángulo 1"/>
          <p:cNvSpPr/>
          <p:nvPr/>
        </p:nvSpPr>
        <p:spPr>
          <a:xfrm>
            <a:off x="468360" y="186228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Lleva nuestra forma humana delante del trono del Pad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ángulo 1"/>
          <p:cNvSpPr/>
          <p:nvPr/>
        </p:nvSpPr>
        <p:spPr>
          <a:xfrm>
            <a:off x="250920" y="1779480"/>
            <a:ext cx="864216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y por las edades eternas será uno con la raza que ha redimido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s el Hijo del hombre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Rectángulo 1"/>
          <p:cNvSpPr/>
          <p:nvPr/>
        </p:nvSpPr>
        <p:spPr>
          <a:xfrm>
            <a:off x="250920" y="1442880"/>
            <a:ext cx="871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Y todo esto para que el hombre fuese levantado de la ruina y degradación del peca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ángulo 1"/>
          <p:cNvSpPr/>
          <p:nvPr/>
        </p:nvSpPr>
        <p:spPr>
          <a:xfrm>
            <a:off x="395280" y="1628640"/>
            <a:ext cx="8353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Para que reflejase el amor de Dios y participase del gozo de la santidad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ángulo 1"/>
          <p:cNvSpPr/>
          <p:nvPr/>
        </p:nvSpPr>
        <p:spPr>
          <a:xfrm>
            <a:off x="611280" y="1557360"/>
            <a:ext cx="792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El precio pagado por nuestra redención, el sacrificio infinito que hizo nuestro Padre celesti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Rectángulo 1"/>
          <p:cNvSpPr/>
          <p:nvPr/>
        </p:nvSpPr>
        <p:spPr>
          <a:xfrm>
            <a:off x="755640" y="177336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ntregar a su Hijo para que muriese por nosotr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ángulo 1"/>
          <p:cNvSpPr/>
          <p:nvPr/>
        </p:nvSpPr>
        <p:spPr>
          <a:xfrm>
            <a:off x="611280" y="1557360"/>
            <a:ext cx="792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Nos da un concepto elevado de lo que podemos ser hechos por Cristo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Rectángulo 1"/>
          <p:cNvSpPr/>
          <p:nvPr/>
        </p:nvSpPr>
        <p:spPr>
          <a:xfrm>
            <a:off x="395280" y="1425600"/>
            <a:ext cx="835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La transgresión de la ley de Dios, de la ley de amor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ha traído consigo dolor y muerte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Rectángulo 1"/>
          <p:cNvSpPr/>
          <p:nvPr/>
        </p:nvSpPr>
        <p:spPr>
          <a:xfrm>
            <a:off x="250920" y="1711440"/>
            <a:ext cx="864216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l considerar el inspirado apóstol Juan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"la altura, la profundidad y la anchura" del amor del Padre hacia la raza que perecía, se llena de alabanzas y reverenc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Rectángulo 1"/>
          <p:cNvSpPr/>
          <p:nvPr/>
        </p:nvSpPr>
        <p:spPr>
          <a:xfrm>
            <a:off x="324000" y="1741320"/>
            <a:ext cx="849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No pudiendo encontrar lenguaje conveniente en que expresar la grandeza de este am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ángulo 1"/>
          <p:cNvSpPr/>
          <p:nvPr/>
        </p:nvSpPr>
        <p:spPr>
          <a:xfrm>
            <a:off x="971640" y="2492280"/>
            <a:ext cx="72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¡exhorta al mundo a contemplarlo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ángulo 1"/>
          <p:cNvSpPr/>
          <p:nvPr/>
        </p:nvSpPr>
        <p:spPr>
          <a:xfrm>
            <a:off x="468360" y="1751040"/>
            <a:ext cx="828036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"¡Mirad cuál amor nos ha dado el Padre, que seamos llamados hijos de Dios!"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(1 San Juan 3: 1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Rectángulo 1"/>
          <p:cNvSpPr/>
          <p:nvPr/>
        </p:nvSpPr>
        <p:spPr>
          <a:xfrm>
            <a:off x="468360" y="2276640"/>
            <a:ext cx="813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¡Qué valioso hace esto al hombre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ángulo 1"/>
          <p:cNvSpPr/>
          <p:nvPr/>
        </p:nvSpPr>
        <p:spPr>
          <a:xfrm>
            <a:off x="539640" y="2060640"/>
            <a:ext cx="813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Por la transgresión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los hijos del hombre se hacen súbditos de Sataná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ángulo 1"/>
          <p:cNvSpPr/>
          <p:nvPr/>
        </p:nvSpPr>
        <p:spPr>
          <a:xfrm>
            <a:off x="611280" y="1384200"/>
            <a:ext cx="80643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Por la fe en el sacrificio reconciliador de Cristo, los hijos de Adán pueden ser hechos hijos de Dios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ángulo 1"/>
          <p:cNvSpPr/>
          <p:nvPr/>
        </p:nvSpPr>
        <p:spPr>
          <a:xfrm>
            <a:off x="611280" y="1628640"/>
            <a:ext cx="7921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Al revestirse de la naturaleza humana, Cristo eleva a la humanidad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ángulo 1"/>
          <p:cNvSpPr/>
          <p:nvPr/>
        </p:nvSpPr>
        <p:spPr>
          <a:xfrm>
            <a:off x="395280" y="1658880"/>
            <a:ext cx="8280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Los hombres caídos son colocados donde pueden, por la relación con Cris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Rectángulo 1"/>
          <p:cNvSpPr/>
          <p:nvPr/>
        </p:nvSpPr>
        <p:spPr>
          <a:xfrm>
            <a:off x="611280" y="2060640"/>
            <a:ext cx="792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Llegar a ser en verdad dignos del nombre de "hijos de Dios"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ángulo 1"/>
          <p:cNvSpPr/>
          <p:nvPr/>
        </p:nvSpPr>
        <p:spPr>
          <a:xfrm>
            <a:off x="395280" y="1555920"/>
            <a:ext cx="82803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in embargo, en medio del sufrimiento que resulta del pecado se manifiesta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amor de Dios</a:t>
            </a: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Rectángulo 1"/>
          <p:cNvSpPr/>
          <p:nvPr/>
        </p:nvSpPr>
        <p:spPr>
          <a:xfrm>
            <a:off x="539640" y="1851120"/>
            <a:ext cx="813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al amor es incomparable. ¡Hijos del Rey celestial! ¡Promesa preciosa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ángulo 1"/>
          <p:cNvSpPr/>
          <p:nvPr/>
        </p:nvSpPr>
        <p:spPr>
          <a:xfrm>
            <a:off x="468360" y="1646280"/>
            <a:ext cx="820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¡El incomparable amor de Dios para con un mundo que no lo amaba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Rectángulo 1"/>
          <p:cNvSpPr/>
          <p:nvPr/>
        </p:nvSpPr>
        <p:spPr>
          <a:xfrm>
            <a:off x="324000" y="1442880"/>
            <a:ext cx="835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Este pensamiento tiene un poder subyugador y cautiva el entendimiento a la voluntad de Dios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Rectángulo 1"/>
          <p:cNvSpPr/>
          <p:nvPr/>
        </p:nvSpPr>
        <p:spPr>
          <a:xfrm>
            <a:off x="395280" y="1851120"/>
            <a:ext cx="8569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5400" spc="-1" strike="noStrike">
                <a:solidFill>
                  <a:srgbClr val="000000"/>
                </a:solidFill>
                <a:latin typeface="Calibri"/>
                <a:ea typeface="Arial Unicode MS"/>
              </a:rPr>
              <a:t>Cuanto más estudiamos el carácter divino a la luz de la cruz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ángulo 1"/>
          <p:cNvSpPr/>
          <p:nvPr/>
        </p:nvSpPr>
        <p:spPr>
          <a:xfrm>
            <a:off x="611280" y="1596960"/>
            <a:ext cx="806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5400" spc="-1" strike="noStrike">
                <a:solidFill>
                  <a:srgbClr val="000000"/>
                </a:solidFill>
                <a:latin typeface="Calibri"/>
                <a:ea typeface="Arial Unicode MS"/>
              </a:rPr>
              <a:t>Más vemos la misericordia, la ternura y el perdón unidos a la equidad y la justic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Rectángulo 1"/>
          <p:cNvSpPr/>
          <p:nvPr/>
        </p:nvSpPr>
        <p:spPr>
          <a:xfrm>
            <a:off x="144360" y="1779480"/>
            <a:ext cx="882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VE" sz="5400" spc="-1" strike="noStrike">
                <a:solidFill>
                  <a:srgbClr val="000000"/>
                </a:solidFill>
                <a:latin typeface="Calibri"/>
              </a:rPr>
              <a:t>Más claramente discernimos pruebas innumerables de un amor infini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Rectángulo 1"/>
          <p:cNvSpPr/>
          <p:nvPr/>
        </p:nvSpPr>
        <p:spPr>
          <a:xfrm>
            <a:off x="395280" y="1461960"/>
            <a:ext cx="856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800" spc="-1" strike="noStrike">
                <a:solidFill>
                  <a:srgbClr val="000000"/>
                </a:solidFill>
                <a:latin typeface="Calibri"/>
              </a:rPr>
              <a:t>De una tierna piedad que sobrepuja la ardiente simpatía y los sentimientos de la madre para con su hijo extraviad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ángulo 1"/>
          <p:cNvSpPr/>
          <p:nvPr/>
        </p:nvSpPr>
        <p:spPr>
          <a:xfrm>
            <a:off x="108000" y="2205000"/>
            <a:ext cx="896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6600" spc="-1" strike="noStrike">
                <a:solidFill>
                  <a:srgbClr val="000000"/>
                </a:solidFill>
                <a:latin typeface="Calibri"/>
              </a:rPr>
              <a:t>Romperse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6600" spc="-1" strike="noStrike">
                <a:solidFill>
                  <a:srgbClr val="000000"/>
                </a:solidFill>
                <a:latin typeface="Calibri"/>
              </a:rPr>
              <a:t>puede todo lazo humano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Rectángulo 1"/>
          <p:cNvSpPr/>
          <p:nvPr/>
        </p:nvSpPr>
        <p:spPr>
          <a:xfrm>
            <a:off x="539640" y="2205000"/>
            <a:ext cx="806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6000" spc="-1" strike="noStrike">
                <a:solidFill>
                  <a:srgbClr val="000000"/>
                </a:solidFill>
                <a:latin typeface="Calibri"/>
              </a:rPr>
              <a:t>Separars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6000" spc="-1" strike="noStrike">
                <a:solidFill>
                  <a:srgbClr val="000000"/>
                </a:solidFill>
                <a:latin typeface="Calibri"/>
              </a:rPr>
              <a:t>el hermano del herman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Rectángulo 1"/>
          <p:cNvSpPr/>
          <p:nvPr/>
        </p:nvSpPr>
        <p:spPr>
          <a:xfrm>
            <a:off x="755640" y="2492280"/>
            <a:ext cx="77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6000" spc="-1" strike="noStrike">
                <a:solidFill>
                  <a:srgbClr val="000000"/>
                </a:solidFill>
                <a:latin typeface="Calibri"/>
              </a:rPr>
              <a:t>Olvidar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VE" sz="6000" spc="-1" strike="noStrike">
                <a:solidFill>
                  <a:srgbClr val="000000"/>
                </a:solidFill>
                <a:latin typeface="Calibri"/>
              </a:rPr>
              <a:t>la madre de sus hij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ángulo 1"/>
          <p:cNvSpPr/>
          <p:nvPr/>
        </p:nvSpPr>
        <p:spPr>
          <a:xfrm>
            <a:off x="539640" y="1515960"/>
            <a:ext cx="820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Calibri"/>
              </a:rPr>
              <a:t>Está escrito que  Dios maldijo la tier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Calibri"/>
              </a:rPr>
              <a:t>por causa del hombr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Calibri"/>
              </a:rPr>
              <a:t>en </a:t>
            </a: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Génesis 3: 17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ángulo 1"/>
          <p:cNvSpPr/>
          <p:nvPr/>
        </p:nvSpPr>
        <p:spPr>
          <a:xfrm>
            <a:off x="179280" y="2205000"/>
            <a:ext cx="878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VE" sz="6000" spc="-1" strike="noStrike">
                <a:solidFill>
                  <a:srgbClr val="000000"/>
                </a:solidFill>
                <a:latin typeface="Calibri"/>
              </a:rPr>
              <a:t>Varia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6000" spc="-1" strike="noStrike">
                <a:solidFill>
                  <a:srgbClr val="000000"/>
                </a:solidFill>
                <a:latin typeface="Calibri"/>
              </a:rPr>
              <a:t>los astros sus senderos fij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ángulo 1"/>
          <p:cNvSpPr/>
          <p:nvPr/>
        </p:nvSpPr>
        <p:spPr>
          <a:xfrm>
            <a:off x="539640" y="1700280"/>
            <a:ext cx="820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6000" spc="-1" strike="noStrike">
                <a:solidFill>
                  <a:srgbClr val="000000"/>
                </a:solidFill>
                <a:latin typeface="Calibri"/>
              </a:rPr>
              <a:t>Mas ciertamente nunca cambiará El amor proveniente de Jehová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Rectángulo 1"/>
          <p:cNvSpPr/>
          <p:nvPr/>
        </p:nvSpPr>
        <p:spPr>
          <a:xfrm>
            <a:off x="468360" y="1484280"/>
            <a:ext cx="835164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Los cardos y las espina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as dificultades y pruebas que hacen de su vida una v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e afán y cuidado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ángulo 2"/>
          <p:cNvSpPr/>
          <p:nvPr/>
        </p:nvSpPr>
        <p:spPr>
          <a:xfrm>
            <a:off x="270000" y="4508640"/>
            <a:ext cx="8550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les fueron asignados por su bie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ángulo 1"/>
          <p:cNvSpPr/>
          <p:nvPr/>
        </p:nvSpPr>
        <p:spPr>
          <a:xfrm>
            <a:off x="755640" y="1484280"/>
            <a:ext cx="7632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como parte de la preparación para su elevación de la ruin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ángulo 1"/>
          <p:cNvSpPr/>
          <p:nvPr/>
        </p:nvSpPr>
        <p:spPr>
          <a:xfrm>
            <a:off x="611280" y="1765440"/>
            <a:ext cx="803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Calibri"/>
              </a:rPr>
              <a:t>que el pecado caus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ángulo 2"/>
          <p:cNvSpPr/>
          <p:nvPr/>
        </p:nvSpPr>
        <p:spPr>
          <a:xfrm>
            <a:off x="532080" y="3068640"/>
            <a:ext cx="819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Calibri"/>
              </a:rPr>
              <a:t>según el plan de Dio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ángulo 1"/>
          <p:cNvSpPr/>
          <p:nvPr/>
        </p:nvSpPr>
        <p:spPr>
          <a:xfrm>
            <a:off x="539640" y="1749600"/>
            <a:ext cx="79930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Calibri"/>
              </a:rPr>
              <a:t>El mundo, aunque caído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No es todo tristeza y miseria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ángulo 1"/>
          <p:cNvSpPr/>
          <p:nvPr/>
        </p:nvSpPr>
        <p:spPr>
          <a:xfrm>
            <a:off x="611280" y="981000"/>
            <a:ext cx="8118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  <a:ea typeface="Arial Unicode MS"/>
              </a:rPr>
              <a:t>La naturaleza y la revelación a una dan testimonio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  <a:ea typeface="Arial Unicode MS"/>
              </a:rPr>
              <a:t>del amor de </a:t>
            </a:r>
            <a:r>
              <a:rPr b="1" lang="es-ES" sz="7200" spc="-1" strike="noStrike">
                <a:solidFill>
                  <a:srgbClr val="000000"/>
                </a:solidFill>
                <a:latin typeface="Calibri"/>
                <a:ea typeface="Arial Unicode MS"/>
              </a:rPr>
              <a:t>Dios</a:t>
            </a:r>
            <a:r>
              <a:rPr b="1" lang="es-ES" sz="6600" spc="-1" strike="noStrike">
                <a:solidFill>
                  <a:srgbClr val="000000"/>
                </a:solidFill>
                <a:latin typeface="Calibri"/>
                <a:ea typeface="Arial Unicode MS"/>
              </a:rPr>
              <a:t>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Rectángulo 1"/>
          <p:cNvSpPr/>
          <p:nvPr/>
        </p:nvSpPr>
        <p:spPr>
          <a:xfrm>
            <a:off x="468360" y="171936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n la naturaleza misma hay mensajes de esperanza y consuelo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ángulo 1"/>
          <p:cNvSpPr/>
          <p:nvPr/>
        </p:nvSpPr>
        <p:spPr>
          <a:xfrm>
            <a:off x="611280" y="1433520"/>
            <a:ext cx="7921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Hay flores en los cardos y las espinas están cubiertas de rosas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ángulo 1"/>
          <p:cNvSpPr/>
          <p:nvPr/>
        </p:nvSpPr>
        <p:spPr>
          <a:xfrm>
            <a:off x="611280" y="1700280"/>
            <a:ext cx="806436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"Dios es amor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está escrito en cada capullo de flor que se abre, en cada tallo de la naciente hierba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Rectángulo 1"/>
          <p:cNvSpPr/>
          <p:nvPr/>
        </p:nvSpPr>
        <p:spPr>
          <a:xfrm>
            <a:off x="658800" y="1503360"/>
            <a:ext cx="7800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Los pájaros, que llenan el aire de melodías con sus preciosos canto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Rectángulo 1"/>
          <p:cNvSpPr/>
          <p:nvPr/>
        </p:nvSpPr>
        <p:spPr>
          <a:xfrm>
            <a:off x="539640" y="1790640"/>
            <a:ext cx="80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Las flores que en su perfección, perfuman el aire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ángulo 1"/>
          <p:cNvSpPr/>
          <p:nvPr/>
        </p:nvSpPr>
        <p:spPr>
          <a:xfrm>
            <a:off x="611280" y="1646280"/>
            <a:ext cx="792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Los árboles del bosque con su rico follaje de viviente verdor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ángulo 1"/>
          <p:cNvSpPr/>
          <p:nvPr/>
        </p:nvSpPr>
        <p:spPr>
          <a:xfrm>
            <a:off x="539640" y="1811160"/>
            <a:ext cx="8064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dos dan testimonio del tierno y paternal cuidado de nuestro </a:t>
            </a: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Dio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ángulo 1"/>
          <p:cNvSpPr/>
          <p:nvPr/>
        </p:nvSpPr>
        <p:spPr>
          <a:xfrm>
            <a:off x="611280" y="2006640"/>
            <a:ext cx="784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y de su dese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de hacer felices a sus hijo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ángulo 1"/>
          <p:cNvSpPr/>
          <p:nvPr/>
        </p:nvSpPr>
        <p:spPr>
          <a:xfrm>
            <a:off x="611280" y="1952640"/>
            <a:ext cx="792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Palabra de Dios revela su carácter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Rectángulo 1"/>
          <p:cNvSpPr/>
          <p:nvPr/>
        </p:nvSpPr>
        <p:spPr>
          <a:xfrm>
            <a:off x="468360" y="1706400"/>
            <a:ext cx="82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Él mismo ha declarad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su infinito amor y piedad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ángulo 1"/>
          <p:cNvSpPr/>
          <p:nvPr/>
        </p:nvSpPr>
        <p:spPr>
          <a:xfrm>
            <a:off x="395280" y="1698480"/>
            <a:ext cx="835344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Nuestro Padre Celestial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s la fuente de vida, de sabiduría y de gozo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Rectángulo 1"/>
          <p:cNvSpPr/>
          <p:nvPr/>
        </p:nvSpPr>
        <p:spPr>
          <a:xfrm>
            <a:off x="684360" y="1955880"/>
            <a:ext cx="782928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Cuando Moisés dijo: </a:t>
            </a: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"Ruégote me permitas ver tu gloria"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ángulo 1"/>
          <p:cNvSpPr/>
          <p:nvPr/>
        </p:nvSpPr>
        <p:spPr>
          <a:xfrm>
            <a:off x="179280" y="1544760"/>
            <a:ext cx="871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Jehová respondió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"Yo haré que pase toda mi benignidad ante tu vista"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(Éxodo 33: 18, 1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ángulo 1"/>
          <p:cNvSpPr/>
          <p:nvPr/>
        </p:nvSpPr>
        <p:spPr>
          <a:xfrm>
            <a:off x="708480" y="2394000"/>
            <a:ext cx="772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Calibri"/>
              </a:rPr>
              <a:t>¡Tal es su gloria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ángulo 1"/>
          <p:cNvSpPr/>
          <p:nvPr/>
        </p:nvSpPr>
        <p:spPr>
          <a:xfrm>
            <a:off x="324000" y="206532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Jehová pasó delante de Moisés y clam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ángulo 1"/>
          <p:cNvSpPr/>
          <p:nvPr/>
        </p:nvSpPr>
        <p:spPr>
          <a:xfrm>
            <a:off x="395280" y="1749600"/>
            <a:ext cx="835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"Jehová, Dios compasivo y clemente lento en iras y grande en misericordia y en Fidelidad…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Rectángulo 1"/>
          <p:cNvSpPr/>
          <p:nvPr/>
        </p:nvSpPr>
        <p:spPr>
          <a:xfrm>
            <a:off x="395280" y="1557360"/>
            <a:ext cx="835344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que usa de misericordia hasta la milésima generación; que perdona la iniquidad, la transgresión y el pecado"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(Éxodo 34: 6, 7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ángulo 1"/>
          <p:cNvSpPr/>
          <p:nvPr/>
        </p:nvSpPr>
        <p:spPr>
          <a:xfrm>
            <a:off x="684360" y="1974960"/>
            <a:ext cx="777528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"Lento en iras y grande en misericordia"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(Jonás 4: 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ángulo 1"/>
          <p:cNvSpPr/>
          <p:nvPr/>
        </p:nvSpPr>
        <p:spPr>
          <a:xfrm>
            <a:off x="826920" y="1892160"/>
            <a:ext cx="756144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"Porque se deleita en la misericordia"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(Miqueas 7: 18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Rectángulo 1"/>
          <p:cNvSpPr/>
          <p:nvPr/>
        </p:nvSpPr>
        <p:spPr>
          <a:xfrm>
            <a:off x="395280" y="2205000"/>
            <a:ext cx="8353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Dios ha unido nuestros corazones a Él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Rectángulo 1"/>
          <p:cNvSpPr/>
          <p:nvPr/>
        </p:nvSpPr>
        <p:spPr>
          <a:xfrm>
            <a:off x="395280" y="1557360"/>
            <a:ext cx="835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con innumerables pruebas en los cielos y en la tierra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ángulo 1"/>
          <p:cNvSpPr/>
          <p:nvPr/>
        </p:nvSpPr>
        <p:spPr>
          <a:xfrm>
            <a:off x="611280" y="1801800"/>
            <a:ext cx="7921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Mirad las maravill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y bellezas de la naturaleza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ángulo 1"/>
          <p:cNvSpPr/>
          <p:nvPr/>
        </p:nvSpPr>
        <p:spPr>
          <a:xfrm>
            <a:off x="407880" y="1628640"/>
            <a:ext cx="828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Mediante la naturalez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Rectángulo 2"/>
          <p:cNvSpPr/>
          <p:nvPr/>
        </p:nvSpPr>
        <p:spPr>
          <a:xfrm>
            <a:off x="395280" y="2565360"/>
            <a:ext cx="828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y los más tiernos lazos que el corazón humano pueda conocer en la tierra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ángulo 1"/>
          <p:cNvSpPr/>
          <p:nvPr/>
        </p:nvSpPr>
        <p:spPr>
          <a:xfrm>
            <a:off x="684360" y="1587600"/>
            <a:ext cx="7775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Con todo, estas cosas sólo representan imperfectamente su amor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ángulo 1"/>
          <p:cNvSpPr/>
          <p:nvPr/>
        </p:nvSpPr>
        <p:spPr>
          <a:xfrm>
            <a:off x="468360" y="1822320"/>
            <a:ext cx="82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Aunque se habían dado pruebas evidentes, el enemigo del bien cegó el entendimiento de los homb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ángulo 1"/>
          <p:cNvSpPr/>
          <p:nvPr/>
        </p:nvSpPr>
        <p:spPr>
          <a:xfrm>
            <a:off x="468360" y="162864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ara que éstos mirasen a Dios con temor, para que lo considerasen severo e implacabl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ángulo 1"/>
          <p:cNvSpPr/>
          <p:nvPr/>
        </p:nvSpPr>
        <p:spPr>
          <a:xfrm>
            <a:off x="324000" y="1414440"/>
            <a:ext cx="842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atanás indujo a los hombres a concebir a Dios como un ser cuyo principal atributo es una justicia inexora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ángulo 1"/>
          <p:cNvSpPr/>
          <p:nvPr/>
        </p:nvSpPr>
        <p:spPr>
          <a:xfrm>
            <a:off x="1619280" y="1773360"/>
            <a:ext cx="590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como un juez severo, un duro, estricto acreedor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ángulo 1"/>
          <p:cNvSpPr/>
          <p:nvPr/>
        </p:nvSpPr>
        <p:spPr>
          <a:xfrm>
            <a:off x="395280" y="1414440"/>
            <a:ext cx="842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intó al Creador como un ser que está velando con ojo celoso por discernir las faltas de los hombres, para visitarlos con juicio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ángulo 1"/>
          <p:cNvSpPr/>
          <p:nvPr/>
        </p:nvSpPr>
        <p:spPr>
          <a:xfrm>
            <a:off x="900000" y="206532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Por esto vino Jesús a vivir entre los hombr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ángulo 1"/>
          <p:cNvSpPr/>
          <p:nvPr/>
        </p:nvSpPr>
        <p:spPr>
          <a:xfrm>
            <a:off x="468360" y="1773360"/>
            <a:ext cx="828036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Para disipar esa densa sombra, revelando al mundo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amor infinito de Dios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Rectángulo 1"/>
          <p:cNvSpPr/>
          <p:nvPr/>
        </p:nvSpPr>
        <p:spPr>
          <a:xfrm>
            <a:off x="755640" y="1628640"/>
            <a:ext cx="77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l Hijo de Dios descendió del cielo para manifestar al Padr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ángulo 1"/>
          <p:cNvSpPr/>
          <p:nvPr/>
        </p:nvSpPr>
        <p:spPr>
          <a:xfrm>
            <a:off x="395280" y="1628640"/>
            <a:ext cx="84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ensad en su prodigiosa adaptación a las necesidades y a la felicidad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Rectángulo 2"/>
          <p:cNvSpPr/>
          <p:nvPr/>
        </p:nvSpPr>
        <p:spPr>
          <a:xfrm>
            <a:off x="539640" y="2932200"/>
            <a:ext cx="813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no solamente del hombre, sino de todas las criaturas vivient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ángulo 1"/>
          <p:cNvSpPr/>
          <p:nvPr/>
        </p:nvSpPr>
        <p:spPr>
          <a:xfrm>
            <a:off x="539640" y="1290600"/>
            <a:ext cx="813600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"A Dios nadie jamás le ha visto: el Hijo unigénito, que está en el seno del Padre, él le ha dado a conocer"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(San Juan 1: 18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ángulo 2"/>
          <p:cNvSpPr/>
          <p:nvPr/>
        </p:nvSpPr>
        <p:spPr>
          <a:xfrm>
            <a:off x="468360" y="1677960"/>
            <a:ext cx="820728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"Ni al Padre conoce nadie, sino el Hijo, y aquel a quien el Hijo lo quisiere revelar". 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(San Mateo 11: 2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ángulo 1"/>
          <p:cNvSpPr/>
          <p:nvPr/>
        </p:nvSpPr>
        <p:spPr>
          <a:xfrm>
            <a:off x="468360" y="2098800"/>
            <a:ext cx="820728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Cuando uno de s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discípulos le dijo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"Muéstranos al Padre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ángulo 1"/>
          <p:cNvSpPr/>
          <p:nvPr/>
        </p:nvSpPr>
        <p:spPr>
          <a:xfrm>
            <a:off x="324000" y="1413000"/>
            <a:ext cx="849600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Jesús respondió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"Tanto tiempo hace que estoy con vosotros, ¿y todavía no me conoces, Felipe?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ángulo 1"/>
          <p:cNvSpPr/>
          <p:nvPr/>
        </p:nvSpPr>
        <p:spPr>
          <a:xfrm>
            <a:off x="468360" y="1341360"/>
            <a:ext cx="828036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l que me ha visto a mí, ha visto al Padre: ¿Cómo pues dices tú: Muéstranos al Padre?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(San Juan 14: 8, 9, 1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ángulo 1"/>
          <p:cNvSpPr/>
          <p:nvPr/>
        </p:nvSpPr>
        <p:spPr>
          <a:xfrm>
            <a:off x="324000" y="1893960"/>
            <a:ext cx="842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Jesús dijo, describiendo su misión terrenal: “Jehová me ha ungido para anunciar buenas nuevas a los pobres…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ángulo 1"/>
          <p:cNvSpPr/>
          <p:nvPr/>
        </p:nvSpPr>
        <p:spPr>
          <a:xfrm>
            <a:off x="468360" y="1414440"/>
            <a:ext cx="8136000" cy="44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me ha enviado para proclamar a los cautivos, y a los ciegos recobro la vista para poner en libertad a los oprimidos"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s. Lucas 4: 18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Ésta era su obra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ángulo 1"/>
          <p:cNvSpPr/>
          <p:nvPr/>
        </p:nvSpPr>
        <p:spPr>
          <a:xfrm>
            <a:off x="684360" y="1851120"/>
            <a:ext cx="784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asó haciendo bien y sanando a todos los oprimidos de Satanás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ángulo 1"/>
          <p:cNvSpPr/>
          <p:nvPr/>
        </p:nvSpPr>
        <p:spPr>
          <a:xfrm>
            <a:off x="468360" y="1989000"/>
            <a:ext cx="820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Había aldeas enteras donde no se oía un gemido de dolor en casa alguna, 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orque él había pasado por ellas y sanado a todos sus enferm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ángulo 1"/>
          <p:cNvSpPr/>
          <p:nvPr/>
        </p:nvSpPr>
        <p:spPr>
          <a:xfrm>
            <a:off x="611280" y="2205000"/>
            <a:ext cx="792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Su obra demostraba su divina unción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Rectángulo 1"/>
          <p:cNvSpPr/>
          <p:nvPr/>
        </p:nvSpPr>
        <p:spPr>
          <a:xfrm>
            <a:off x="395280" y="1657440"/>
            <a:ext cx="82803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sol y la lluvia que alegran y refrescan la tierr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ángulo 1"/>
          <p:cNvSpPr/>
          <p:nvPr/>
        </p:nvSpPr>
        <p:spPr>
          <a:xfrm>
            <a:off x="324000" y="1773360"/>
            <a:ext cx="842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n cada acto de su vida revelaba amor, misericordia y compasi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ángulo 1"/>
          <p:cNvSpPr/>
          <p:nvPr/>
        </p:nvSpPr>
        <p:spPr>
          <a:xfrm>
            <a:off x="611280" y="1989000"/>
            <a:ext cx="792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Su corazón rebosaba de tierna simpatía por los hijos de los hombres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ángulo 1"/>
          <p:cNvSpPr/>
          <p:nvPr/>
        </p:nvSpPr>
        <p:spPr>
          <a:xfrm>
            <a:off x="468360" y="1484280"/>
            <a:ext cx="828036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  <a:ea typeface="Arial Unicode MS"/>
              </a:rPr>
              <a:t>Tomó la naturaleza del hombr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Calibri"/>
                <a:ea typeface="Arial Unicode MS"/>
              </a:rPr>
              <a:t>para poder simpatizar con sus necesidades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ángulo 1"/>
          <p:cNvSpPr/>
          <p:nvPr/>
        </p:nvSpPr>
        <p:spPr>
          <a:xfrm>
            <a:off x="395280" y="1700280"/>
            <a:ext cx="84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Calibri"/>
              </a:rPr>
              <a:t>Los más pobr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Calibri"/>
              </a:rPr>
              <a:t>y humildes no tenían temor de allegársele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ángulo 1"/>
          <p:cNvSpPr/>
          <p:nvPr/>
        </p:nvSpPr>
        <p:spPr>
          <a:xfrm>
            <a:off x="611280" y="1700280"/>
            <a:ext cx="78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Calibri"/>
              </a:rPr>
              <a:t>Aun los niñitos se sentían atraídos hacia Él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ángulo 1"/>
          <p:cNvSpPr/>
          <p:nvPr/>
        </p:nvSpPr>
        <p:spPr>
          <a:xfrm>
            <a:off x="468360" y="1700280"/>
            <a:ext cx="82803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Les gustaba subir a sus rodilla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y contemplar ese rostro pensativo que irradiab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Calibri"/>
              </a:rPr>
              <a:t>benignidad y amo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ángulo 1"/>
          <p:cNvSpPr/>
          <p:nvPr/>
        </p:nvSpPr>
        <p:spPr>
          <a:xfrm>
            <a:off x="395280" y="1557360"/>
            <a:ext cx="8353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Jesús no suprimió una palabra de verdad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sino que prefirió siempre la verdad con amor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ángulo 1"/>
          <p:cNvSpPr/>
          <p:nvPr/>
        </p:nvSpPr>
        <p:spPr>
          <a:xfrm>
            <a:off x="468360" y="1741320"/>
            <a:ext cx="820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Hablaba con el mayor tacto, cuidado y misericordiosa atención, en su trato con las personas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ángulo 1"/>
          <p:cNvSpPr/>
          <p:nvPr/>
        </p:nvSpPr>
        <p:spPr>
          <a:xfrm>
            <a:off x="395280" y="1916280"/>
            <a:ext cx="835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Nunca fue áspero, nunca habló una palabra severa innecesariament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ángulo 1"/>
          <p:cNvSpPr/>
          <p:nvPr/>
        </p:nvSpPr>
        <p:spPr>
          <a:xfrm>
            <a:off x="611280" y="1916280"/>
            <a:ext cx="792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Nunca dio a un alma sensible una pena innecesaria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ángulo 1"/>
          <p:cNvSpPr/>
          <p:nvPr/>
        </p:nvSpPr>
        <p:spPr>
          <a:xfrm>
            <a:off x="611280" y="1413000"/>
            <a:ext cx="8047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os montes, los mares y los valles, todos nos hablan del amor del Creador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ángulo 1"/>
          <p:cNvSpPr/>
          <p:nvPr/>
        </p:nvSpPr>
        <p:spPr>
          <a:xfrm>
            <a:off x="395280" y="220500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No censurab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la debilidad humana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ángulo 1"/>
          <p:cNvSpPr/>
          <p:nvPr/>
        </p:nvSpPr>
        <p:spPr>
          <a:xfrm>
            <a:off x="755640" y="2354400"/>
            <a:ext cx="77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Hablaba la verdad, pero siempre con amor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ángulo 1"/>
          <p:cNvSpPr/>
          <p:nvPr/>
        </p:nvSpPr>
        <p:spPr>
          <a:xfrm>
            <a:off x="324000" y="1773360"/>
            <a:ext cx="835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Denunciaba la hipocresía, la incredulidad y la iniquidad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ángulo 1"/>
          <p:cNvSpPr/>
          <p:nvPr/>
        </p:nvSpPr>
        <p:spPr>
          <a:xfrm>
            <a:off x="250920" y="1935000"/>
            <a:ext cx="864216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pero las lágrimas velaban su voz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cuando profería sus fuertes reprension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ángulo 1"/>
          <p:cNvSpPr/>
          <p:nvPr/>
        </p:nvSpPr>
        <p:spPr>
          <a:xfrm>
            <a:off x="324000" y="1884240"/>
            <a:ext cx="84960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Lloró sobre Jerusalén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la ciudad amada que rehusó recibirlo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a Él, el Camino, la  Verdad y la Vida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ángulo 1"/>
          <p:cNvSpPr/>
          <p:nvPr/>
        </p:nvSpPr>
        <p:spPr>
          <a:xfrm>
            <a:off x="324000" y="1779480"/>
            <a:ext cx="85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Habían rechazado al Salvador, </a:t>
            </a: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mas Él los consideraba con piadosa ternura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ángulo 1"/>
          <p:cNvSpPr/>
          <p:nvPr/>
        </p:nvSpPr>
        <p:spPr>
          <a:xfrm>
            <a:off x="539640" y="2006640"/>
            <a:ext cx="80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La suya fue una vida de abnegación y verdadera solicitud por los demás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ángulo 1"/>
          <p:cNvSpPr/>
          <p:nvPr/>
        </p:nvSpPr>
        <p:spPr>
          <a:xfrm>
            <a:off x="1116000" y="1484280"/>
            <a:ext cx="734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Calibri"/>
              </a:rPr>
              <a:t>Toda alma era preciosa a sus ojos.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ángulo 1"/>
          <p:cNvSpPr/>
          <p:nvPr/>
        </p:nvSpPr>
        <p:spPr>
          <a:xfrm>
            <a:off x="900000" y="1773360"/>
            <a:ext cx="748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A la vez que siempre llevaba consigo la dignidad divi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ángulo 1"/>
          <p:cNvSpPr/>
          <p:nvPr/>
        </p:nvSpPr>
        <p:spPr>
          <a:xfrm>
            <a:off x="71280" y="1689120"/>
            <a:ext cx="90378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se inclinaba con tierna conside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hacia cada uno de los miembros de la familia de Dios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ángulo 1"/>
          <p:cNvSpPr/>
          <p:nvPr/>
        </p:nvSpPr>
        <p:spPr>
          <a:xfrm>
            <a:off x="539640" y="155736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Dios es el que suple las necesidades diarias de todas sus criaturas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ángulo 1"/>
          <p:cNvSpPr/>
          <p:nvPr/>
        </p:nvSpPr>
        <p:spPr>
          <a:xfrm>
            <a:off x="324000" y="1731960"/>
            <a:ext cx="856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n todos los hombres veía almas caídas, a quienes era su misión salvar.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ángulo 1"/>
          <p:cNvSpPr/>
          <p:nvPr/>
        </p:nvSpPr>
        <p:spPr>
          <a:xfrm>
            <a:off x="826920" y="1851120"/>
            <a:ext cx="763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al es el carácter de Cristo como se revela en su vida.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ángulo 1"/>
          <p:cNvSpPr/>
          <p:nvPr/>
        </p:nvSpPr>
        <p:spPr>
          <a:xfrm>
            <a:off x="324000" y="1989000"/>
            <a:ext cx="85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Del corazón del Padre es de donde emanan los ríos de compasión divi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Rectángulo 1"/>
          <p:cNvSpPr/>
          <p:nvPr/>
        </p:nvSpPr>
        <p:spPr>
          <a:xfrm>
            <a:off x="539640" y="1862280"/>
            <a:ext cx="79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manifestada en Cristo para todos los hijos de los hombres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ángulo 1"/>
          <p:cNvSpPr/>
          <p:nvPr/>
        </p:nvSpPr>
        <p:spPr>
          <a:xfrm>
            <a:off x="250920" y="1546200"/>
            <a:ext cx="864216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Jesús el tierno y piadoso Salvador, era Dios "manifestado en la carne"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(1 Timoteo 3: 1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ángulo 1"/>
          <p:cNvSpPr/>
          <p:nvPr/>
        </p:nvSpPr>
        <p:spPr>
          <a:xfrm>
            <a:off x="468360" y="2276640"/>
            <a:ext cx="82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Jesús vivió, sufrió y murió para redimirnos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ángulo 1"/>
          <p:cNvSpPr/>
          <p:nvPr/>
        </p:nvSpPr>
        <p:spPr>
          <a:xfrm>
            <a:off x="1187280" y="2065320"/>
            <a:ext cx="705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Él se hiz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"Varón de dolores"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ángulo 1"/>
          <p:cNvSpPr/>
          <p:nvPr/>
        </p:nvSpPr>
        <p:spPr>
          <a:xfrm>
            <a:off x="539640" y="1773360"/>
            <a:ext cx="80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ara que nosotros fuésemos hechos participantes del gozo eterno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ángulo 1"/>
          <p:cNvSpPr/>
          <p:nvPr/>
        </p:nvSpPr>
        <p:spPr>
          <a:xfrm>
            <a:off x="539640" y="1341360"/>
            <a:ext cx="8136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Dios permitió que su Hijo amado, lleno de gracia y de verdad, viniese de un mundo de indescriptible gloria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Rectángulo 1"/>
          <p:cNvSpPr/>
          <p:nvPr/>
        </p:nvSpPr>
        <p:spPr>
          <a:xfrm>
            <a:off x="468360" y="1700280"/>
            <a:ext cx="820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a un mundo corrupto y manchado por el pecado, oscurecido con la sombra de la muerte y la maldición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ángulo 1"/>
          <p:cNvSpPr/>
          <p:nvPr/>
        </p:nvSpPr>
        <p:spPr>
          <a:xfrm>
            <a:off x="395280" y="1413000"/>
            <a:ext cx="813744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Calibri"/>
              </a:rPr>
              <a:t>El salmista lo dij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Calibri"/>
              </a:rPr>
              <a:t>en las bellas palabras escritas 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Salmo 145: 15, 16</a:t>
            </a:r>
            <a:r>
              <a:rPr b="0" lang="es-ES" sz="6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ángulo 1"/>
          <p:cNvSpPr/>
          <p:nvPr/>
        </p:nvSpPr>
        <p:spPr>
          <a:xfrm>
            <a:off x="468360" y="1700280"/>
            <a:ext cx="82803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Permitió que dejase el seno de su amor, la adoración de los ángeles, </a:t>
            </a: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ara sufrir vergüenza, insultos, humillación, odio y muerte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ángulo 1"/>
          <p:cNvSpPr/>
          <p:nvPr/>
        </p:nvSpPr>
        <p:spPr>
          <a:xfrm>
            <a:off x="468360" y="1700280"/>
            <a:ext cx="828036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"El castigo de nuestra paz cayó sobre él, y por sus llagas nosotros sanamos"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(Isaías 53: 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ángulo 1"/>
          <p:cNvSpPr/>
          <p:nvPr/>
        </p:nvSpPr>
        <p:spPr>
          <a:xfrm>
            <a:off x="611280" y="1844640"/>
            <a:ext cx="79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¡Miradlo en el desierto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n el Getsemaní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sobre la cruz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ángulo 1"/>
          <p:cNvSpPr/>
          <p:nvPr/>
        </p:nvSpPr>
        <p:spPr>
          <a:xfrm>
            <a:off x="539640" y="2060640"/>
            <a:ext cx="80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l Hijo inmaculado de Dios tomó sobre sí la carga del pecado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Rectángulo 1"/>
          <p:cNvSpPr/>
          <p:nvPr/>
        </p:nvSpPr>
        <p:spPr>
          <a:xfrm>
            <a:off x="468360" y="1515960"/>
            <a:ext cx="8207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l que había sido uno con Dios, sintió en su alma la terrible separaci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ángulo 1"/>
          <p:cNvSpPr/>
          <p:nvPr/>
        </p:nvSpPr>
        <p:spPr>
          <a:xfrm>
            <a:off x="468360" y="1916280"/>
            <a:ext cx="820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La misma que hace el pecado entre  Dios y el hombre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ángulo 2"/>
          <p:cNvSpPr/>
          <p:nvPr/>
        </p:nvSpPr>
        <p:spPr>
          <a:xfrm>
            <a:off x="324000" y="1598760"/>
            <a:ext cx="84960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Esto arrancó de sus labios el angustioso clamor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"¡Dios mío! ¡Dios mío! ¿por qué me has desamparado?"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(San Mateo 27: 46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ángulo 1"/>
          <p:cNvSpPr/>
          <p:nvPr/>
        </p:nvSpPr>
        <p:spPr>
          <a:xfrm>
            <a:off x="179280" y="1628640"/>
            <a:ext cx="878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La carga del pecado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el conocimiento de su terrible enormidad y la separación entre el alma y Di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ángulo 1"/>
          <p:cNvSpPr/>
          <p:nvPr/>
        </p:nvSpPr>
        <p:spPr>
          <a:xfrm>
            <a:off x="324000" y="1922400"/>
            <a:ext cx="856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Todo esto quebrant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l corazón del Hijo de Dio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ángulo 1"/>
          <p:cNvSpPr/>
          <p:nvPr/>
        </p:nvSpPr>
        <p:spPr>
          <a:xfrm>
            <a:off x="250920" y="1587600"/>
            <a:ext cx="8642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Pero este gran sacrificio no fue hecho a fin de crear amor en el corazón del Padre para con el hombre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1T17:26:12Z</dcterms:created>
  <dc:creator>Orlando Rosales</dc:creator>
  <dc:description/>
  <dc:language>en-US</dc:language>
  <cp:lastModifiedBy>Karina de Martin</cp:lastModifiedBy>
  <dcterms:modified xsi:type="dcterms:W3CDTF">2017-03-09T13:05:19Z</dcterms:modified>
  <cp:revision>54</cp:revision>
  <dc:subject/>
  <dc:title>CAPÍTULO 1. Amor Supremo*</dc:title>
</cp:coreProperties>
</file>