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D28-64E6-4DDA-A805-C6CAA5D4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343-5086-4345-8986-CF2F1A41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87CED-B19B-4E8F-AC17-93567521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76685-1ED0-44BF-BBCE-4FA9F702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A8229-F09C-4684-A9BB-2A2778F8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ADDFB-2B4B-4146-BD16-39B085B2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0A529-DF72-4DB0-8386-731C6136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919D8-EF08-43A7-904E-A6C9B8B0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9CA41-3176-434B-8AD3-32D7A0E5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C0716-04F1-41C0-AA39-D63D055E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01B7D-4A02-4E60-8F94-C9A3600D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D9609-F923-41EC-834A-7341CB48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E9D-9668-4A46-977F-89F3AEB9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F90EE-F6E6-49DF-8223-756CBB34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27017-52A2-499E-ADE3-35B60FCA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32336-5D09-445C-8BA9-69822A9A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E69CE-624F-4951-9D8F-9007E96F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011DA-514C-4EE8-8C28-C80590E5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16320-A8BB-4427-AD7B-164632C2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10A93-731B-42B1-8D41-22661B6C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91D2C-EB48-44BC-8B1A-0D7ACD0F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A8AC1-49F9-4105-B7E1-0FBCF337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4A805-C3D2-4CB3-8AD6-8FDB2C8E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9E7-730D-4836-BB4E-C3168DAB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3ABA8-1D4E-4547-82E3-99614CFC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A359C-051E-4B20-80C0-DE8064E9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A72BE-D54D-4782-B68D-A008DB9F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D2572-345A-42A5-B11D-EE7FE05D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2DC80-3194-4C25-9F3C-00BB84F0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7FE9A-A0E0-43DA-B114-6EBF3D82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00611-E2EB-4956-94C3-471CF7C4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0421A-14C0-4654-93E7-56E9C315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5045E-2465-4294-A1D5-31986922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BFE88-1515-4F9C-A279-91ADC404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DB81-CB77-4A0F-9C8E-FDD6360D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17749-C8CB-4C70-AF3A-96CDB960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791A2-74B5-4F7B-9E56-4D5E87F0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B33A2-895F-4638-9CB6-56482A14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78130-FCB2-4478-9F18-D4ABD19F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E048E-D3EA-4F3D-9C45-60452AA7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2E13B-479B-4A3B-B09D-F219AA37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AE175-91DE-4FE8-B57F-E95C76DF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EF3F4-93DD-4184-8A5D-93209257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06752-182B-4AB6-B868-E21BCE7B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3A5C9-A602-4BC6-BB8C-B4852158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111F-7B18-42A8-A866-FF5E3DA0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BDF67-322C-49B2-B848-C6042939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2A444-2680-4EAB-BDDB-26B12A61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65278-10AA-49F7-B5F4-DEB13BAC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C347B-1D7A-4A47-86D0-7AF7C214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588F0-B8E4-461C-B4EE-8607802D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827F3-4589-4724-BF8C-43A7ED5A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C46F6-6C82-4B04-B643-6C520E2E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45E89-1560-4ACE-AED2-CDAA7421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97D46-24C6-42BB-B192-BF2625FC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D202E-E696-46ED-8361-4FE48F37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75E8-1AC6-4468-B267-7ECAF0A1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F7ABA-075D-4FE4-A8D1-2CE1A834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0A7FB-CC67-4BCE-BE98-B2FA1E8D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26A4F-065A-4F72-BE19-568A2A8F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D8ED3-ABF7-4A33-92BA-89C0F41A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0A81B-509D-405D-B299-1C654C79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D3534-2D69-4AD6-AABE-C6FCBD16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3F116-F166-4AD8-8E05-ECBF4A3A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E6594F-1E97-4ABB-96D1-22FA019B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ED4B7-D346-4B17-AD7B-1A0C61C5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13ADE-C84D-4152-810A-14CA952D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1794-42AE-443D-BB19-1EF0F3D7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51362-CBFF-45DC-ADE3-A9273BD2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26BFB-E02C-40F7-96AB-0BC4E7FC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31084-2A56-401C-BD47-FD342A9D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AE6F2D-9784-4187-B221-1182C0EE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29356A-26BA-47FC-994F-B738F404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5D5BCA-24E6-4CB5-A50B-A7D1EA23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B50A59-563A-48EB-B456-DC5AACEE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2D581-FE62-49E1-85EB-87B42873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B9708-2936-4FC1-8F6C-4E0B39F2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ED3C0-965B-4208-A80C-06063203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86E5-DAEC-4842-A99D-87427144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FF4D1-6A95-45E7-BC23-88145196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B3F6A4-276C-4A5E-84D8-68ACC357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F36311-0EC8-438D-8FBD-F2FF2E75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C12E9-F268-4981-89C4-087EF09F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20B73-0F59-4670-8F7B-EF145490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9DE9D-29F8-4707-A92A-320CBA8F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AEF65-515B-4D0A-B3AC-FA3F983B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5C839D-C7DF-4BD0-8616-B809888F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D37B1B-CFD1-4097-BA0E-89923F6D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A1F3EC-E197-46AB-9521-799A8C2B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D8CF-53E1-4DA6-92BF-84490D24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26617-5B49-4ABB-BC93-12A02034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DC3013-7BB6-433E-A2E0-F7F36E0A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8A04C2-1790-49DD-A3F4-D1E3DFAD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75F8AC-CF30-4659-A318-EB8A8A70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459B30-E41F-481C-B1E0-AC35D107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3389C-1F24-4526-8220-83A727D3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4C675-8C97-46EE-B0A4-6E40A3BB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BCF349-9629-4DE0-941E-146E067F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908CC9-5103-4FF0-B3FC-EE2CC4F9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C18A5-AB7F-4203-8D6F-EC808001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EE1B-54AB-4A27-AA3E-6E9F5314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48F886-6FA6-45D1-8EDE-A52CCC7C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9EFF0-DBDE-46E0-A1C0-72A5989E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34A14-9853-455B-8714-091E2E24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91E0F8-0D08-456C-92DF-87E14EE1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C6A24-A6CC-4D14-90D8-F839C125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4839E-4D43-45A2-AF5B-0CE598D7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54F604-45ED-4C51-ADEE-EF46758A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04FE6-3DB9-4736-9409-6CAF8D3E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81200-06D4-41F8-983F-131302B1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50F392-A54D-4423-BB20-1BA42134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754-007F-4098-AECF-91EDD4F0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72A5-40ED-4BBC-8ED2-A01AE8B5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EE5870-A172-460E-B1E7-59F4617C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37584-CBC2-4089-8F82-05A1B858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DF85EF-35A5-45F9-A5A6-C2614FCA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EFE85C-4A3F-4577-822B-D2D02C21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317B41-EE86-4137-9F0A-0E0C49B2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34E4-84B7-4B84-BD85-8803FED2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8189-4798-4A27-8CA9-11361E8F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2D08-EC0C-48A3-B6C0-07772014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DBBC-9C6F-4C6F-BC3A-3E6896A6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BC96-D5C6-4A5F-9285-457ABD9A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E74A7-7D48-40AF-AA09-DF75E63C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84FD0-CB59-4DE1-9DD3-A210CB09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D2B74-48BD-4DD4-A3AD-8D36A5E6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9BB23-862F-40EA-BF4E-5CDE0E6C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F2F-858A-4B0A-85C2-EC4FDCB5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7FCC1-7EF2-4E73-A3CC-D37B11D8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011F9-2DE9-44FB-BDFF-DD243672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1786-222D-4C26-B139-041F5AA0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B8A20-2F60-4FA9-87C6-8B4CAA76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18584-F7B4-491E-85EE-2ED6B9A2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B860-6C74-422D-BA7E-73C338AF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BD728-6120-4CFC-9B76-E57A2E5D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C4749-2AE4-4D52-8C6E-26B8CBBD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1A480-5000-4769-9C62-E2A0F9A8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532B2-A20B-47F3-AF5F-DCD62B2B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C86-98E1-4185-B94F-10EFE125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F13BD-488E-4648-A72C-5DB1EC40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70B54-6530-4EE9-A61F-ACE30769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ABAED-4D45-442E-9F73-C7C8C0E7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97517-A356-4EB6-8056-38A6572F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695ED-6F8C-4643-8EF6-82F3B7AB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94E95-7A31-48E8-89E7-A1133456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F3654-C381-428D-A170-29DF2839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4EB0E-9267-4C7B-ADC5-7BC6259F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01A26-3D2B-41F5-8AFF-87406329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477B6-53CB-4532-917F-584689C9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5FE-A6B2-4081-8B7F-A47B1D5B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CF667-43EB-4596-949D-AA2B7D57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D30CF-B0E6-40B1-90F1-1540A286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5A7E4-DB52-4FA1-B4FF-04CD0CB0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5E4F5-3897-4B7C-8281-3D62AF26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7FBFB-B1F1-409F-BB70-6E5958FA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945E5-5031-4CDA-948E-E315EE4E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B6044-587C-4B47-8156-0ABE31C3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19DE2-3253-4960-B9C1-7EFF8095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1F133-BC44-4BCE-BBE1-F53FB3FD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8B960-7319-4945-8CEC-371A5088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DB4-D2BA-4A97-BC45-80C7A018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58A36-E6FF-4830-9040-9588BB59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4E7D3-ADB5-42B1-8879-D27ED6A4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4081D-5C55-45C8-9EE3-B78582FA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F9ADF-EF10-445B-9B10-F7F68A92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70FAB-BE8E-4C79-8ED6-A99CEE53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C238A-6EB1-4579-AD9F-06AE4C30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25024-03A2-4A38-B7E3-3F34436B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59E1A-788C-4CD3-848D-5CBF373C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B29B3-5C5A-420C-AB3F-E84C2444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C1EAE-9D8F-45CC-9C47-8E7E9BE3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87B-679A-4C95-B763-2D02BE1C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B8B8E-256A-4FC7-A27A-D5844537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99408-E941-4659-B733-3A2436B2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0AB23-37D6-4F05-BB96-F0BB031A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1FC14-9CF3-4672-B033-5015F751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EC8F2-944B-4E0B-9B90-632282D0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43838-EDAD-4757-9714-41B65F39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E6595-EAC3-4198-B74F-22CEA94F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21A6D-ED5F-40CF-9273-E98C5511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6283B-6562-4C04-8C24-8A0DC9C3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3D431-C230-4223-B347-9C596845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9BF-EA09-4670-8752-3AF48D19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F636F-EED1-4C9F-93F0-74F4F571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49FDA-0754-47AA-99D4-F20BF76F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62DB3-9D1D-4E25-97BB-030679B1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F2CC9-DE8D-4147-AA79-2969F86E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9E370-3FF0-4E69-BE00-0C74F42B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50A9C-37C4-42F2-9CB5-3A9E1942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78CD9-E4DE-4513-8393-6807CFEA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60D33-3629-4EDA-877F-D79AAE25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F6C11-AE52-45E6-817C-57DACBDF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2B135-9A7A-47A6-BC16-11B3A90A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BF7-C256-4975-BBCC-78EBDECD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EBFB4-B0AF-466A-AC5A-C28D6F3F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30132-499A-4457-BEFE-19D26B80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1E8D8-D9FD-419B-99C6-DD82786F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47119-F8F4-409E-B631-7193C344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9D68F-8458-4ADC-9388-28467F61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00435-DFCC-4B67-BED3-175161A7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37527-D4BF-4960-BACC-A65C05F2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C0AFA-84B6-4896-827B-F1231127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606EB-694F-4A40-BCA4-FF2164E1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A9333-6976-463B-A85F-7EC63A73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7879-BA14-4059-A67C-BF389D48783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9EE2-4DA1-406E-8352-B378D717913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300C-CB56-46FC-B26B-222D54F044B5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4b6d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4b6d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3F51-5D0B-4166-AE35-A98483CA0FD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E0CE-DAA8-4356-AF07-31580EE61C6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4b6d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4b6d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C331-890D-4E16-A031-4FA76F958935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5D1F-F078-4958-AA64-1347BEE5F3D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74D0-EF1C-45B8-B7B1-1E19FA67FF2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7776-29D0-44C0-9287-960BE2FEB56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1FDF-A1BA-4C49-90D7-2E7F6959991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6D62-E362-4752-9EDF-6B50B4990CF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3AE2-6AB7-4424-A019-2FE7D441C46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A7EC-E7F2-4216-9EB1-F6B60DF62A5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6C31-1767-4CF5-82F8-491EDDF77B6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0E27-35B4-45BD-9963-84EB01BA51F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0C9E-AF57-4611-B5FB-C8F07D62E6A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5146-E6AD-44BE-8CEF-5D252D21173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ángulo 1"/>
          <p:cNvSpPr/>
          <p:nvPr/>
        </p:nvSpPr>
        <p:spPr>
          <a:xfrm>
            <a:off x="815040" y="2170080"/>
            <a:ext cx="7636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8800" spc="-1" strike="noStrike">
                <a:solidFill>
                  <a:srgbClr val="000000"/>
                </a:solidFill>
                <a:latin typeface="Baskerville Old Face"/>
              </a:rPr>
              <a:t>OBTENIEND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200" spc="-1" strike="noStrike">
                <a:solidFill>
                  <a:srgbClr val="000000"/>
                </a:solidFill>
                <a:latin typeface="Century Gothic"/>
              </a:rPr>
              <a:t>LA </a:t>
            </a:r>
            <a:r>
              <a:rPr b="1" lang="es-VE" sz="7200" spc="-1" strike="noStrike">
                <a:solidFill>
                  <a:srgbClr val="000000"/>
                </a:solidFill>
                <a:latin typeface="Century Gothic"/>
              </a:rPr>
              <a:t>PAZ</a:t>
            </a:r>
            <a:r>
              <a:rPr b="0" lang="es-VE" sz="7200" spc="-1" strike="noStrike">
                <a:solidFill>
                  <a:srgbClr val="000000"/>
                </a:solidFill>
                <a:latin typeface="Century Gothic"/>
              </a:rPr>
              <a:t> INTERI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ángulo 1"/>
          <p:cNvSpPr/>
          <p:nvPr/>
        </p:nvSpPr>
        <p:spPr>
          <a:xfrm>
            <a:off x="611280" y="196704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i has dado motivo de ofensa a tu amigo o vecino, debes reconocer tu falta, y es su deber perdonarte libre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ángulo 1"/>
          <p:cNvSpPr/>
          <p:nvPr/>
        </p:nvSpPr>
        <p:spPr>
          <a:xfrm>
            <a:off x="684360" y="220968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bes entonces buscar el perdón de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ángulo 1"/>
          <p:cNvSpPr/>
          <p:nvPr/>
        </p:nvSpPr>
        <p:spPr>
          <a:xfrm>
            <a:off x="468360" y="1916280"/>
            <a:ext cx="80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orque el hermano a quien has ofendido pertenece a Dios y al perjudicarlo has pecado contra su Creador y Reden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ángulo 1"/>
          <p:cNvSpPr/>
          <p:nvPr/>
        </p:nvSpPr>
        <p:spPr>
          <a:xfrm>
            <a:off x="468360" y="1944720"/>
            <a:ext cx="7920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bemos presentar el caso delante del único y verdadero Mediador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uestro gran Sumo Sacerdo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ángulo 1"/>
          <p:cNvSpPr/>
          <p:nvPr/>
        </p:nvSpPr>
        <p:spPr>
          <a:xfrm>
            <a:off x="755640" y="2048040"/>
            <a:ext cx="7632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ha sido tentado en todo punto, así como nosotros, mas sin pecado  que es capaz de  compadecerse de nuestras flaquezas"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Hebreos 4: 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ángulo 1"/>
          <p:cNvSpPr/>
          <p:nvPr/>
        </p:nvSpPr>
        <p:spPr>
          <a:xfrm>
            <a:off x="611280" y="206064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es poderoso para limpiarnos de toda mancha de pec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ángulo 1"/>
          <p:cNvSpPr/>
          <p:nvPr/>
        </p:nvSpPr>
        <p:spPr>
          <a:xfrm>
            <a:off x="611280" y="2205000"/>
            <a:ext cx="7848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Los que no se han humillado de corazón delante de Dios reconociendo su culpa,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han cumplido todavía la primera condición de la acep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ángulo 1"/>
          <p:cNvSpPr/>
          <p:nvPr/>
        </p:nvSpPr>
        <p:spPr>
          <a:xfrm>
            <a:off x="395280" y="177336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i no hemos experimentado ese arrepentimiento, del cual nadie se arrepien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ángulo 1"/>
          <p:cNvSpPr/>
          <p:nvPr/>
        </p:nvSpPr>
        <p:spPr>
          <a:xfrm>
            <a:off x="1187280" y="1700280"/>
            <a:ext cx="669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i no hemos confesado nuestros pecados con verdadera humillación de alma y quebrantamiento de espírit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ángulo 1"/>
          <p:cNvSpPr/>
          <p:nvPr/>
        </p:nvSpPr>
        <p:spPr>
          <a:xfrm>
            <a:off x="755640" y="1989000"/>
            <a:ext cx="748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borreciendo nuestra iniquidad, no hemos buscado verdaderamente el perdón de nuestros pecad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ángulo 1"/>
          <p:cNvSpPr/>
          <p:nvPr/>
        </p:nvSpPr>
        <p:spPr>
          <a:xfrm>
            <a:off x="539640" y="1844640"/>
            <a:ext cx="7993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que encubre sus transgresiones, no prosperará; mas quien las confiese y las abandone, alcanzará misericordi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Proverbios 28: 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ángulo 1"/>
          <p:cNvSpPr/>
          <p:nvPr/>
        </p:nvSpPr>
        <p:spPr>
          <a:xfrm>
            <a:off x="826920" y="1731960"/>
            <a:ext cx="741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si nunca lo hemos buscado, nunca hemos encontrado la paz de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ángulo 1"/>
          <p:cNvSpPr/>
          <p:nvPr/>
        </p:nvSpPr>
        <p:spPr>
          <a:xfrm>
            <a:off x="684360" y="2133720"/>
            <a:ext cx="7848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única razón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orque no obtenemos la remisión de nuestros pecados pasados es que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estamos dispuestos a humillar nuestro coraz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ángulo 1"/>
          <p:cNvSpPr/>
          <p:nvPr/>
        </p:nvSpPr>
        <p:spPr>
          <a:xfrm>
            <a:off x="971640" y="2133720"/>
            <a:ext cx="72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i a cumplir con las condiciones de la Palabra de ver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ángulo 1"/>
          <p:cNvSpPr/>
          <p:nvPr/>
        </p:nvSpPr>
        <p:spPr>
          <a:xfrm>
            <a:off x="755640" y="162864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 nos dan instrucciones explícitas respecto a este asu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ángulo 1"/>
          <p:cNvSpPr/>
          <p:nvPr/>
        </p:nvSpPr>
        <p:spPr>
          <a:xfrm>
            <a:off x="611280" y="2170080"/>
            <a:ext cx="770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confesión de nuestros pecados,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ya sea pública o privada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be ser de corazón y voluntar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ángulo 1"/>
          <p:cNvSpPr/>
          <p:nvPr/>
        </p:nvSpPr>
        <p:spPr>
          <a:xfrm>
            <a:off x="611280" y="202572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No debe ser arrancada al pecado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ángulo 1"/>
          <p:cNvSpPr/>
          <p:nvPr/>
        </p:nvSpPr>
        <p:spPr>
          <a:xfrm>
            <a:off x="539640" y="1916280"/>
            <a:ext cx="7777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No debe hacerse de un modo ligero y descuida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ángulo 1"/>
          <p:cNvSpPr/>
          <p:nvPr/>
        </p:nvSpPr>
        <p:spPr>
          <a:xfrm>
            <a:off x="684360" y="191628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o debe exigirse de aquellos que no tienen real comprensión del carácter aborrecible del pe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ángulo 1"/>
          <p:cNvSpPr/>
          <p:nvPr/>
        </p:nvSpPr>
        <p:spPr>
          <a:xfrm>
            <a:off x="755640" y="2060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confesión que brota de lo íntimo del alma sube al Dios de piedad infin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ángulo 1"/>
          <p:cNvSpPr/>
          <p:nvPr/>
        </p:nvSpPr>
        <p:spPr>
          <a:xfrm>
            <a:off x="539640" y="1557360"/>
            <a:ext cx="79200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l salmista dice: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Cercano está Jehová a los quebrantados de corazón, y salva a los de espíritu contrito"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lmo 34: 1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ángulo 1"/>
          <p:cNvSpPr/>
          <p:nvPr/>
        </p:nvSpPr>
        <p:spPr>
          <a:xfrm>
            <a:off x="324000" y="1916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s condiciones para obtener la misericordia de Dios son sencillas, justas y razonab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ángulo 1"/>
          <p:cNvSpPr/>
          <p:nvPr/>
        </p:nvSpPr>
        <p:spPr>
          <a:xfrm>
            <a:off x="755640" y="158256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verdadera conf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es siempre de un carácter específico y declara pecados particula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ángulo 1"/>
          <p:cNvSpPr/>
          <p:nvPr/>
        </p:nvSpPr>
        <p:spPr>
          <a:xfrm>
            <a:off x="684360" y="177336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ueden ser de tal naturaleza que solamente pueden presentarse delante de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ángulo 1"/>
          <p:cNvSpPr/>
          <p:nvPr/>
        </p:nvSpPr>
        <p:spPr>
          <a:xfrm>
            <a:off x="755640" y="1916280"/>
            <a:ext cx="748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ueden ser males que deben confesarse individualmente a  los que hayan sufrido daño por ell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ángulo 1"/>
          <p:cNvSpPr/>
          <p:nvPr/>
        </p:nvSpPr>
        <p:spPr>
          <a:xfrm>
            <a:off x="468360" y="2276640"/>
            <a:ext cx="820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ueden ser de un carácter público,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en ese caso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berán confesarse pública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ángulo 1"/>
          <p:cNvSpPr/>
          <p:nvPr/>
        </p:nvSpPr>
        <p:spPr>
          <a:xfrm>
            <a:off x="611280" y="1989000"/>
            <a:ext cx="792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oda confesión debe hacerse definida y al punto, reconociendo los mismos pecados de que seáis culp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ángulo 1"/>
          <p:cNvSpPr/>
          <p:nvPr/>
        </p:nvSpPr>
        <p:spPr>
          <a:xfrm>
            <a:off x="684360" y="1916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los días de Samuel los israelitas se extraviaron de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ángulo 1"/>
          <p:cNvSpPr/>
          <p:nvPr/>
        </p:nvSpPr>
        <p:spPr>
          <a:xfrm>
            <a:off x="611280" y="1989000"/>
            <a:ext cx="75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staban sufriendo las consecuenc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l pec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ángulo 1"/>
          <p:cNvSpPr/>
          <p:nvPr/>
        </p:nvSpPr>
        <p:spPr>
          <a:xfrm>
            <a:off x="755640" y="2076480"/>
            <a:ext cx="7561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Habían perdido su fe en Dios,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discernimiento de su poder y su sabiduría para gobernar a la n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ángulo 1"/>
          <p:cNvSpPr/>
          <p:nvPr/>
        </p:nvSpPr>
        <p:spPr>
          <a:xfrm>
            <a:off x="684360" y="213372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erdieron su confianza en la capacidad del Señor para defender y vindicar su cau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ángulo 1"/>
          <p:cNvSpPr/>
          <p:nvPr/>
        </p:nvSpPr>
        <p:spPr>
          <a:xfrm>
            <a:off x="539640" y="1852560"/>
            <a:ext cx="777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e apartaron del gran Gobernante del unive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y quisieron ser gobernados como las naciones que los rodeab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ángulo 1"/>
          <p:cNvSpPr/>
          <p:nvPr/>
        </p:nvSpPr>
        <p:spPr>
          <a:xfrm>
            <a:off x="324000" y="1916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Señor no nos exige que hagamos alguna cosa penosa para obtener el perdón de los peca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ángulo 1"/>
          <p:cNvSpPr/>
          <p:nvPr/>
        </p:nvSpPr>
        <p:spPr>
          <a:xfrm>
            <a:off x="539640" y="1955880"/>
            <a:ext cx="76327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ntes de encontrar paz confesar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Porque a todos nuestros pecados hemos añadido esta maldad de pedir para nosotros un rey"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1 Samuel 12: 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ángulo 1"/>
          <p:cNvSpPr/>
          <p:nvPr/>
        </p:nvSpPr>
        <p:spPr>
          <a:xfrm>
            <a:off x="684360" y="1989000"/>
            <a:ext cx="75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enían que confesar el mismo pecado del cual estaban convenci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ángulo 1"/>
          <p:cNvSpPr/>
          <p:nvPr/>
        </p:nvSpPr>
        <p:spPr>
          <a:xfrm>
            <a:off x="611280" y="2276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 ingratitud oprimía sus almas y los separaba de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ángulo 1"/>
          <p:cNvSpPr/>
          <p:nvPr/>
        </p:nvSpPr>
        <p:spPr>
          <a:xfrm>
            <a:off x="684360" y="1916280"/>
            <a:ext cx="75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ios no acepta la confesión sin sincero arrepentimiento y reform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ángulo 1"/>
          <p:cNvSpPr/>
          <p:nvPr/>
        </p:nvSpPr>
        <p:spPr>
          <a:xfrm>
            <a:off x="684360" y="196704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be haber un cambio decidido en la vida;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toda cosa que sea ofensiva a Dios debe deja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ángulo 1"/>
          <p:cNvSpPr/>
          <p:nvPr/>
        </p:nvSpPr>
        <p:spPr>
          <a:xfrm>
            <a:off x="755640" y="1996920"/>
            <a:ext cx="74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sto será el resultado de una verdadera tristeza por el pe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ángulo 1"/>
          <p:cNvSpPr/>
          <p:nvPr/>
        </p:nvSpPr>
        <p:spPr>
          <a:xfrm>
            <a:off x="971640" y="2128680"/>
            <a:ext cx="720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e nos presenta claramente la obra que tenemos que hacer de nuestra par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ángulo 1"/>
          <p:cNvSpPr/>
          <p:nvPr/>
        </p:nvSpPr>
        <p:spPr>
          <a:xfrm>
            <a:off x="539640" y="1608120"/>
            <a:ext cx="820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¡Lavaos, limpiaos; apartad la maldad de vuestras obras de delante de mis ojos; cesad de hacer lo malo; aprended a hacer lo bueno; buscad lo justo; socorred al oprimido; mantened el derecho del huérfano defended la causa de la viuda!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Isaías 1: 16, 1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ángulo 1"/>
          <p:cNvSpPr/>
          <p:nvPr/>
        </p:nvSpPr>
        <p:spPr>
          <a:xfrm>
            <a:off x="971640" y="1989000"/>
            <a:ext cx="7200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Si el inicuo devolviere la prenda, restituyere lo robado,  y anduviere en los estatutos de la vida, sin cometer iniquidad, ciertamente vivirá; no morirá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Ezequiel 33: 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ángulo 1"/>
          <p:cNvSpPr/>
          <p:nvPr/>
        </p:nvSpPr>
        <p:spPr>
          <a:xfrm>
            <a:off x="755640" y="1773360"/>
            <a:ext cx="77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blo dice, hablando del arrepentimien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ues, he aquí, esto mismo, el que fuisteis entristecidos según Dios, ¡qué solícito cuidado obró en vosotros!..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ángulo 1"/>
          <p:cNvSpPr/>
          <p:nvPr/>
        </p:nvSpPr>
        <p:spPr>
          <a:xfrm>
            <a:off x="468360" y="184464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necesitamos hacer largas y cansadoras peregrinacio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ángulo 1"/>
          <p:cNvSpPr/>
          <p:nvPr/>
        </p:nvSpPr>
        <p:spPr>
          <a:xfrm>
            <a:off x="611280" y="1773360"/>
            <a:ext cx="7921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 qué defensa de vosotros mismos!  y  ¡qué indignación! y ¡qué temor! y ¡qué ardiente deseo! y ¡qué celo! Y ¡qué justicia vengativa! En todo os habéis mostrado puros en este asunto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 Corintios 7: 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ángulo 1"/>
          <p:cNvSpPr/>
          <p:nvPr/>
        </p:nvSpPr>
        <p:spPr>
          <a:xfrm>
            <a:off x="755640" y="186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uando el pecado ha amortiguado la percepción moral, el injusto no discierne los defectos de su carácter,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ni comprende la enormidad del mal que ha comet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ángulo 1"/>
          <p:cNvSpPr/>
          <p:nvPr/>
        </p:nvSpPr>
        <p:spPr>
          <a:xfrm>
            <a:off x="755640" y="206064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 menos que ceda al poder convincente del Espíritu Santo, permanecerá parcialmente ciego sin percibir su pe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ángulo 1"/>
          <p:cNvSpPr/>
          <p:nvPr/>
        </p:nvSpPr>
        <p:spPr>
          <a:xfrm>
            <a:off x="971640" y="234936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s confesiones no son sinceras ni de coraz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ángulo 1"/>
          <p:cNvSpPr/>
          <p:nvPr/>
        </p:nvSpPr>
        <p:spPr>
          <a:xfrm>
            <a:off x="684360" y="1884240"/>
            <a:ext cx="77752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ada vez que reconoce su maldad trata de excusar su conducta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eclarando que si no hubiese sido por ciertas circunstancias, no habría hecho esto o aquello, de lo que se lo reprue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ángulo 1"/>
          <p:cNvSpPr/>
          <p:nvPr/>
        </p:nvSpPr>
        <p:spPr>
          <a:xfrm>
            <a:off x="826920" y="19890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spués de que Adán y Eva hubieron comido de la fruta prohibida, los embargó un sentimiento de vergüenza y t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ángulo 1"/>
          <p:cNvSpPr/>
          <p:nvPr/>
        </p:nvSpPr>
        <p:spPr>
          <a:xfrm>
            <a:off x="826920" y="1989000"/>
            <a:ext cx="7490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l principio solamente pensaban en cómo podrían excusar su pecado y escapar de la terrible sentencia de mue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ángulo 1"/>
          <p:cNvSpPr/>
          <p:nvPr/>
        </p:nvSpPr>
        <p:spPr>
          <a:xfrm>
            <a:off x="755640" y="2098800"/>
            <a:ext cx="770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uando el Señor les habló tocante a su pecado, Adán respondió, echando la culpa en parte a Dios y en parte a su compañ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ángulo 1"/>
          <p:cNvSpPr/>
          <p:nvPr/>
        </p:nvSpPr>
        <p:spPr>
          <a:xfrm>
            <a:off x="826920" y="1996920"/>
            <a:ext cx="74901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La mujer que pusiste aquí conmigo me dio del árbol, y comí".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La mujer echó la culpa a la serpiente, diciendo: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La serpiente me engañó, y comí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Génesis 3: 12, 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ángulo 1"/>
          <p:cNvSpPr/>
          <p:nvPr/>
        </p:nvSpPr>
        <p:spPr>
          <a:xfrm>
            <a:off x="611280" y="188424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¿Por qué hiciste la serpiente?¿Por qué le permitiste que entrase en el Edén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ángulo 1"/>
          <p:cNvSpPr/>
          <p:nvPr/>
        </p:nvSpPr>
        <p:spPr>
          <a:xfrm>
            <a:off x="324000" y="1989000"/>
            <a:ext cx="84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Tampoco ejecutar duras penitencias, para encomendar nuestras alm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l Dios de los ciel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ángulo 1"/>
          <p:cNvSpPr/>
          <p:nvPr/>
        </p:nvSpPr>
        <p:spPr>
          <a:xfrm>
            <a:off x="826920" y="2349360"/>
            <a:ext cx="75614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sas eran las  preguntas implicadas en la excusa de su pecado,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haciendo a Dios responsable de su caí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ángulo 1"/>
          <p:cNvSpPr/>
          <p:nvPr/>
        </p:nvSpPr>
        <p:spPr>
          <a:xfrm>
            <a:off x="826920" y="22050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espíritu de  justificación propia tuvo su origen en el padre de la mentira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y ha sido exhibido por todos los hijos e hijas de Ad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ángulo 1"/>
          <p:cNvSpPr/>
          <p:nvPr/>
        </p:nvSpPr>
        <p:spPr>
          <a:xfrm>
            <a:off x="755640" y="2205000"/>
            <a:ext cx="756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s  confesiones de esta clase no son inspiradas por el Espíritu  divino y no serán aceptables para D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ángulo 1"/>
          <p:cNvSpPr/>
          <p:nvPr/>
        </p:nvSpPr>
        <p:spPr>
          <a:xfrm>
            <a:off x="755640" y="1989000"/>
            <a:ext cx="756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arrepentimiento  verdadero induce al hombre a reconocer su propia maldad, sin engaño ni hipocres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ángulo 1"/>
          <p:cNvSpPr/>
          <p:nvPr/>
        </p:nvSpPr>
        <p:spPr>
          <a:xfrm>
            <a:off x="900000" y="2349360"/>
            <a:ext cx="7417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mo el pobre publicano que no  osaba ni aun alzar sus ojos al cielo, exclama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Dios, ten  misericordia de mí, pecador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ángulo 1"/>
          <p:cNvSpPr/>
          <p:nvPr/>
        </p:nvSpPr>
        <p:spPr>
          <a:xfrm>
            <a:off x="826920" y="2149560"/>
            <a:ext cx="72741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y los que reconozcan así su  iniquidad serán justificados,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orque Jesús presentará su  sangre en favor del alma arrepen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ángulo 1"/>
          <p:cNvSpPr/>
          <p:nvPr/>
        </p:nvSpPr>
        <p:spPr>
          <a:xfrm>
            <a:off x="755640" y="2035080"/>
            <a:ext cx="7632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ejemplos de arrepentimiento y humillación  genuinos que da la Palabra de Dios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velan un espíritu de  confesión sin excusa por el pe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ángulo 1"/>
          <p:cNvSpPr/>
          <p:nvPr/>
        </p:nvSpPr>
        <p:spPr>
          <a:xfrm>
            <a:off x="611280" y="225108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ampoco intento de  justificación prop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ángulo 1"/>
          <p:cNvSpPr/>
          <p:nvPr/>
        </p:nvSpPr>
        <p:spPr>
          <a:xfrm>
            <a:off x="826920" y="227664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ablo no procura defenderse;   pinta su pecado como es, sin intentar atenuar su cul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ángulo 1"/>
          <p:cNvSpPr/>
          <p:nvPr/>
        </p:nvSpPr>
        <p:spPr>
          <a:xfrm>
            <a:off x="755640" y="1989000"/>
            <a:ext cx="770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ice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 cual también hice en Jerusalén, encerrando yo mismo  en la cárcel a muchos de los santos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ángulo 1"/>
          <p:cNvSpPr/>
          <p:nvPr/>
        </p:nvSpPr>
        <p:spPr>
          <a:xfrm>
            <a:off x="324000" y="186228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más el que confiesa su pecado y se aparta de él, alcanzará misericord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ángulo 1"/>
          <p:cNvSpPr/>
          <p:nvPr/>
        </p:nvSpPr>
        <p:spPr>
          <a:xfrm>
            <a:off x="826920" y="1916280"/>
            <a:ext cx="734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habiendo recibido  autorización de parte de los jefes de los sacerdotes; y  cuando se les daba muerte, yo echaba mi voto contra ellos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ángulo 1"/>
          <p:cNvSpPr/>
          <p:nvPr/>
        </p:nvSpPr>
        <p:spPr>
          <a:xfrm>
            <a:off x="900000" y="1955880"/>
            <a:ext cx="74883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y castigándolos muchas veces, por todas las sinagogas, les  hacia fuerza para que blasfemasen;  y estando sobremanera  enfurecido contra ellos, iba en persecución de ellos hasta las  ciudades extranjer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Hechos 26: 10, 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ángulo 1"/>
          <p:cNvSpPr/>
          <p:nvPr/>
        </p:nvSpPr>
        <p:spPr>
          <a:xfrm>
            <a:off x="539640" y="1916280"/>
            <a:ext cx="78487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in vacilar declara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risto Jesús  vino al mundo para salvar a los pecadores; de los cuales yo  soy el primero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1 Timoteo 1: 1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ángulo 1"/>
          <p:cNvSpPr/>
          <p:nvPr/>
        </p:nvSpPr>
        <p:spPr>
          <a:xfrm>
            <a:off x="755640" y="220032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corazón humilde y quebrantado, enternecido por el arrepentimiento genuino, apreciará algo del amor de Dios y del costo del Calv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ángulo 1"/>
          <p:cNvSpPr/>
          <p:nvPr/>
        </p:nvSpPr>
        <p:spPr>
          <a:xfrm>
            <a:off x="755640" y="227340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 como el hijo se confiesa a un padre amoroso, así presentará el que esté verdaderamente arrepentido todos sus pecados delante de D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ángulo 1"/>
          <p:cNvSpPr/>
          <p:nvPr/>
        </p:nvSpPr>
        <p:spPr>
          <a:xfrm>
            <a:off x="611280" y="2201760"/>
            <a:ext cx="7561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 confesamos nuestros pecados, él es fiel y justo para perdonarnos nuestros pecados, y limpiarnos de toda iniquidad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1 Juan 1: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ángulo 1"/>
          <p:cNvSpPr/>
          <p:nvPr/>
        </p:nvSpPr>
        <p:spPr>
          <a:xfrm>
            <a:off x="395280" y="162864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apóstol dic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Confesad pues vuestros pecados los unos a los otros, y orad los unos por los otros, para que seáis sanados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Santiago 5: 16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ángulo 1"/>
          <p:cNvSpPr/>
          <p:nvPr/>
        </p:nvSpPr>
        <p:spPr>
          <a:xfrm>
            <a:off x="468360" y="1996920"/>
            <a:ext cx="81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onfesad vuestros pecados a Dios, quien sólo puede perdonarlos, y vuestras faltas unos a otr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19:35:47Z</dcterms:created>
  <dc:creator>Orlando Rosales</dc:creator>
  <dc:description/>
  <dc:language>en-US</dc:language>
  <cp:lastModifiedBy>Karina de Martin</cp:lastModifiedBy>
  <dcterms:modified xsi:type="dcterms:W3CDTF">2017-03-12T15:43:17Z</dcterms:modified>
  <cp:revision>27</cp:revision>
  <dc:subject/>
  <dc:title>CAPÍTULO 4. Para Obtener la Paz Interior </dc:title>
</cp:coreProperties>
</file>