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D1D-6FDD-4B5A-ACDE-0B53AFD8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7A0-34EE-49E4-8649-480665D5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4A30F-2CF1-4592-8DC7-2F94F3D9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236CB-60FD-4B57-BA62-35D083CC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7B88E-37B2-446D-80E8-87F011ED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2A45F-5570-42E1-B76F-B348F69C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60AE6-D545-4973-8C03-74EDCB2B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E69DE-DFA0-4B26-A6B0-35888D23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0233E-9F4A-45B6-B9A3-FF9704B8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AB482-B8A0-4E4E-B34D-A28CDF62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7F09B-4CA6-4DFC-8AF9-0BE387E9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1E4D9-6D70-4EDA-A581-CEDE8F55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DA6-E2B4-403E-AB05-9AE8DA16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929AA-7E02-4651-A504-6833CD97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6E626-DB62-41A0-AE93-10B5F8CB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2D77D-54BF-41F5-96A2-B0F6B7A8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1DB53-A10A-424E-A509-286B13BE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77BC4-5E5B-438C-A719-653DB864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936C1-48A1-4535-BD9C-6A3D390F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E5B5B-86E0-4627-B13F-7350B80E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5F4FA-2137-429B-B624-BC1741E7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12877-A1F8-46BE-8FEB-E7668BB9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97CB0-D205-4F77-B382-0CCB3BD9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6F5-4BB5-4B89-8775-7FA4E5A0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2664E-57FF-4E9B-89BF-2A357745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DAB46-756A-44D3-9EFB-EB72CE0A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6769C-E421-4732-BDD4-326CE3A3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955C0-6405-4BEF-B1AF-AFFD08E6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3F25B-F7E4-4156-A0A1-8E80DBF2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6BBF1-BA0F-4F33-9056-32F9B4E9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3487E-18D1-4D86-86F4-55525FE8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8BE66-8F92-4DB4-BCBC-87EC6FFF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93997-6CAB-4BFB-AE69-94CBE484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6DAB3-56A0-431E-AFE9-BED0C247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936A-A02B-4F83-831E-A00065E8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01041-B298-493C-AF51-40936ABC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2FFC2-801E-46D4-A6B7-B956D304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95DDB-D9AC-4620-8484-923EFE1A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40470-FC29-45FE-83DB-7DCF3901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31D86-72BC-4F3C-B2A0-70E952BC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38987-81E1-4EB3-8523-8B0CF8CE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D0A44-E7B0-4419-9DB4-78C61A93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F1761-B792-4AE0-988B-A83D794F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D28FF-EC14-467D-BDE2-FDEE931F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BFEEA-143D-4990-B5FA-AF96E3D3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8CD9-6275-4999-8D0B-62DAC92F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A917F-F226-471E-BB13-B18B3785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7D883-6B29-419C-995D-09DAE06A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761C7-7B7A-49EF-B1C9-0082A0E1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08809-3C74-4693-95CA-4A3BDC26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E3517-67A4-46F5-9496-5CBF3B56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6D879-983F-47A9-AAA0-3A986A83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D78EA-D59A-4484-8FCA-40898DBA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90789-C141-4724-89C0-24C39907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0B2B3-9F5D-44A3-BFA7-40F20FF7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1BAF1-F15A-43BC-A10D-11925765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3087-3672-4692-B2B2-86518606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6F02E-F0F7-46F5-8E83-9961B4BA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944E8-84B1-45C0-9D68-2546082B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80E4E-C8B9-455C-A9D1-07C3E625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36DF2-9CBD-45E7-A1AE-9E3E11F0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2BFF3-DF71-4AAF-93B9-AFB08CBB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5CC03-95D0-4603-A157-009C78D5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F446F-A3F3-426D-9BDE-460EA9D7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A35AE-A107-4923-96E1-9654CE26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739B1-4D71-4149-B19C-80A97CB2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B7BBE-6D10-4AC9-932E-6E982C4E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E239-0A99-4228-BAC6-38DF902E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06D20-2A01-41AA-80C9-BED2DEE5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0F121-E0F9-43DE-B658-54F959DD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0D336-98C8-4A52-A502-4BE7F35C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23F7B-5D62-4F17-8C6B-B30A6EBD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EBA780-37B0-4D87-9E15-FAB74F18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D346F-0AFE-4CD5-87EC-E1CB8B86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4A1A7-67C5-474F-BF09-899F9255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A40CE-B495-4552-94D7-8666E2CB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A7B115-551C-405A-9266-D60900D3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D8A47-F0E5-4630-A6CA-3E1E70D1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E5DC-2F42-41D3-BB0E-404574D8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3C61F-B493-4FF5-935E-C535D2F7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56D04-2B69-4040-B6A7-BFB0548B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E4DCAC-FF2E-45D8-A06D-F7D7FBAA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4ECF6-2DF9-488D-A4A6-EE8D904F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0F52B6-BDD0-472F-A207-420C7B5A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0B33F-9DAE-48C1-9B8F-A2E4F6ED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B4622-0D9A-47E5-884C-B657703C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83AAD-8C77-431C-82D5-4F4B3FFA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BCC26-B3D1-4BCD-9DC6-500DE13A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082140-1D91-4EA2-B4AB-2CD6383B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6ED0-146A-40CF-ACFE-F5A12461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3C5068-614E-4E7A-ACCE-BF0CCE98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DD244-C72D-408A-B51B-CFA469D5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2286F6-2AFF-4DAD-B867-C33D8354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342A1-CF2E-4127-B8FB-60ABAF36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B54FB-07CA-4C0C-B543-97D3F53F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7BC61-1198-4D2A-BBC9-E80A2223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D5852-7F07-4F50-9693-DA5C9110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4D0DD-DC6F-470F-B724-8AEE654E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CC401-2D85-4DDC-AEAC-C438F645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7FD09-B6C9-4DF6-91CB-3A5A53CF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5DDA-5501-463B-B625-048EEE37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282E1D-89A1-4960-99D5-BB186BED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5DF5D7-13DC-4675-A20B-7DB941E6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140E0-6D4A-47FF-95EC-C7DC8D46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E8312-19D9-4CAA-A558-B1BD316C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DD136-C76B-46EC-A9F4-11493802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896FE4-6C28-4EF8-8709-6FCD1447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C3B0D0-9706-417E-8A42-C21DD325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54DA92-CF87-4463-A8DA-2E65E2A3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7A75B3-7551-463B-912B-E3D74150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58E3A9-EE32-4C03-8951-0EB3F28E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931-6355-4DE7-880F-32F9E853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B953-BC1E-4837-B247-EEFE165B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493F7-F50F-4518-B36C-F06607B8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927344-E259-4FD4-AAB7-396B35BF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FC9A5-EA64-4073-B79E-3EC9AC46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BF7FBA-B896-4990-8329-3FA567D9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7093B1-5229-4064-AB45-C58FD435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0B20-A967-41C1-9C98-F1E654ED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616C-B785-46DB-8987-8AFDC763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4FAB-FA32-48B7-888F-A496858A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B371-BD30-436D-9584-B4C008BF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27A46-41AD-44F6-B43E-CEC9C7EC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E87E-F7A6-4A9A-9F38-6E29912C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9A3E8-A4A4-4FFD-9F1C-F7D6A2F9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3C162-6646-4456-9182-CCD8D109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F2624-7120-467C-B85B-4679C9E3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559-01E7-4B1A-AE4C-BF8215DA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74BD-D7BE-481B-992B-F6A8B8BF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81FD-7DFD-41B1-B5C0-AA51CB01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78B2-BE85-4602-BF7B-C7C79AF4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37D77-6E1C-4F8A-9ED0-B4E00E98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1E583-6B72-4E25-AB8B-46356B79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C109-B606-41D9-85A3-332EB50F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647D-D763-4E3A-821E-7AA79E09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E3CE1-8815-440A-ACDF-33C87A41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B9D57-FCCF-433D-B8C2-AAD71EE1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BC59-A174-4212-A9E2-9921D4D3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648-4E09-4981-AECB-7DB47DF3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91E32-5F78-4220-B977-2FC3C7F6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3E9BC-950C-419A-844A-695EF80F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48B7C-2C4B-4E4A-95DA-9F33A305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ADC61-6664-4A15-981F-8158C423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0EDEE-07FD-405C-8337-9FD106B9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83E25-147A-4AC7-94D1-98068DD2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1F185-41BD-4395-A058-3A183B2B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D3B88-C5ED-40E3-90D9-5B68DD65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F6A88-53B1-4E9E-B437-47F076CE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FF5F2-97E7-4CBB-A437-E59FC147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A4F-F25D-4E68-98FB-F0BA66B1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0744A-B99B-4CC3-9FA1-BDF457F1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073CE-DA7C-4C02-91C4-96A19B7C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886C1-05AE-4587-BB29-02693F00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2D325-A4E7-4344-B0B9-681191A7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BB6A3-1993-445A-975C-5E9EB1C1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0207C-E9AB-40B0-9271-155FA1B7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A5265-C16B-4321-820F-FFC6E092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7974D-17B1-489F-A237-01281861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EEE1B-ED91-43D9-9681-5A6A78D7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172E4-30CE-4ADD-A1B1-EAF5A6DF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709-C8D0-4345-80D6-7B5796BB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E5974-D31E-4BBF-8ADB-8AFDBDD4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CFA09-0049-45FF-A315-D5151A05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49E57-6AA8-4BDA-9B48-0FAC614F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BA6D0-60C9-47B7-963E-6DD4A583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8F102-680B-4A45-A562-E314B73E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ACDF-F3F0-4AA5-AE75-79D28801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75BFB-6790-47BC-AF71-49F3EBA6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E0A05-ADFD-4C31-84AE-2B4B66CD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AE880-7E71-420F-A1D7-66A10825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A9C82-73AE-4B87-A07D-D65CBC46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3FA-E7D5-4FB9-85DA-EE02F467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E8055-C887-46F5-A782-4C536AF3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B2FA7-06C4-4507-8741-9B9B7FCE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29EEB-F497-4CD6-AC52-BD4CD10C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3F9B8-73F0-4F78-97D0-FFAAEC8B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59B86-39EC-4D9D-95A1-6AD8E64E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D8B0E-C718-498D-9CB6-C9EFCB4D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198DB-83E8-405E-9692-A13E74E2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2241-53D7-4B18-89B3-A881B8D4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A20C5-9A1E-458D-9F1E-8934A115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570D5-AC05-426D-9B35-70C14907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494-14C7-4010-B593-A242B7EA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3F05B-351B-4FE4-8441-41EA619A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A36CE-1FC5-4BDA-8090-E1B47C54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B362A-F81A-4DE3-A924-4B3A57FD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B2A18-897E-40C0-ACC1-9602280A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76203-EDC3-4461-8AE7-9BF1C511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8EE20-18CE-409A-8503-DB890A4F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D98D1-25FA-42EC-9DFC-247F57D3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B1A67-E413-4CCF-B726-64A6C4CF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94615-2AD2-4BAE-9732-DAEF7D69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D1CB1-5229-437A-A1FD-466A1C9B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99C-5B08-45C3-9D43-183E3C87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9668F-61A6-4659-A236-4B698479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10B15-8A09-4F4D-9EB0-561DE68A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A57C2-CFAA-4F1F-88F9-B54AB59A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59252-9AFF-4CAE-BDE5-9CB543C1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6DEB9-2E62-4CA4-B1F9-04F4B8F6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C46A4-D092-4B05-AA1A-65EF4258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4CE2A-3CB4-4EC6-B6EB-8092A0F2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D48F6-1E42-4CA8-A20B-EFBD2EBE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9946E-4456-46CB-8270-7C966FA5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B916E-864E-43F9-8822-F55AA4AE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5E63-B8FE-4C7A-AEC7-B63A48BB496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4F3C-3E49-443E-91B3-650429FBE71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37C9-5898-4130-99C0-68DBC599A5B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1E1E-DE06-485C-8796-6B533CB29A6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DFED-59EA-4EC6-96FA-429591B603F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9442-BB70-4C9F-871A-ED8BD037CD7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6B5D-C93D-42C1-9EB9-ED60D2084D40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B1E2-CA72-4F52-8A49-52D0CFEE6E5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3604-9C36-414C-A052-78EB9CBCEAB0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8E26-46EB-42A5-A7A5-C6AEF84D9C2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F35B-42FA-4C4E-B75F-F67CF27927C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038C-D77C-48A8-983A-222DCDCC1FD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8905-E0CE-4EFF-BCA1-8272101D5DF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CA70-AD44-4AF0-A8FF-D51D240A2A9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FB7B-72E2-4E44-8629-B842F7648FB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9A9E-AC88-493A-B84A-EE9B79336CA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C385-FAE4-4C1E-827A-7712EFB58A77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ángulo 1"/>
          <p:cNvSpPr/>
          <p:nvPr/>
        </p:nvSpPr>
        <p:spPr>
          <a:xfrm>
            <a:off x="324000" y="1341360"/>
            <a:ext cx="8496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200" spc="-1" strike="noStrike">
                <a:solidFill>
                  <a:srgbClr val="000000"/>
                </a:solidFill>
                <a:latin typeface="Century Gothic"/>
              </a:rPr>
              <a:t>LA MÁS URGENTE </a:t>
            </a:r>
            <a:r>
              <a:rPr b="1" lang="es-VE" sz="9600" spc="-1" strike="noStrike">
                <a:solidFill>
                  <a:srgbClr val="000000"/>
                </a:solidFill>
                <a:latin typeface="Baskerville Old Face"/>
              </a:rPr>
              <a:t>NECESIDAD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8800" spc="-1" strike="noStrike">
                <a:solidFill>
                  <a:srgbClr val="000000"/>
                </a:solidFill>
                <a:latin typeface="Century Gothic"/>
              </a:rPr>
              <a:t>DEL HOMBRE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611280" y="191628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El propósito del tentador era contraria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EL PLAN DE DI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ángulo 1"/>
          <p:cNvSpPr/>
          <p:nvPr/>
        </p:nvSpPr>
        <p:spPr>
          <a:xfrm>
            <a:off x="324000" y="177336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no son éstos incentivos  poderoso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que nos instan a dedicar a nuestro Salvador el amante servicio de nuestro corazó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ángulo 1"/>
          <p:cNvSpPr/>
          <p:nvPr/>
        </p:nvSpPr>
        <p:spPr>
          <a:xfrm>
            <a:off x="324000" y="19954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Y por otra parte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os juicios de Dios pronunciados contra el pecad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ángulo 1"/>
          <p:cNvSpPr/>
          <p:nvPr/>
        </p:nvSpPr>
        <p:spPr>
          <a:xfrm>
            <a:off x="395280" y="199548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retribución inevitable, la degradación de nuestro caráct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ángulo 1"/>
          <p:cNvSpPr/>
          <p:nvPr/>
        </p:nvSpPr>
        <p:spPr>
          <a:xfrm>
            <a:off x="826920" y="1779480"/>
            <a:ext cx="741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la destrucción final, se presentan e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Palabra de D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ángulo 1"/>
          <p:cNvSpPr/>
          <p:nvPr/>
        </p:nvSpPr>
        <p:spPr>
          <a:xfrm>
            <a:off x="395280" y="24670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amonestarnos contra el servicio de Satanás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ángulo 1"/>
          <p:cNvSpPr/>
          <p:nvPr/>
        </p:nvSpPr>
        <p:spPr>
          <a:xfrm>
            <a:off x="250920" y="22096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¿No apreciaremos la misericordia de Dios?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ángulo 1"/>
          <p:cNvSpPr/>
          <p:nvPr/>
        </p:nvSpPr>
        <p:spPr>
          <a:xfrm>
            <a:off x="755640" y="25574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¿Qué más podía hacer?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ángulo 1"/>
          <p:cNvSpPr/>
          <p:nvPr/>
        </p:nvSpPr>
        <p:spPr>
          <a:xfrm>
            <a:off x="395280" y="1933560"/>
            <a:ext cx="8280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ongámonos en perfecta relació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on Aquel que nos ha amado con estupendo amo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ángulo 1"/>
          <p:cNvSpPr/>
          <p:nvPr/>
        </p:nvSpPr>
        <p:spPr>
          <a:xfrm>
            <a:off x="395280" y="1873080"/>
            <a:ext cx="83883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provechemos los medios que nos han sido provisto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ara que seamos transformados conforme a su semejanz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ángulo 1"/>
          <p:cNvSpPr/>
          <p:nvPr/>
        </p:nvSpPr>
        <p:spPr>
          <a:xfrm>
            <a:off x="611280" y="170028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restituidos a la comunión de los ángeles, a la armonía y comunión del Padre y el Hijo.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395280" y="1965240"/>
            <a:ext cx="84978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Que había tenido al crear al homb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y llenar la tierra de miseria y desolació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179280" y="155736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5400" spc="-1" strike="noStrike">
                <a:solidFill>
                  <a:srgbClr val="000000"/>
                </a:solidFill>
                <a:latin typeface="Calibri"/>
              </a:rPr>
              <a:t>Quería señalar todo este mal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como el resultado de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la obra de Dio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al crear al hombre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250920" y="1700280"/>
            <a:ext cx="87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El hombre, en su estado de inocencia, gozaba de completa comunión con Di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324000" y="1844640"/>
            <a:ext cx="8424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Calibri"/>
              </a:rPr>
              <a:t>Aquel “en quien están escondidos todos los tesoros de la sabiduría y de la ciencia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(Colosenses 2: 3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468360" y="17002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Mas después de su caída, no pudo encontrar gozo en la santida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1"/>
          <p:cNvSpPr/>
          <p:nvPr/>
        </p:nvSpPr>
        <p:spPr>
          <a:xfrm>
            <a:off x="684360" y="1873080"/>
            <a:ext cx="7848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Y procuró ocultarse de la presencia de Dio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539640" y="1844640"/>
            <a:ext cx="806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Tal es aún la condición del corazón no renovado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ángulo 1"/>
          <p:cNvSpPr/>
          <p:nvPr/>
        </p:nvSpPr>
        <p:spPr>
          <a:xfrm>
            <a:off x="250920" y="1916280"/>
            <a:ext cx="86058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Que no está en armonía con Dios,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i encuentra gozo en la comunión con él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324000" y="206064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pecador no podría ser feliz en la presencia de Di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ángulo 1"/>
          <p:cNvSpPr/>
          <p:nvPr/>
        </p:nvSpPr>
        <p:spPr>
          <a:xfrm>
            <a:off x="250920" y="1197000"/>
            <a:ext cx="8569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El hombre estaba dotado originalmente de facultades nobles y de un entendimiento bien equilibrad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539640" y="206064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e desagradaría  la compañía de los seres sant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ángulo 1"/>
          <p:cNvSpPr/>
          <p:nvPr/>
        </p:nvSpPr>
        <p:spPr>
          <a:xfrm>
            <a:off x="324000" y="1944720"/>
            <a:ext cx="85690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i se le pudiese permitir entrar en el cielo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hallaría alegría en aquel luga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179280" y="2097000"/>
            <a:ext cx="885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espíritu de amo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puro reina allí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395280" y="18446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onde respond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ada corazón al corazó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l Amor Infinit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250920" y="19350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haría vibrar en su alm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uerda alguna d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impatí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108000" y="215100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ría una not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iscordante en la melodía del ciel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179280" y="217008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ielo sería para él un lugar de tortura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324000" y="1916280"/>
            <a:ext cx="83516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siaría ocultarse de la presencia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Aquel que es su luz y el centro de su goz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179280" y="1700280"/>
            <a:ext cx="87138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No es un decreto arbitrari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e parte de D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que excluye del ciel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 los malvad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179280" y="141300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los mismos se han cerrado las puerta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 su propia ineptitud </a:t>
            </a: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para aquella compañí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ángulo 1"/>
          <p:cNvSpPr/>
          <p:nvPr/>
        </p:nvSpPr>
        <p:spPr>
          <a:xfrm>
            <a:off x="324000" y="1628640"/>
            <a:ext cx="849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Era perfecto y estaba en armonía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con Dio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ángulo 1"/>
          <p:cNvSpPr/>
          <p:nvPr/>
        </p:nvSpPr>
        <p:spPr>
          <a:xfrm>
            <a:off x="250920" y="198900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gloria de Di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ría para ellos un fuego consumido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324000" y="1628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searían ser destruidos </a:t>
            </a: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para esconderse del rostro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Aquel qu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murió por salvarl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324000" y="1844640"/>
            <a:ext cx="84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s imposible que escapemos por nosotros mism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el abismo del pecado en que estamos sumid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468360" y="213840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uestro corazón es malo y no lo podemos cambia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1"/>
          <p:cNvSpPr/>
          <p:nvPr/>
        </p:nvSpPr>
        <p:spPr>
          <a:xfrm>
            <a:off x="324000" y="1844640"/>
            <a:ext cx="87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Quién podrá sacar cosa limpia de inmunda? Ninguno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Job 14: 4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1"/>
          <p:cNvSpPr/>
          <p:nvPr/>
        </p:nvSpPr>
        <p:spPr>
          <a:xfrm>
            <a:off x="71280" y="1628640"/>
            <a:ext cx="9037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 cuanto el ánimo carnal es enemistad contra Dios; pues no está sujeto a la ley de Dios, ni a la verdad lo puede estar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Romanos 8: 7)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250920" y="1700280"/>
            <a:ext cx="8785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educación, la cultura, el ejercicio de la voluntad, el esfuerzo human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dos tienen su propia esfera, pero no tienen ningún pod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0" y="1700280"/>
            <a:ext cx="91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Pueden producir un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orrección externa de la conducta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 no puede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ambiar el corazó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1"/>
          <p:cNvSpPr/>
          <p:nvPr/>
        </p:nvSpPr>
        <p:spPr>
          <a:xfrm>
            <a:off x="395280" y="199404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No pueden purificar las fuentes de la vida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1"/>
          <p:cNvSpPr/>
          <p:nvPr/>
        </p:nvSpPr>
        <p:spPr>
          <a:xfrm>
            <a:off x="539640" y="1557360"/>
            <a:ext cx="813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Debe hab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un poder que obre en el interio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ángulo 1"/>
          <p:cNvSpPr/>
          <p:nvPr/>
        </p:nvSpPr>
        <p:spPr>
          <a:xfrm>
            <a:off x="539640" y="1557360"/>
            <a:ext cx="813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Sus pensamientos eran puros,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sus designios santo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-36360" y="1792440"/>
            <a:ext cx="91440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Una vida nueva de lo alto, </a:t>
            </a: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antes de que el hombr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pueda convertirs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el pecado a la santida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900000" y="189396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Calibri"/>
              </a:rPr>
              <a:t>¡Ese poder es Cristo!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108000" y="1935000"/>
            <a:ext cx="889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olamente su gracia puede vivificar las facultades muertas del alm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755640" y="22417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Y atraerlas a Dios,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a la santidad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ángulo 1"/>
          <p:cNvSpPr/>
          <p:nvPr/>
        </p:nvSpPr>
        <p:spPr>
          <a:xfrm>
            <a:off x="34920" y="1646280"/>
            <a:ext cx="903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Salvador dijo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 menos que el hombre naciere de nuevo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250920" y="134136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 menos que recib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un corazón nuevo, nuevos deseos y design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que lo guíen a una nueva vid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1"/>
          <p:cNvSpPr/>
          <p:nvPr/>
        </p:nvSpPr>
        <p:spPr>
          <a:xfrm>
            <a:off x="684360" y="1903320"/>
            <a:ext cx="7848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puede ver el reino de Dios"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San Juan 3: 3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108000" y="1773360"/>
            <a:ext cx="8785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No te maravilles de que te dije: os es necesario nacer de nuevo"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San Juan 3: 7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250920" y="1425600"/>
            <a:ext cx="856908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Cristo está escrito: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En él estaba la vida; y la vida era la luz de los hombres"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San Juan 1: 4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0" y="849240"/>
            <a:ext cx="912960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único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nombre debajo del cielo dado a los hombres, en el cual podamos ser salvos"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Hechos 4: 12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ángulo 1"/>
          <p:cNvSpPr/>
          <p:nvPr/>
        </p:nvSpPr>
        <p:spPr>
          <a:xfrm>
            <a:off x="179280" y="158760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Pero por la desobediencia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sus facultades se pervirtieron y el egoísmo sustituyó al amo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684360" y="184464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basta comprender la bondad amorosa de Di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179280" y="191628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i percibir la benevolenci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ternura paternal de su carácte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250920" y="184464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basta discernir la sabiduría y justici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su le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324000" y="191628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Ver que está fundada sobre el eterno principio del Amo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144360" y="1454040"/>
            <a:ext cx="89647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l apóstol Pablo veía todo esto cuando exclamó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Consiento en que la ley es buena, la ley es santa, y el mandamiento justo y bueno"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1"/>
          <p:cNvSpPr/>
          <p:nvPr/>
        </p:nvSpPr>
        <p:spPr>
          <a:xfrm>
            <a:off x="250920" y="1527120"/>
            <a:ext cx="8893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Mas él añadió en la amargura de su alma agonizante y desesperada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Soy carnal, vendido bajo el poder del pecado"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Romanos 7: 12, 14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539640" y="155736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nsiaba la pureza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justici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que no podía alcanza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 sí mism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324000" y="1125360"/>
            <a:ext cx="856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y dijo: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Oh hombre infeliz que soy! ¿quién me libertará de este cuerpo de muerte?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Romanos 7: 24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0" y="1557360"/>
            <a:ext cx="912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misma exclamació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 subido en todas part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en todo tiempo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 corazones sobrecargad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108000" y="12682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No hay más que una contestación para todos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He aquí el Cordero de Dios, que quita el pecado del mundo!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Juan 1: 29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ángulo 1"/>
          <p:cNvSpPr/>
          <p:nvPr/>
        </p:nvSpPr>
        <p:spPr>
          <a:xfrm>
            <a:off x="179280" y="193500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Su naturalez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se hizo muy débil por la transgresió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108000" y="1700280"/>
            <a:ext cx="894852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Muchas son las figuras por las qu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Espíritu de D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 procurado ilustrar esta verda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395280" y="220500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cerla clara a las almas que desean verse libres de la carga del pecad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179280" y="1544760"/>
            <a:ext cx="8856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do Jacob pecó, engañando a Esaú, y huyó de la casa de su padre,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staba abrumado por el conocimiento de su culpa.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179280" y="1700280"/>
            <a:ext cx="878544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Solo y abandonado como estaba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parado de todo lo que le hacía preciosa la vid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108000" y="1827360"/>
            <a:ext cx="892800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000000"/>
                </a:solidFill>
                <a:latin typeface="Calibri"/>
              </a:rPr>
              <a:t>El único pensamiento que oprimía su alma,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ra el temor de qu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 pecado lo hubies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partado de D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395280" y="213372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¡Que fuese abandonado del cielo!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324000" y="1595520"/>
            <a:ext cx="8496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En medio de su tristeza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 recostó para descansa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obre la tierra desnud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179280" y="1668600"/>
            <a:ext cx="882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o rodeaban solamente las solitarias montañas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lo cubría la bóveda celeste con su manto de estrellas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179280" y="1773360"/>
            <a:ext cx="86774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Habiéndose dormido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una luz extraordinaria se le apareció en su sueñ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1"/>
          <p:cNvSpPr/>
          <p:nvPr/>
        </p:nvSpPr>
        <p:spPr>
          <a:xfrm>
            <a:off x="108000" y="167796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he aquí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donde estaba recostado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una inmensa escalera simbólic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arecía conducir a lo alto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2"/>
          <p:cNvSpPr/>
          <p:nvPr/>
        </p:nvSpPr>
        <p:spPr>
          <a:xfrm>
            <a:off x="395280" y="193500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Le fue imposib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por su propia fuerza resistir el poder del mal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250920" y="152568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sta las misma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uertas del cielo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y los ángeles de Dios subían y descendían por ell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270000" y="1413000"/>
            <a:ext cx="86230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Al paso que de la gloria de las alturas se oyó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voz divina que pronunciaba un mensaje de CONSUELO Y ESPERANZ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324000" y="1822320"/>
            <a:ext cx="849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sí hizo Dios conocer a Jacob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aquello que satisfacía la necesidad y el ansia de su alma: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UN SALVADO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250920" y="1587600"/>
            <a:ext cx="8713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on gozo y gratitud vio revelado un camino por el cua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él, como pecador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odía ser restaurado a la comunión con Di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144360" y="1711440"/>
            <a:ext cx="8891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La mística escalera de su sueño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epresentaba a Jesú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l único medio de comunicación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ntre Dios y el hombr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250920" y="1125360"/>
            <a:ext cx="88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sta es la misma figur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 la cual Cristo se refirió en su conversación con Natanael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ángulo 1"/>
          <p:cNvSpPr/>
          <p:nvPr/>
        </p:nvSpPr>
        <p:spPr>
          <a:xfrm>
            <a:off x="108000" y="942840"/>
            <a:ext cx="889164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uando dijo: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Veréis abierto el cielo, y a los ángeles de Dios subiendo y bajando sobre el Hijo del hombre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Juan 1: 51)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ángulo 1"/>
          <p:cNvSpPr/>
          <p:nvPr/>
        </p:nvSpPr>
        <p:spPr>
          <a:xfrm>
            <a:off x="250920" y="1989000"/>
            <a:ext cx="8642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l caer, el hombre se apartó de Dios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tierra fue cortad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l ciel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ángulo 1"/>
          <p:cNvSpPr/>
          <p:nvPr/>
        </p:nvSpPr>
        <p:spPr>
          <a:xfrm>
            <a:off x="468360" y="1820880"/>
            <a:ext cx="8064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A través del abismo existente entre amb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podía haber comunió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ángulo 1"/>
          <p:cNvSpPr/>
          <p:nvPr/>
        </p:nvSpPr>
        <p:spPr>
          <a:xfrm>
            <a:off x="611280" y="1989000"/>
            <a:ext cx="81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Mas mediante Cristo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mundo está unido otra vez con el ciel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324000" y="2276640"/>
            <a:ext cx="84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Fue hecho cautivo por Sataná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ángulo 1"/>
          <p:cNvSpPr/>
          <p:nvPr/>
        </p:nvSpPr>
        <p:spPr>
          <a:xfrm>
            <a:off x="395280" y="184464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Con sus propios méritos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isto ha salvado el abismo que el pecado había hech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ángulo 1"/>
          <p:cNvSpPr/>
          <p:nvPr/>
        </p:nvSpPr>
        <p:spPr>
          <a:xfrm>
            <a:off x="108000" y="1773360"/>
            <a:ext cx="889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e tal manera que los hombr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ueden tener comunión con los ángeles ministradores.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ángulo 1"/>
          <p:cNvSpPr/>
          <p:nvPr/>
        </p:nvSpPr>
        <p:spPr>
          <a:xfrm>
            <a:off x="179280" y="151596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Cristo une al hombre caído, débil y miserable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n la Fuente del poder Infinit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ángulo 1"/>
          <p:cNvSpPr/>
          <p:nvPr/>
        </p:nvSpPr>
        <p:spPr>
          <a:xfrm>
            <a:off x="539640" y="191628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Mas vanos son los sueños de progreso de los hombr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ángulo 1"/>
          <p:cNvSpPr/>
          <p:nvPr/>
        </p:nvSpPr>
        <p:spPr>
          <a:xfrm>
            <a:off x="468360" y="170028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vanos todos sus esfuerzos por elevar a la humanida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ángulo 1"/>
          <p:cNvSpPr/>
          <p:nvPr/>
        </p:nvSpPr>
        <p:spPr>
          <a:xfrm>
            <a:off x="179280" y="170028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i menosprecia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única fuente de esperanza y amparo para la raza caída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ángulo 1"/>
          <p:cNvSpPr/>
          <p:nvPr/>
        </p:nvSpPr>
        <p:spPr>
          <a:xfrm>
            <a:off x="826920" y="1658880"/>
            <a:ext cx="74901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Toda dádiva buena y todo don perfecto es de Dios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Santiago 1: 17)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ángulo 1"/>
          <p:cNvSpPr/>
          <p:nvPr/>
        </p:nvSpPr>
        <p:spPr>
          <a:xfrm>
            <a:off x="324000" y="1689120"/>
            <a:ext cx="864072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o soy el Camino, y la Verdad, y la Vida; nadie viene al Padre sino por mí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Juan 14: 6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ángulo 1"/>
          <p:cNvSpPr/>
          <p:nvPr/>
        </p:nvSpPr>
        <p:spPr>
          <a:xfrm>
            <a:off x="250920" y="145260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corazón de D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spira por sus hijos terrenales con un amor más fuerte que la muert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ángulo 1"/>
          <p:cNvSpPr/>
          <p:nvPr/>
        </p:nvSpPr>
        <p:spPr>
          <a:xfrm>
            <a:off x="214200" y="1790640"/>
            <a:ext cx="82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l dar a su Hij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s ha vertido todo el cielo en un do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324000" y="1700280"/>
            <a:ext cx="86040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Y hubiera permanecido así para siemp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5400" spc="-1" strike="noStrike">
                <a:solidFill>
                  <a:srgbClr val="000000"/>
                </a:solidFill>
                <a:latin typeface="Calibri"/>
              </a:rPr>
              <a:t>si Dios no hubiese intervenido de una manera especial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ángulo 1"/>
          <p:cNvSpPr/>
          <p:nvPr/>
        </p:nvSpPr>
        <p:spPr>
          <a:xfrm>
            <a:off x="611280" y="192240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vida, la muerte y la intercesión del Salvado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ángulo 1"/>
          <p:cNvSpPr/>
          <p:nvPr/>
        </p:nvSpPr>
        <p:spPr>
          <a:xfrm>
            <a:off x="468360" y="155736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ministerio de los ángeles, la imploración del Espíritu Santo, el Padre que obra  sobre todo y por tod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ángulo 1"/>
          <p:cNvSpPr/>
          <p:nvPr/>
        </p:nvSpPr>
        <p:spPr>
          <a:xfrm>
            <a:off x="755640" y="17780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interés incesant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los seres celestial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ángulo 1"/>
          <p:cNvSpPr/>
          <p:nvPr/>
        </p:nvSpPr>
        <p:spPr>
          <a:xfrm>
            <a:off x="324000" y="198900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Todos están empeñados en la redención del hombr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ángulo 1"/>
          <p:cNvSpPr/>
          <p:nvPr/>
        </p:nvSpPr>
        <p:spPr>
          <a:xfrm>
            <a:off x="250920" y="1587600"/>
            <a:ext cx="86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Oh, contemplemos el sacrificio asombroso que ha sido hecho por nosotros!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ángulo 1"/>
          <p:cNvSpPr/>
          <p:nvPr/>
        </p:nvSpPr>
        <p:spPr>
          <a:xfrm>
            <a:off x="179280" y="1544760"/>
            <a:ext cx="87138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rocuremos apreciar el trabajo y la energía que el cielo está empleand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rescatar al perdido y traerlo de nuevo al Padr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ángulo 1"/>
          <p:cNvSpPr/>
          <p:nvPr/>
        </p:nvSpPr>
        <p:spPr>
          <a:xfrm>
            <a:off x="179280" y="1700280"/>
            <a:ext cx="8640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Jamás podrían habers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puesto en acció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otivos más fuertes y energías más poderosa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ángulo 1"/>
          <p:cNvSpPr/>
          <p:nvPr/>
        </p:nvSpPr>
        <p:spPr>
          <a:xfrm>
            <a:off x="395280" y="2138400"/>
            <a:ext cx="84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s grandiosos galardones por el bien hace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ángulo 1"/>
          <p:cNvSpPr/>
          <p:nvPr/>
        </p:nvSpPr>
        <p:spPr>
          <a:xfrm>
            <a:off x="324000" y="170028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goce del cielo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compañía de los ángeles, la comunión y el amor de Dios y de su Hij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ángulo 1"/>
          <p:cNvSpPr/>
          <p:nvPr/>
        </p:nvSpPr>
        <p:spPr>
          <a:xfrm>
            <a:off x="179280" y="1628640"/>
            <a:ext cx="8856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La elevación y el acrecentamiento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todas nuestras facultades por las edades eterna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7:55:42Z</dcterms:created>
  <dc:creator>Orlando Rosales</dc:creator>
  <dc:description/>
  <dc:language>en-US</dc:language>
  <cp:lastModifiedBy>Karina de Martin</cp:lastModifiedBy>
  <dcterms:modified xsi:type="dcterms:W3CDTF">2017-03-12T15:41:45Z</dcterms:modified>
  <cp:revision>41</cp:revision>
  <dc:subject/>
  <dc:title>CAPÍTULO 2. La Más Urgente Necesidad del Hombre </dc:title>
</cp:coreProperties>
</file>