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  <p:sldId id="365" r:id="rId128"/>
    <p:sldId id="366" r:id="rId129"/>
    <p:sldId id="367" r:id="rId130"/>
    <p:sldId id="368" r:id="rId131"/>
    <p:sldId id="369" r:id="rId132"/>
    <p:sldId id="370" r:id="rId133"/>
    <p:sldId id="371" r:id="rId134"/>
    <p:sldId id="372" r:id="rId135"/>
    <p:sldId id="373" r:id="rId136"/>
    <p:sldId id="374" r:id="rId1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slide" Target="slides/slide110.xml"/><Relationship Id="rId129" Type="http://schemas.openxmlformats.org/officeDocument/2006/relationships/slide" Target="slides/slide111.xml"/><Relationship Id="rId130" Type="http://schemas.openxmlformats.org/officeDocument/2006/relationships/slide" Target="slides/slide112.xml"/><Relationship Id="rId131" Type="http://schemas.openxmlformats.org/officeDocument/2006/relationships/slide" Target="slides/slide113.xml"/><Relationship Id="rId132" Type="http://schemas.openxmlformats.org/officeDocument/2006/relationships/slide" Target="slides/slide114.xml"/><Relationship Id="rId133" Type="http://schemas.openxmlformats.org/officeDocument/2006/relationships/slide" Target="slides/slide115.xml"/><Relationship Id="rId134" Type="http://schemas.openxmlformats.org/officeDocument/2006/relationships/slide" Target="slides/slide116.xml"/><Relationship Id="rId135" Type="http://schemas.openxmlformats.org/officeDocument/2006/relationships/slide" Target="slides/slide117.xml"/><Relationship Id="rId136" Type="http://schemas.openxmlformats.org/officeDocument/2006/relationships/slide" Target="slides/slide118.xml"/><Relationship Id="rId137" Type="http://schemas.openxmlformats.org/officeDocument/2006/relationships/slide" Target="slides/slide119.xml"/><Relationship Id="rId1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8D1C-3BFB-473D-A740-A94C03A0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23B-93B1-4DD1-859E-D4EDF62A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40F5F-A853-481E-82AC-70C06ACC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B1F72-6A73-417C-B4C7-45C663C0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505E7-DEEF-4DD9-B52C-383F2734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399BA-7550-4805-B27E-918E3522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841FA-CE01-485B-AEBE-45E2EE13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084A9-ED40-40E9-947D-7E07CED4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FDEA6-8AEF-4DD6-903B-8CEAEEF2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C97F0-E7EC-46E7-8173-44D26471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735A5-F9ED-403A-94D3-240BCC4E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5C5EE-3F74-4FFC-B071-F0CDE84A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1E7-6F92-4758-9371-ACD4603E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A6C4F-297B-41EA-BE75-E275404C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A66B4-BDF0-4A0B-93D1-0D748B0B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78F10-2781-4D97-B400-FC32F125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B1B6C-27F4-4DC0-925C-5BB9DB4B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CE2B5-E6BE-4D53-927A-3D373876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E3676-29C9-42B7-B8BE-CFDD9AB8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13BB0-7DB0-4258-9FFA-B2777019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79D01-78C2-4673-88A9-8292047D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ABBA6-36F7-4DB2-8A72-6E0AF3A7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DC049-27FE-4755-80BC-620E8D3B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CB7-5FC9-4113-A807-4F240304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7E72C-3224-4740-94A1-5845879E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7833E-393C-4089-B846-7B764278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F95AC-3703-42D2-9073-B765A2D1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5C85A-B545-4A45-BDEC-0E2ABCB1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6FB84-F494-4286-8905-9C6A75B7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940D6-3940-4389-BB44-A8D753FA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3280C-8BAF-48DE-8B24-069E55CC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7FE30-45E6-4747-AD0E-454923B7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9F331-4F5F-491A-B773-9809AA64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3180B-06AA-44DA-8885-B028E6E6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FF4F-9EB5-4975-9AF6-33A9FBA5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B5218-DF89-4606-B847-EF300F35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E3F5C-3699-48A3-AEBF-ED17555D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62DCA-AE4C-496B-BA32-14D16B03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FCEC2-009E-4822-924A-7C6A69EE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91E7D-1BAB-434B-BDCA-F2D56D95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C6199-8911-49D5-9B26-978CE151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176E0-A60A-4E05-91A5-CE40F9F7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6F8C8-F567-4EE6-A312-75170EB3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D0DBD-69DA-41A2-8158-90327F84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D43CC-D905-4380-A3D8-BB8F9D0D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3F0C-4E72-4073-A1E2-83B5758C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7BBAC-5620-4970-9663-8D42ACBA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E7D6D-8148-44D1-B60D-0F29C14B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D9D9A-D8DB-4386-9851-D70D0598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DB8C3-D8A3-4236-AD4F-FFEA0EEE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21ED4-2952-4149-A319-B74F0579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05BD6-238F-421B-B03A-1FB27624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AF3BC-803A-4670-BAE2-8A6F7E1D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38B76-0808-4655-A0CA-CD4B0A06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95EAF-5758-4093-B2B8-9376F10F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B115E-BB1D-475A-8A4C-6BD86447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0600-D864-4FA2-B1E4-6DEC7FDD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77D75-2517-4F19-9B4A-EF936D77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22ED3-7E6F-41B6-AD54-F91D74EA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F6E46-0CA6-4739-9288-42B5C6C2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80A72-4895-417C-9B17-ECF29638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296BB-3BE8-4F95-B016-FF9A5C1A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26D1E-3F3F-4EF5-8511-C1414A93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5CD1B-36D1-4954-9E14-DF4CD7E8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37FD2-70F3-44CE-8D83-61FBD023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69DF3-A6F6-4446-87FE-AE9A6609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3F17C-6CCD-4B16-881C-B48A7BF1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3833-0DC7-4319-B79A-F2CF842F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756DA-523C-4B6C-BC37-94E52CE2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7A470-215A-45EA-AC01-E0CC27A1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D414B-9CFB-451B-BBE6-BC1A32D9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88256-CACD-4F28-85B5-B8675F2C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56050-CF09-45C7-A18A-84E65067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DD1F3-00B8-41B0-9EE2-F14CC193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B5FDA-6AC9-430A-8CF6-173A28FC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86447-9715-405E-8FC1-C9B3F449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FF50B-9151-4747-807C-2017DC41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BA5A5-87DF-4303-97F3-ED0BF82F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27AB-C03A-4029-A700-63CE1B2D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36422-F256-4D15-83A8-B103DFAE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B1E24-4EFF-4EAC-8AE5-0945985D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5DBEE-F80D-488E-BC11-58AE7B1C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D5EA95-479E-4741-B3C9-EEB0FF90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42BD8-85AA-4C3F-AB48-2A9EE827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E6D75-456A-4D3A-9BD4-06EE79B5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F47E4-D1C0-4DCF-8E0F-76A2DF98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B81E24-E082-4DCE-B4AF-46809B99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B76C9-A7DF-4BCD-94D0-7869111A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873959-B587-46FE-AF8E-FF134280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884D-0222-4BE3-9D9E-A4993B84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BF79D-50D2-4C49-BDEA-B61EC920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E034F-C646-4B2D-A69F-543F704F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F139B-9A7B-4EAC-AA4E-FE65811A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9FDDD-213B-45E3-A090-B367E6A3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C377D2-C964-4CD4-9144-98555CDF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6C2260-370D-411C-8829-B4AE32CF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AF9DC-529D-478F-BDA5-E5A66662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384F0-14BC-4F45-9B99-DBD1C0EE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3EFC21-690F-4098-8B29-0838228F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C0C36-499B-49B7-B816-9F402250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1A2C-3D9F-439F-8D41-E451AD6E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F7F37-E51A-4A55-BD3E-89B11ABC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039174-9F2D-42D0-8A32-0F3EC5EC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18DFC-FA48-4FD3-9EEB-7D8135BC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715CC8-45A9-464B-AB3F-BE3116DE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EEF6AC-B829-486A-BE25-F6D5B2B1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6279B-75B1-4850-B466-8814BA21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DE96A-C129-44FC-9738-19ED8FFA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6A2B62-1375-482B-9E19-EC1B1DC3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2B627-68D7-4052-B9DC-83106ADC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17D831-92B2-4EDF-90CA-96F17DF9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C17-458A-4BBB-B7BC-0F88463A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1470-56CF-496E-9D12-1A39EAB0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E89AD-98EA-409F-9354-0F1CF208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D5A2E-863F-4A70-83FF-DA207A82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B60E90-065A-4BD8-A4AB-5A81E0AC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71816-60B3-4341-A9AA-E3CC78AC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58989-C0D5-4FB9-9936-2457EEBC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EFC3-604E-4621-8420-82CE5421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F707-DF4D-4B09-8C5E-FA82A487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CBE1-5CB4-48C4-90C4-2399B990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DC51-4E25-42B1-A68E-4D2DB23D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9D409-0AEC-40F6-BEA9-2AC42047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101B-5164-4A70-9513-8B18F54B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4AF0-B864-465E-A414-214097AB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038C-0E49-4529-B3DE-3E4CEAA6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E5300-BDE0-4C10-B04F-27369265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02D-AC7E-4928-B880-4C822D7A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A310F-0974-4077-BC42-9E3AD733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5F1A7-CF91-409A-BD28-7E3F026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CBA0-ACD2-440F-A3BC-73C19624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7D4F0-1D99-417E-8B54-C28CB7AC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14DCA-0DE1-4FCA-98D7-DCD92677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580E-F7A6-46F5-9213-8AF48655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BF985-BBD0-4C90-8AD4-51DDB542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6A93F-8B93-4BD1-8909-85DBB09A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5ED52-6627-4D58-A53F-5BF088C4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4A229-6F5A-4675-918A-6730ACAC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899-E6D2-44E4-812E-8009E07E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8E33C-C2A4-4F92-90EE-F8930637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370B4-FB47-4810-86DA-CF03093A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55D4D-2084-4946-80C7-FF6C090A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6C9C-8C9A-4FF5-8F02-C432EED1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BC675-8C73-4BA5-81C3-784E2099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D06B0-95D1-4D2F-9EF5-43BDEE90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72A1-0BFE-46BC-B0CC-83BBCFF5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F5F8E-5E83-4F6E-95CD-F4EA3C5B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E9DC7-DE2D-40B5-8CFA-875D9C62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95CC4-887D-4F66-8D58-7A60B1BC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603-1448-4A19-A89A-9683B1D6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1D85C-958C-424B-8D2F-7AE645E0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9B101-97B5-42AE-B182-51D92764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4D8D3-21FA-4E8F-B05B-C975FE07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23AC6-EC76-4A4B-A167-9C62C824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AAB88-AC8A-4C73-A674-5E9528F1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E0B6D-9C07-4FBA-9914-E201179D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ADD3D-AA73-4ADD-9D0F-98EC0410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5B16F-B38C-4A1E-8D84-AABD58ED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8BEEC-8799-4753-886E-4EC0BC81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753CB-1609-4EB6-B836-48041C48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09E-5EF9-4A0D-963C-A51FCFEA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F91A1-4ADB-42C6-AD36-DBC72474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2B608-1040-43AA-ABA8-6D155CA6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0D2D1-7B39-4EBF-A1E8-4DFF98FC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D9F1-509F-4F8D-83EF-D02A2C03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89946-52E9-48FA-BC30-75A4E361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F1571-1E16-4C4A-B6DF-0F6E5216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7FC92-0B79-4750-9684-6674B017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8E1C6-8F93-4269-99FC-E0F589B0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BA69-D28C-4D8C-9875-C79FF27D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5C940-A7D1-45A8-8949-2C6E7B68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674-2517-4955-B7FE-398D8CD7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BA03D-2751-47D7-B5B0-770214A1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6BB43-EC32-4F33-ABF5-187F6C39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330E6-394E-4AA8-8F2F-BD27961F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A4BA7-410D-4769-8418-DCCC7152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4FA36-CB60-431B-AB3C-B2C634CB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5E69E-EAFA-44E2-B817-0DF6E1B6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F4155-1F43-4EAB-9EB0-3D2B699C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A8A19-CB21-40DC-81A7-662CD960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2D609-DD50-4342-82CA-F6B849C3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2E4F6-7EC3-4255-BBB9-88D6D2C1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20C-8832-4575-92D9-0E10DCF9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3CDC9-B650-4CA4-8490-7507ECD8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7068E-B191-4792-A5A8-31A1D7FF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BBD61-2A13-4134-95A6-FF0CC747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5414F-0D97-4928-904F-2F05A0B5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CB977-2F40-482E-9088-034F69E3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0ADC5-C962-4248-82B7-0B9F200B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9518F-3892-4B98-951E-2CACBEE3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64ADE-33F1-48D5-8AE2-EF5D0195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5FFF6-3E6C-4F74-B3C0-EDD9CE19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CBDE1-9151-4AEC-B9A1-FB83B9C3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8E4-D595-469F-910D-CFE90522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E8BE5-35F6-4CED-A9BB-8AEE0961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550AA-90C4-4E10-BEA7-53D9D272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990D7-1751-45DC-9FAD-C805F9AF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3A4CE-EA2F-469D-A975-937B336A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2465E-6B18-4FAF-809D-E28DB0E2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866C5-1583-4146-B8C8-7CD9BDD8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13DD6-3F1E-4BF3-AA5A-3AE61FDD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D5D7B-42D2-43A3-8D8F-840DD740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74E63-9C93-49B7-B909-0222330D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3D809-7E36-4593-9519-8F4808D5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3668-6B30-4BC2-8E5C-C42E0510B75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4C74-141D-44D7-951F-0CE4414650E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1688-553C-41DE-B869-A8C044DCA45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2583-A39E-40F9-B276-A1C4E1E82A30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79D2-D026-4C1E-8148-5FFB8E7F871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3D3D-7D5C-4B0E-9513-84D8B61BA7A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72B1-44DA-4CE2-8746-1BDFF2BB658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6741-4B88-4456-94B0-857C7C70CF5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7B42-772D-421F-ABAC-B392A151890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8BBD-F43A-4F9A-83C4-5094E8AEF8C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17FD-91AF-4103-8624-20F607B125A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134A-1AF4-4271-9FE4-EC3DE78CCA9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0A6C-FE70-4C4A-8C40-49EEBDBD97D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E1F2-B550-4C3B-B72C-6F1E656EE4C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FD3F-7DE6-4E0D-B315-F79195FF6DB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7E8B-AF98-404C-AEEC-51F3305588E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F2A3-61F5-4B10-8BE3-071F3A8B526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262626"/>
                </a:solidFill>
                <a:latin typeface="Century Gothic"/>
              </a:rPr>
              <a:t>EL</a:t>
            </a:r>
            <a:r>
              <a:rPr b="0" lang="es-ES" sz="7200" spc="-1" strike="noStrike">
                <a:solidFill>
                  <a:srgbClr val="262626"/>
                </a:solidFill>
                <a:latin typeface="Century Gothic"/>
              </a:rPr>
              <a:t> SECRETO </a:t>
            </a:r>
            <a:r>
              <a:rPr b="0" lang="es-ES" sz="5400" spc="-1" strike="noStrike">
                <a:solidFill>
                  <a:srgbClr val="262626"/>
                </a:solidFill>
                <a:latin typeface="Century Gothic"/>
              </a:rPr>
              <a:t>DEL</a:t>
            </a:r>
            <a:r>
              <a:rPr b="0" lang="es-ES" sz="72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es-ES" sz="8800" spc="-1" strike="noStrike">
                <a:solidFill>
                  <a:srgbClr val="262626"/>
                </a:solidFill>
                <a:latin typeface="Baskerville Old Face"/>
              </a:rPr>
              <a:t>CRECIMIENTO</a:t>
            </a:r>
            <a:endParaRPr b="0" lang="en-US" sz="8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2070000" y="2060640"/>
            <a:ext cx="545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imismo es solamente mediante la vida de Dios como se engendra la vida espiritual en el corazón de los homb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ángulo 1"/>
          <p:cNvSpPr/>
          <p:nvPr/>
        </p:nvSpPr>
        <p:spPr>
          <a:xfrm>
            <a:off x="1187280" y="2205000"/>
            <a:ext cx="70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que había hablado a sus corazones palabras de esperanza y consuelo, fue arrebatado de ellos al cielo mientras les comunicaba aún un mensaje de paz, y los acentos de su 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ángulo 1"/>
          <p:cNvSpPr/>
          <p:nvPr/>
        </p:nvSpPr>
        <p:spPr>
          <a:xfrm>
            <a:off x="1042920" y="2060640"/>
            <a:ext cx="7129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He aquí yo estoy con vosotros todos los días hasta el fin del mundo"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Mateo 28: 2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ángulo 1"/>
          <p:cNvSpPr/>
          <p:nvPr/>
        </p:nvSpPr>
        <p:spPr>
          <a:xfrm>
            <a:off x="971640" y="2276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legaban todavía a ellos, cuando una nube de ángeles lo recibi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bía ascendido al cielo en forma hum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ángulo 1"/>
          <p:cNvSpPr/>
          <p:nvPr/>
        </p:nvSpPr>
        <p:spPr>
          <a:xfrm>
            <a:off x="1116000" y="2349360"/>
            <a:ext cx="69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abían que estaba delante del trono de Dios, como Amigo y Salvador suyo todavía; que sus simpatías no habían cambiado; que estaba aún identificado con la doliente human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ángulo 1"/>
          <p:cNvSpPr/>
          <p:nvPr/>
        </p:nvSpPr>
        <p:spPr>
          <a:xfrm>
            <a:off x="1187280" y="2170080"/>
            <a:ext cx="69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taba presentando delante de Dios los méritos de su propia sangre, estaba mostrándole sus manos y sus pies traspasados, como memoria del precio que había pagado por sus redim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ángulo 1"/>
          <p:cNvSpPr/>
          <p:nvPr/>
        </p:nvSpPr>
        <p:spPr>
          <a:xfrm>
            <a:off x="1187280" y="217008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abían que él había ascendido al cielo para prepararles lugar y que vendría otra vez para llevarlos consi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ángulo 1"/>
          <p:cNvSpPr/>
          <p:nvPr/>
        </p:nvSpPr>
        <p:spPr>
          <a:xfrm>
            <a:off x="1042920" y="220500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l congregarse después de su ascensión, estaban ansiosos de presentar sus peticiones al Padre en el nombre de Jesú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ángulo 1"/>
          <p:cNvSpPr/>
          <p:nvPr/>
        </p:nvSpPr>
        <p:spPr>
          <a:xfrm>
            <a:off x="1042920" y="2017800"/>
            <a:ext cx="72741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 solemne temor se postraron en oración, repitiendo la promesa: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"Todo cuanto pidiereis al Padre en mi nombre, él os lo dará. Hasta ahora no habéis pedido nada en mi nombre:  pedid y recibiréis, para que vuestro gozo sea completo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San Juan 16: 23, 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ángulo 1"/>
          <p:cNvSpPr/>
          <p:nvPr/>
        </p:nvSpPr>
        <p:spPr>
          <a:xfrm>
            <a:off x="1187280" y="1916280"/>
            <a:ext cx="684072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xtendieron más y más la mano de la fe presentando aquel poderoso argumento: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"¡Cristo Jesús es el que murió; más aún, el que fue levantado de entre los muertos; el que está a la diestra de Dios; el que también intercede por nosotros!"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Romanos 8: 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ángulo 1"/>
          <p:cNvSpPr/>
          <p:nvPr/>
        </p:nvSpPr>
        <p:spPr>
          <a:xfrm>
            <a:off x="1332000" y="2413080"/>
            <a:ext cx="6696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Y en el día de Pentecostés vino a ellos la presencia del Consolador, del cual Cristo había dicho: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Estará en vosotro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1116000" y="1916280"/>
            <a:ext cx="712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i el hombre 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naciere de nuevo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n Juan 3: 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no puede ser hecho participante de la vida que Cristo vino a 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ángulo 1"/>
          <p:cNvSpPr/>
          <p:nvPr/>
        </p:nvSpPr>
        <p:spPr>
          <a:xfrm>
            <a:off x="1187280" y="2349360"/>
            <a:ext cx="69850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Y les había dicho  más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Os conviene que yo vaya; porque si no me fuere, el Consolador no vendrá a vosotros; mas si me fuere, os le enviaré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San Juan 14: 17 ; 16: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ángulo 1"/>
          <p:cNvSpPr/>
          <p:nvPr/>
        </p:nvSpPr>
        <p:spPr>
          <a:xfrm>
            <a:off x="1403280" y="2243160"/>
            <a:ext cx="648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desde aquel día Cristo había de morar continuamente por el Espíritu en el corazón 75 de sus hij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ángulo 1"/>
          <p:cNvSpPr/>
          <p:nvPr/>
        </p:nvSpPr>
        <p:spPr>
          <a:xfrm>
            <a:off x="1547640" y="2205000"/>
            <a:ext cx="61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 unión con ellos era más estrecha que cuando él estaba personalmente con el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ángulo 1"/>
          <p:cNvSpPr/>
          <p:nvPr/>
        </p:nvSpPr>
        <p:spPr>
          <a:xfrm>
            <a:off x="1042920" y="2276640"/>
            <a:ext cx="712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luz, el amor y el poder de la presencia de Cristo resplandecían en ellos, de tal manera que los hombres, mirándolos,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"se maravillaban; y al fin los reconocían, que eran de los que habían estado con Jesús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Hechos 4: 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ángulo 1"/>
          <p:cNvSpPr/>
          <p:nvPr/>
        </p:nvSpPr>
        <p:spPr>
          <a:xfrm>
            <a:off x="1116000" y="2425680"/>
            <a:ext cx="69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odo lo que Cristo fue para sus primeros discípulos, desea serlo para sus hijos h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ángulo 1"/>
          <p:cNvSpPr/>
          <p:nvPr/>
        </p:nvSpPr>
        <p:spPr>
          <a:xfrm>
            <a:off x="1042920" y="2089080"/>
            <a:ext cx="72010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que en su última oración, realizada con el pequeño grupo de discípulos que reunió a su alrededor, dijo: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"No ruego solamente por éstos, sino por aquellos también que han de creer en mí por medio de la palabra de ellos"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(San Juan 17: 2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ángulo 1"/>
          <p:cNvSpPr/>
          <p:nvPr/>
        </p:nvSpPr>
        <p:spPr>
          <a:xfrm>
            <a:off x="1258920" y="2349360"/>
            <a:ext cx="68421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Jesús oró por nosotros y pidió que fuésemos uno con él, así como él es uno con el Pad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¡Qué unión tan precios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ángulo 1"/>
          <p:cNvSpPr/>
          <p:nvPr/>
        </p:nvSpPr>
        <p:spPr>
          <a:xfrm>
            <a:off x="1187280" y="2205000"/>
            <a:ext cx="6913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Salvador había dicho de sí mismo: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 "No puede el Hijo hacer nada de sí mismo", "el Padre, morando en mí, hace sus obras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San Juan 5: 19; 14: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ángulo 1"/>
          <p:cNvSpPr/>
          <p:nvPr/>
        </p:nvSpPr>
        <p:spPr>
          <a:xfrm>
            <a:off x="1258920" y="2406600"/>
            <a:ext cx="6913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modo que si Cristo está en nuestro corazón, obrará en nosotros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"así el querer como el obrar a causa de su buena voluntad"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Filipenses 2: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ángulo 1"/>
          <p:cNvSpPr/>
          <p:nvPr/>
        </p:nvSpPr>
        <p:spPr>
          <a:xfrm>
            <a:off x="971640" y="2133720"/>
            <a:ext cx="720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rabajaremos como trabajó él; manifestaremos el mismo espíritu. Y amándole y morando en él así, creceremos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"en todos respectos en el que es la Cabeza, es decir, en Cristo" 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(Efesios 4: 1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1565280" y="2243160"/>
            <a:ext cx="64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 que sucede con la vida, sucede con el cre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ios es el que hace florecer el  capullo y fructificar las f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1565280" y="1989000"/>
            <a:ext cx="61754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 poder es el que hace a la simiente desarrol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"primero hierba, luego espiga, luego grano lleno en la espiga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Marcos 4: 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1258920" y="1916280"/>
            <a:ext cx="68421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profeta Oseas dice que Isra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echará flores como el lirio". "Serán revivificados como el trigo, y florecerán como la vid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Oseas 14: 5,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1908000" y="2276640"/>
            <a:ext cx="55976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 Jesús nos dic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"¡Considerad los lirios, cómo crecen!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Lucas 12: 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5"/>
          <p:cNvSpPr/>
          <p:nvPr/>
        </p:nvSpPr>
        <p:spPr>
          <a:xfrm>
            <a:off x="1116000" y="19144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s plantas y las flores crecen no por su propio cuidado o solicitud o esfuerzo, sino porque reciben lo que Dios ha proporcionado para que les dé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1781280" y="2274840"/>
            <a:ext cx="588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niño no puede por su solicitud o poder propio añadir algo a su est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ángulo 1"/>
          <p:cNvSpPr/>
          <p:nvPr/>
        </p:nvSpPr>
        <p:spPr>
          <a:xfrm>
            <a:off x="1854360" y="2276640"/>
            <a:ext cx="574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i vosotros podréis por vuestra solicitud o esfuerzo conseguir el crecimiento espiri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1476360" y="2252520"/>
            <a:ext cx="6480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a planta y el niño crecen al recibir de la atmósfera que los rodea aquello que les da vida: 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aire, el sol y el al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ángulo 1"/>
          <p:cNvSpPr/>
          <p:nvPr/>
        </p:nvSpPr>
        <p:spPr>
          <a:xfrm>
            <a:off x="1476360" y="2098800"/>
            <a:ext cx="633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la Biblia se llama nacimiento al cambio de corazón por el cual somos hechos hijos de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1908000" y="1987560"/>
            <a:ext cx="550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 que estos dones de la naturaleza son para los animales y las plantas, es Cristo para los que confían en 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ángulo 1"/>
          <p:cNvSpPr/>
          <p:nvPr/>
        </p:nvSpPr>
        <p:spPr>
          <a:xfrm>
            <a:off x="1854360" y="2292480"/>
            <a:ext cx="5526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es su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luz eterna", "escudo y sol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Isaías 60: 19; Salmo 84: 1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1854360" y="2109960"/>
            <a:ext cx="5670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rá como el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"rocío a Israel". "Descenderá como la lluvia sobre el césped cortado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Oseas 14: 5; Salmo 72: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1781280" y="2421000"/>
            <a:ext cx="5815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es el agua viva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el pan de Dios . . . que descendió del cielo, y da vida al mundo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n Juan 6: 3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1565280" y="1803240"/>
            <a:ext cx="6319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n el don incomparable de su Hijo, ha rodeado Dios al mundo entero en una atmósfera de gracia tan real como el aire que circula en derredor del glo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1258920" y="2058840"/>
            <a:ext cx="691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odos los que quisieren respirar esta atmósfera vivificante vivirán y crecerán hasta la estatura de hombres y mujeres en Cristo Jesú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1332000" y="2349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mo la flor se torna hacia el sol, a fin de que los brillantes rayos la ayuden a perfeccionar su belleza y simet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900000" y="1989000"/>
            <a:ext cx="741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í debemos tornarnos hacia el Sol de Justicia, a fin de que la luz celestial brille sobre nosotros, para que nuestro carácter se transforme a la imagen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900000" y="1989000"/>
            <a:ext cx="73440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Jesús enseña la misma cosa cuando dice: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“¡Permaneced en mí, y yo en vosotros! Como no puede el sarmiento llevar fruto de sí mismo, si no permaneciera en la vid, así tampoco vosotros, si no permaneciereis en mí..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1908000" y="2276640"/>
            <a:ext cx="538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rque separados de mí nada podéis hacer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San Juan 15: 4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ángulo 2"/>
          <p:cNvSpPr/>
          <p:nvPr/>
        </p:nvSpPr>
        <p:spPr>
          <a:xfrm>
            <a:off x="1441440" y="4005360"/>
            <a:ext cx="658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í también vosotros necesitáis del auxilio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ángulo 1"/>
          <p:cNvSpPr/>
          <p:nvPr/>
        </p:nvSpPr>
        <p:spPr>
          <a:xfrm>
            <a:off x="1692360" y="2133720"/>
            <a:ext cx="5975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ambién se lo compara con la germinación de la buena semilla sembrada por el labrad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826920" y="2349360"/>
            <a:ext cx="7345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ra poder vivir una vida santa, como la rama depende del tronco principal para su crecimiento y fruct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Fuera de él no tenéis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1835280" y="2243160"/>
            <a:ext cx="567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hay poder en vosotros para resistir la tentación o para crecer en la gracia o en la sant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1332000" y="231444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orando en él podéis flore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Recibiendo vuestra vida de él, no os marchitaréis ni seréis estér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1"/>
          <p:cNvSpPr/>
          <p:nvPr/>
        </p:nvSpPr>
        <p:spPr>
          <a:xfrm>
            <a:off x="1565280" y="2133720"/>
            <a:ext cx="646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réis como el árbol plantado junto a arroyos de aguas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uchos tienen la idea de que deben hacer alguna parte de la obra so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2"/>
          <p:cNvSpPr/>
          <p:nvPr/>
        </p:nvSpPr>
        <p:spPr>
          <a:xfrm>
            <a:off x="1042920" y="1916280"/>
            <a:ext cx="7129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a han confiado en Cristo para el perdón de sus pecados, pero ahora procuran vivir rectamente por sus propios esfuerz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1781280" y="2133720"/>
            <a:ext cx="567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as tales esfuerzos se desvanecerán. Jesús dic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Porque separados de mí nada podéis hacer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1476360" y="2274840"/>
            <a:ext cx="631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uestro crecimiento en la gracia, nuestro gozo, nuestra utilidad, todo depende de nuestra unión con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1"/>
          <p:cNvSpPr/>
          <p:nvPr/>
        </p:nvSpPr>
        <p:spPr>
          <a:xfrm>
            <a:off x="971640" y="234936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olamente estando en comunión con él diariamente, a cada hora permaneciendo en él, es como hemos de crecer en la gra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1"/>
          <p:cNvSpPr/>
          <p:nvPr/>
        </p:nvSpPr>
        <p:spPr>
          <a:xfrm>
            <a:off x="1565280" y="2421000"/>
            <a:ext cx="624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no es solamente el  autor sino también el consumador de nuestra 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1042920" y="2203560"/>
            <a:ext cx="72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risto es el principio, el fin, la totalidad. Estará con nosotros no solamente al principio y al fin de nuestra carrera, sino en cada paso del cam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ángulo 1"/>
          <p:cNvSpPr/>
          <p:nvPr/>
        </p:nvSpPr>
        <p:spPr>
          <a:xfrm>
            <a:off x="826920" y="1925640"/>
            <a:ext cx="7632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 igual modo los que están recién convertidos a Cristo, son como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niños recién nacidos", "creciendo"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1 S. Pedro 2: 2; Efesios 4: 15)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 la estatura de hombres en Cristo Jesú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1116000" y="2133720"/>
            <a:ext cx="70563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avid dice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A Jehová he puesto siempre delante de mí; porque estando él a mi diestra, no resbalaré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lmo 16: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1258920" y="22431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reguntaréis, tal vez: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¿Cómo permaneceremos en Cristo? "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Del mismo modo en que lo recibisteis al princip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826920" y="2182680"/>
            <a:ext cx="72741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e la manera, pues que recibisteis a Cristo Jesús el Señor, así andad en él”. “El justo...  vivirá por la fe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Colosenses 2: 6; Hebreos 10: 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ángulo 1"/>
          <p:cNvSpPr/>
          <p:nvPr/>
        </p:nvSpPr>
        <p:spPr>
          <a:xfrm>
            <a:off x="971640" y="2203560"/>
            <a:ext cx="734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béis profesado daros a Dios, con el fin de ser enteramente suyos, para servirle y obedecerle, y habéis aceptado a Cristo como vuestro Salvad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1692360" y="2205000"/>
            <a:ext cx="6029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o podéis por vosotros mismos expiar vuestros pecados o cambiar vuestro coraz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1"/>
          <p:cNvSpPr/>
          <p:nvPr/>
        </p:nvSpPr>
        <p:spPr>
          <a:xfrm>
            <a:off x="1565280" y="2276640"/>
            <a:ext cx="610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as habiéndoos entregado a Dios, creísteis que por causa de Cristo él hizo todo esto por v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1619280" y="2276640"/>
            <a:ext cx="610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or la fe llegasteis a ser de Cristo, y por la fe tenéis que crecer en él dando y tomando a la v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1422360" y="2098800"/>
            <a:ext cx="631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enéis que darle todo: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corazón, la voluntad, la vida, daros a él para obedecer todos sus requerimi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900000" y="2276640"/>
            <a:ext cx="7417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 debéis tomar todo: a Cristo, la plenitud de toda bendición,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ara que habite en vuestro corazón y para que sea vuestra fuerza, vuestra justicia, vuestra eterna ayuda, a fin de que os dé poder para obedecer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1763640" y="2241720"/>
            <a:ext cx="581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ságrate a Dios todas las mañanas; haz de esto tu primer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ángulo 1"/>
          <p:cNvSpPr/>
          <p:nvPr/>
        </p:nvSpPr>
        <p:spPr>
          <a:xfrm>
            <a:off x="2070000" y="2133720"/>
            <a:ext cx="531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o la buena simiente en el campo, tienen que crecer y dar fr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1187280" y="2205000"/>
            <a:ext cx="68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a tu oración: 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Tómame ¡oh Señor! como enteramente tuyo. Pongo todos mis planes a tus pies. Úsame hoy en tu servicio. Mora conmigo y sea toda mi  obra hecha en ti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755640" y="21337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ste es un asunto di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ada mañana conságrate a Dios por ese día y somete todos tus planes a él, para ponerlos en práctica o abandonarlos según te lo indicare su providenc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1763640" y="2098800"/>
            <a:ext cx="576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a puesta así tu vida en las manos de Dios y será cada vez mas semejante a la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1258920" y="2060640"/>
            <a:ext cx="676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vida en Cristo es una vida de reposo. Puede no haber éxtasis de la sensibilidad, pero debe haber una confianza continua y apacib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1"/>
          <p:cNvSpPr/>
          <p:nvPr/>
        </p:nvSpPr>
        <p:spPr>
          <a:xfrm>
            <a:off x="1547640" y="2205000"/>
            <a:ext cx="62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Vuestra esperanza no está en vosotros; está en Cristo, vuestra debilidad está unida a su fuerza, vuestra ignorancia a su sabiduría, vuestra fragilidad a su eterno p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1692360" y="1916280"/>
            <a:ext cx="5759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sí que no debéis miraros a vosotros, ni depender de vosotros, mas mirad a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1925640" y="2205000"/>
            <a:ext cx="567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ensad en su amor, en su belleza y en la perfección de su cará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1187280" y="2205000"/>
            <a:ext cx="7056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risto en su abnegación, en su humillación, en su pureza y santidad, en su incomparable amor:  esto es lo que debe contemplar el al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1187280" y="2276640"/>
            <a:ext cx="69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mándole, imitándole, dependiendo enteramente de él, es como seréis transformados a su semej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1547640" y="2130480"/>
            <a:ext cx="624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Jesús dice: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 "Permaneced en mí"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s palabras dan idea de descanso, estabilidad, confianza. También nos invita: 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¡Venid a mí ... y os daré descanso!"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Mateo 11: 2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ángulo 1"/>
          <p:cNvSpPr/>
          <p:nvPr/>
        </p:nvSpPr>
        <p:spPr>
          <a:xfrm>
            <a:off x="1547640" y="1967040"/>
            <a:ext cx="6480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saías dice que serán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llamados árboles de justicia, plantados por Jehová  mismo, para que él sea glorificado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Isaías 61: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1042920" y="2349360"/>
            <a:ext cx="712944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s palabras del salmista expresan el mismo pensamiento: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Confía calladamente en Jehová, y espérale con paciencia".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 Isaías asegur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en quietud y confianza será vuestra fortaleza"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Salmo 37: 7; Isaías 30: 15)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1403280" y="2284560"/>
            <a:ext cx="66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te descanso no se funda en la inactividad:  porque en la invitación del Salvador la promesa de descanso está unida con el llamamiento al trabajo: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Tomad mi yugo sobre vosotros, y…hallaréis descanso"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Mateo 11 : 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1709640" y="2276640"/>
            <a:ext cx="610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corazón que más plenamente descansa en Cristo es el mas ardiente y activo en el trabajo para 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1278000" y="2098800"/>
            <a:ext cx="64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uando el hombre dedica muchos pensamientos a sí mismo, se aleja de Cristo:  manantial de fortaleza y v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1116000" y="1989000"/>
            <a:ext cx="6985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or esto Satanás se esfuerza constantemente por mantener la atención apartada del Salvador e impedir así la unión y comunión del alma con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971640" y="2060640"/>
            <a:ext cx="7200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s placeres del mundo, los cuidados de la vida y sus perplejidades y tristezas, las faltas de otros o vuestras propias faltas e imperf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1908000" y="2276640"/>
            <a:ext cx="5597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hacia alguna de estas cosas, o hacia todas ellas, procura desviar la 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1619280" y="2558880"/>
            <a:ext cx="626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o seáis engañados por sus maquin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1"/>
          <p:cNvSpPr/>
          <p:nvPr/>
        </p:nvSpPr>
        <p:spPr>
          <a:xfrm>
            <a:off x="1042920" y="2060640"/>
            <a:ext cx="72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 muchos que son realmente concienzudos y que desean vivir para Dios, los hace también detenerse a menudo en sus faltas y debilidad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1979640" y="2492280"/>
            <a:ext cx="536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l separarlos así de Cristo, espera obtener la victo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1"/>
          <p:cNvSpPr/>
          <p:nvPr/>
        </p:nvSpPr>
        <p:spPr>
          <a:xfrm>
            <a:off x="1547640" y="2060640"/>
            <a:ext cx="660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el mundo natural se sacan así ilustraciones para ayudarnos a entender mejor las verdades misteriosas de la vida espiri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1116000" y="2133720"/>
            <a:ext cx="70563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No debemos hacer de nuestro yo el centro de nuestros pensamientos, ni alimentar ansiedad ni temor acerca de si seremos salvos o 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1547640" y="2241720"/>
            <a:ext cx="63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odo esto es lo que desvía el alma de la Fuente de nuestra fortal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1332000" y="213660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comendad vuestra alma al cuidado de Dios y confiad en él. Hablad de Jesús y pensad en é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1332000" y="2205000"/>
            <a:ext cx="6480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iérdase en él vuestra personalidad. Desterrad toda duda; disipad vuestros tem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1332000" y="1916280"/>
            <a:ext cx="66247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cid con el apóstol Pabl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Vivo; mas no ya yo, sino que Cristo vive en mí: y aquella vida que ahora vivo en la carne, la vivo por la fe en el Hijo de Dios, el cual me amó, y se dio a sí mismo por mí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Gálatas 2: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ángulo 1"/>
          <p:cNvSpPr/>
          <p:nvPr/>
        </p:nvSpPr>
        <p:spPr>
          <a:xfrm>
            <a:off x="1998720" y="2025720"/>
            <a:ext cx="552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eposad en Dios. El puede guardar lo que le habéis confia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ángulo 1"/>
          <p:cNvSpPr/>
          <p:nvPr/>
        </p:nvSpPr>
        <p:spPr>
          <a:xfrm>
            <a:off x="1835280" y="2133720"/>
            <a:ext cx="576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os  ponéis en sus manos, él os hará más que vencedores por Aquel que nos am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ángulo 1"/>
          <p:cNvSpPr/>
          <p:nvPr/>
        </p:nvSpPr>
        <p:spPr>
          <a:xfrm>
            <a:off x="1116000" y="2276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uando Cristo se humanó, se unió a sí mismo a la humanidad con un lazo de amor que jamás romperá poder alguno, salvo la elección del hombre m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ángulo 1"/>
          <p:cNvSpPr/>
          <p:nvPr/>
        </p:nvSpPr>
        <p:spPr>
          <a:xfrm>
            <a:off x="1258920" y="2205000"/>
            <a:ext cx="662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atanás constantemente nos presenta engaños para inducirnos a romper este lazo:  elegir separarnos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ángulo 1"/>
          <p:cNvSpPr/>
          <p:nvPr/>
        </p:nvSpPr>
        <p:spPr>
          <a:xfrm>
            <a:off x="1854360" y="2089080"/>
            <a:ext cx="56703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Sobre esto necesitamos velar, luchar, orar, para que ninguna cosa pueda inducirnos a elegir otro maestro; pues estamos siempre libres para hacer es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1763640" y="1987560"/>
            <a:ext cx="604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oda la sabiduría e inteligencia de los hombres no puede dar vida al objeto más pequeño de la natural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ángulo 1"/>
          <p:cNvSpPr/>
          <p:nvPr/>
        </p:nvSpPr>
        <p:spPr>
          <a:xfrm>
            <a:off x="1547640" y="2314440"/>
            <a:ext cx="61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as tengamos los ojos fijos en Cristo, y él nos preservará. Confiando en Jesús estamos segu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ángulo 1"/>
          <p:cNvSpPr/>
          <p:nvPr/>
        </p:nvSpPr>
        <p:spPr>
          <a:xfrm>
            <a:off x="1692360" y="2060640"/>
            <a:ext cx="6192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ada puede arrebatarnos de su mano. Mirándolo constantemente,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“somos transformados en la misma semejanza, de gloria en gloria, así como por el Espíritu del Señor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2 Corintios 3: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ángulo 1"/>
          <p:cNvSpPr/>
          <p:nvPr/>
        </p:nvSpPr>
        <p:spPr>
          <a:xfrm>
            <a:off x="1332000" y="199692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sí fue como los primeros discípulos se hicieron semejantes a nuestro Salvador. Cuando ellos oyeron las palabras de Jesús, sintieron su necesidad de É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ángulo 1"/>
          <p:cNvSpPr/>
          <p:nvPr/>
        </p:nvSpPr>
        <p:spPr>
          <a:xfrm>
            <a:off x="1476360" y="2133720"/>
            <a:ext cx="63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 buscaron, lo encontraron, lo siguieron. Estaban con él en la casa, a la mesa, en su retiro, en el ca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ángulo 1"/>
          <p:cNvSpPr/>
          <p:nvPr/>
        </p:nvSpPr>
        <p:spPr>
          <a:xfrm>
            <a:off x="1258920" y="2349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taban con él como discípulos con un maestro, recibiendo diariamente de sus labios lecciones de santa ver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ángulo 1"/>
          <p:cNvSpPr/>
          <p:nvPr/>
        </p:nvSpPr>
        <p:spPr>
          <a:xfrm>
            <a:off x="1476360" y="2128680"/>
            <a:ext cx="62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Lo miraban como los siervos a su señor, para aprender sus debe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ángulo 1"/>
          <p:cNvSpPr/>
          <p:nvPr/>
        </p:nvSpPr>
        <p:spPr>
          <a:xfrm>
            <a:off x="1332000" y="2276640"/>
            <a:ext cx="65530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quellos discípulos eran hombres sujetos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"a las mismas debilidades que nosotros"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ntiago 5: 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ángulo 1"/>
          <p:cNvSpPr/>
          <p:nvPr/>
        </p:nvSpPr>
        <p:spPr>
          <a:xfrm>
            <a:off x="1835280" y="2205000"/>
            <a:ext cx="59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enían la misma batalla con el pecado, necesitaban la misma gracia, a fin de poder vivir una vida s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ángulo 1"/>
          <p:cNvSpPr/>
          <p:nvPr/>
        </p:nvSpPr>
        <p:spPr>
          <a:xfrm>
            <a:off x="1403280" y="2205000"/>
            <a:ext cx="66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un Juan, el discípulo amado, el que más plenamente llegó a reflejar la imagen del  salvador, no poseía naturalmente esa belleza de carác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ángulo 1"/>
          <p:cNvSpPr/>
          <p:nvPr/>
        </p:nvSpPr>
        <p:spPr>
          <a:xfrm>
            <a:off x="1547640" y="1987560"/>
            <a:ext cx="61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solamente hacía valer sus derechos y ambicionaba honores, sino que era impetuoso y se resentía bajo las inju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2286000" y="199692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olamente por la vida que Dios mismo les ha dado pueden vivir las plantas y lo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ángulo 1"/>
          <p:cNvSpPr/>
          <p:nvPr/>
        </p:nvSpPr>
        <p:spPr>
          <a:xfrm>
            <a:off x="1619280" y="2205000"/>
            <a:ext cx="624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as cuando se le manifestó el carácter de Cristo, vio sus defectos y el conocimiento de ellos lo humil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ángulo 1"/>
          <p:cNvSpPr/>
          <p:nvPr/>
        </p:nvSpPr>
        <p:spPr>
          <a:xfrm>
            <a:off x="826920" y="220500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a fortaleza y la paciencia, el poder y la ternura, la majestad y la mansedumbre que él vio en la vida diaria del Hijo de Dios, llenaron su alma de admiración y am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ángulo 1"/>
          <p:cNvSpPr/>
          <p:nvPr/>
        </p:nvSpPr>
        <p:spPr>
          <a:xfrm>
            <a:off x="1584360" y="2170080"/>
            <a:ext cx="608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e día en día era su corazón atraído hacia Cristo, hasta que se olvidó de sí mismo por amor a su Maest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ángulo 1"/>
          <p:cNvSpPr/>
          <p:nvPr/>
        </p:nvSpPr>
        <p:spPr>
          <a:xfrm>
            <a:off x="1854360" y="2139840"/>
            <a:ext cx="559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 genio, resentido y ambicioso, cedió al poder transformador de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ángulo 1"/>
          <p:cNvSpPr/>
          <p:nvPr/>
        </p:nvSpPr>
        <p:spPr>
          <a:xfrm>
            <a:off x="1692360" y="2386080"/>
            <a:ext cx="610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influencia regeneradora del Espíritu Santo renovó su cora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ángulo 1"/>
          <p:cNvSpPr/>
          <p:nvPr/>
        </p:nvSpPr>
        <p:spPr>
          <a:xfrm>
            <a:off x="1403280" y="2098800"/>
            <a:ext cx="631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poder del amor de Cristo transformó su carác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te es el resultado seguro de la unión con Jesú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ángulo 1"/>
          <p:cNvSpPr/>
          <p:nvPr/>
        </p:nvSpPr>
        <p:spPr>
          <a:xfrm>
            <a:off x="1638360" y="2170080"/>
            <a:ext cx="588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ando Cristo habita en el corazón, la naturaleza entera se trans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ángulo 1"/>
          <p:cNvSpPr/>
          <p:nvPr/>
        </p:nvSpPr>
        <p:spPr>
          <a:xfrm>
            <a:off x="1619280" y="2060640"/>
            <a:ext cx="604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Espíritu de Cristo y su amor, ablandan el corazón, someten el alma y elevan los pensamientos y deseos a Dios y al cie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ángulo 1"/>
          <p:cNvSpPr/>
          <p:nvPr/>
        </p:nvSpPr>
        <p:spPr>
          <a:xfrm>
            <a:off x="1332000" y="2205000"/>
            <a:ext cx="63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uando Cristo ascendió a los cielos, la sensación de su presencia permaneció aún con los que le seguí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ángulo 1"/>
          <p:cNvSpPr/>
          <p:nvPr/>
        </p:nvSpPr>
        <p:spPr>
          <a:xfrm>
            <a:off x="1422360" y="2060640"/>
            <a:ext cx="617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ra una presencia personal, llena de amor y lu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Jesús, el Salvador, que había andado y conversado y orado con el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21:02:01Z</dcterms:created>
  <dc:creator>Orlando Rosales</dc:creator>
  <dc:description/>
  <dc:language>en-US</dc:language>
  <cp:lastModifiedBy>Karina de Martin</cp:lastModifiedBy>
  <dcterms:modified xsi:type="dcterms:W3CDTF">2017-03-13T14:55:07Z</dcterms:modified>
  <cp:revision>32</cp:revision>
  <dc:subject/>
  <dc:title>CAPÍTULO 8. El Secreto del Crecimiento </dc:title>
</cp:coreProperties>
</file>