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  <p:sldId id="317" r:id="rId80"/>
    <p:sldId id="318" r:id="rId81"/>
    <p:sldId id="319" r:id="rId82"/>
    <p:sldId id="320" r:id="rId83"/>
    <p:sldId id="321" r:id="rId84"/>
    <p:sldId id="322" r:id="rId85"/>
    <p:sldId id="323" r:id="rId86"/>
    <p:sldId id="324" r:id="rId87"/>
    <p:sldId id="325" r:id="rId88"/>
    <p:sldId id="326" r:id="rId89"/>
    <p:sldId id="327" r:id="rId90"/>
    <p:sldId id="328" r:id="rId91"/>
    <p:sldId id="329" r:id="rId92"/>
    <p:sldId id="330" r:id="rId93"/>
    <p:sldId id="331" r:id="rId94"/>
    <p:sldId id="332" r:id="rId95"/>
    <p:sldId id="333" r:id="rId96"/>
    <p:sldId id="334" r:id="rId97"/>
    <p:sldId id="335" r:id="rId98"/>
    <p:sldId id="336" r:id="rId99"/>
    <p:sldId id="337" r:id="rId100"/>
    <p:sldId id="338" r:id="rId101"/>
    <p:sldId id="339" r:id="rId102"/>
    <p:sldId id="340" r:id="rId103"/>
    <p:sldId id="341" r:id="rId104"/>
    <p:sldId id="342" r:id="rId105"/>
    <p:sldId id="343" r:id="rId106"/>
    <p:sldId id="344" r:id="rId107"/>
    <p:sldId id="345" r:id="rId108"/>
    <p:sldId id="346" r:id="rId109"/>
    <p:sldId id="347" r:id="rId110"/>
    <p:sldId id="348" r:id="rId111"/>
    <p:sldId id="349" r:id="rId112"/>
    <p:sldId id="350" r:id="rId113"/>
    <p:sldId id="351" r:id="rId114"/>
    <p:sldId id="352" r:id="rId115"/>
    <p:sldId id="353" r:id="rId116"/>
    <p:sldId id="354" r:id="rId117"/>
    <p:sldId id="355" r:id="rId118"/>
    <p:sldId id="356" r:id="rId119"/>
    <p:sldId id="357" r:id="rId120"/>
    <p:sldId id="358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slide" Target="slides/slide62.xml"/><Relationship Id="rId81" Type="http://schemas.openxmlformats.org/officeDocument/2006/relationships/slide" Target="slides/slide63.xml"/><Relationship Id="rId82" Type="http://schemas.openxmlformats.org/officeDocument/2006/relationships/slide" Target="slides/slide64.xml"/><Relationship Id="rId83" Type="http://schemas.openxmlformats.org/officeDocument/2006/relationships/slide" Target="slides/slide65.xml"/><Relationship Id="rId84" Type="http://schemas.openxmlformats.org/officeDocument/2006/relationships/slide" Target="slides/slide66.xml"/><Relationship Id="rId85" Type="http://schemas.openxmlformats.org/officeDocument/2006/relationships/slide" Target="slides/slide67.xml"/><Relationship Id="rId86" Type="http://schemas.openxmlformats.org/officeDocument/2006/relationships/slide" Target="slides/slide68.xml"/><Relationship Id="rId87" Type="http://schemas.openxmlformats.org/officeDocument/2006/relationships/slide" Target="slides/slide69.xml"/><Relationship Id="rId88" Type="http://schemas.openxmlformats.org/officeDocument/2006/relationships/slide" Target="slides/slide70.xml"/><Relationship Id="rId89" Type="http://schemas.openxmlformats.org/officeDocument/2006/relationships/slide" Target="slides/slide71.xml"/><Relationship Id="rId90" Type="http://schemas.openxmlformats.org/officeDocument/2006/relationships/slide" Target="slides/slide72.xml"/><Relationship Id="rId91" Type="http://schemas.openxmlformats.org/officeDocument/2006/relationships/slide" Target="slides/slide73.xml"/><Relationship Id="rId92" Type="http://schemas.openxmlformats.org/officeDocument/2006/relationships/slide" Target="slides/slide74.xml"/><Relationship Id="rId93" Type="http://schemas.openxmlformats.org/officeDocument/2006/relationships/slide" Target="slides/slide75.xml"/><Relationship Id="rId94" Type="http://schemas.openxmlformats.org/officeDocument/2006/relationships/slide" Target="slides/slide76.xml"/><Relationship Id="rId95" Type="http://schemas.openxmlformats.org/officeDocument/2006/relationships/slide" Target="slides/slide77.xml"/><Relationship Id="rId96" Type="http://schemas.openxmlformats.org/officeDocument/2006/relationships/slide" Target="slides/slide78.xml"/><Relationship Id="rId97" Type="http://schemas.openxmlformats.org/officeDocument/2006/relationships/slide" Target="slides/slide79.xml"/><Relationship Id="rId98" Type="http://schemas.openxmlformats.org/officeDocument/2006/relationships/slide" Target="slides/slide80.xml"/><Relationship Id="rId99" Type="http://schemas.openxmlformats.org/officeDocument/2006/relationships/slide" Target="slides/slide81.xml"/><Relationship Id="rId100" Type="http://schemas.openxmlformats.org/officeDocument/2006/relationships/slide" Target="slides/slide82.xml"/><Relationship Id="rId101" Type="http://schemas.openxmlformats.org/officeDocument/2006/relationships/slide" Target="slides/slide83.xml"/><Relationship Id="rId102" Type="http://schemas.openxmlformats.org/officeDocument/2006/relationships/slide" Target="slides/slide84.xml"/><Relationship Id="rId103" Type="http://schemas.openxmlformats.org/officeDocument/2006/relationships/slide" Target="slides/slide85.xml"/><Relationship Id="rId104" Type="http://schemas.openxmlformats.org/officeDocument/2006/relationships/slide" Target="slides/slide86.xml"/><Relationship Id="rId105" Type="http://schemas.openxmlformats.org/officeDocument/2006/relationships/slide" Target="slides/slide87.xml"/><Relationship Id="rId106" Type="http://schemas.openxmlformats.org/officeDocument/2006/relationships/slide" Target="slides/slide88.xml"/><Relationship Id="rId107" Type="http://schemas.openxmlformats.org/officeDocument/2006/relationships/slide" Target="slides/slide89.xml"/><Relationship Id="rId108" Type="http://schemas.openxmlformats.org/officeDocument/2006/relationships/slide" Target="slides/slide90.xml"/><Relationship Id="rId109" Type="http://schemas.openxmlformats.org/officeDocument/2006/relationships/slide" Target="slides/slide91.xml"/><Relationship Id="rId110" Type="http://schemas.openxmlformats.org/officeDocument/2006/relationships/slide" Target="slides/slide92.xml"/><Relationship Id="rId111" Type="http://schemas.openxmlformats.org/officeDocument/2006/relationships/slide" Target="slides/slide93.xml"/><Relationship Id="rId112" Type="http://schemas.openxmlformats.org/officeDocument/2006/relationships/slide" Target="slides/slide94.xml"/><Relationship Id="rId113" Type="http://schemas.openxmlformats.org/officeDocument/2006/relationships/slide" Target="slides/slide95.xml"/><Relationship Id="rId114" Type="http://schemas.openxmlformats.org/officeDocument/2006/relationships/slide" Target="slides/slide96.xml"/><Relationship Id="rId115" Type="http://schemas.openxmlformats.org/officeDocument/2006/relationships/slide" Target="slides/slide97.xml"/><Relationship Id="rId116" Type="http://schemas.openxmlformats.org/officeDocument/2006/relationships/slide" Target="slides/slide98.xml"/><Relationship Id="rId117" Type="http://schemas.openxmlformats.org/officeDocument/2006/relationships/slide" Target="slides/slide99.xml"/><Relationship Id="rId118" Type="http://schemas.openxmlformats.org/officeDocument/2006/relationships/slide" Target="slides/slide100.xml"/><Relationship Id="rId119" Type="http://schemas.openxmlformats.org/officeDocument/2006/relationships/slide" Target="slides/slide101.xml"/><Relationship Id="rId120" Type="http://schemas.openxmlformats.org/officeDocument/2006/relationships/slide" Target="slides/slide102.xml"/><Relationship Id="rId121" Type="http://schemas.openxmlformats.org/officeDocument/2006/relationships/slide" Target="slides/slide103.xml"/><Relationship Id="rId1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615D-6315-44B5-AF75-7A7A1740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E771-EEA0-4D92-8AF2-078E377F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4DB97-5AD3-4ABB-8DF9-ED5D8B3C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96798-F8C9-467A-8F14-CA51F940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60CC7-D053-4A30-B0B5-3F923DF5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D4AAA-A438-4A9A-B5CD-F9E26899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4FB50-44BE-4AB6-AB53-77CC501B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085A2-C6FA-4F20-8F2F-7C13A435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715CC-1ABF-480A-98A8-E88AFDBF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BEEBB-E405-4F6C-AF6E-40A4CF0F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FE244-3F03-4CAD-8B16-72B58509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ABE8E-28D7-4FE6-9B37-D3D49B3D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4A73-A302-4176-A08D-335C12DB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6377E-86E9-428F-BA40-F9E748D5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CD810-724C-464F-B15D-DF3A6DC0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B485A-2778-4282-A552-CC8BCA82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DA1B3-7C6C-4C7F-A103-32045F68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ECB88-C396-4862-8521-5254F440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0080E-BE5F-4F38-A25B-8A250AD6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C7E67-0656-4D03-BB08-3795DAC3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560C6-C997-4987-A9E6-886A17E8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7E607-3244-4A31-8555-E266B35A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04E91-9979-465F-B800-BD40EE7B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73DD-6A55-4811-8DC6-EE6FE55F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56273-92FB-48EC-BECC-2F09139A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93AF0-03F1-49AB-836E-1400FFF1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E6112-8CB0-4AD5-8B84-2BE0FF9E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C9232-7F11-40FB-980B-86B8BE6D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50409-0E21-4057-91A8-5D4C2F49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7DAEB-C36C-41CB-855B-8004778A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00886-AFD4-4F39-BE06-CC48137B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0E836-F348-4111-804B-5669FCF8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D82A7-8A00-453C-9DA6-03185098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D6DED-181B-4574-8A35-14DEAD4D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1A5C-5657-4606-8414-DFAC7D7B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F74A3-3D9A-44C3-8E2C-EB68AF05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94CF6-217A-4BAB-957F-5A6F80C0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E006B-BC96-47BF-B32A-002BDF7B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AB295-37C3-4586-B007-801A1812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F915D-DBF0-4E9E-A257-1D495B8D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F07DF-B51E-41C5-ADD4-3980BE3B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A2039-D7E6-4A1D-83A7-CDABA540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16176-2553-4A28-82DF-5243CC69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A6F37-126B-4A5C-B37F-F2E2CF6E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C34D8-7971-41C0-9A6A-54780F62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8EAD-539C-4E83-926D-594E15BD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1451B-375E-45A1-BB3C-7C355C2D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59E08-D5C2-45BF-A76A-3875AD96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74650-6993-4547-9B11-EA6B7DC6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1CE2E-54F8-4BBB-A5C7-54A5432B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DB324-20F3-49DC-B7E7-A4CA668C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7C5FA7-7216-4841-97FD-F006668C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E58CD9-A866-4D3F-B78B-401A290C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D795AD-1F93-452A-9254-3DEAEE2D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C9D20E-9E10-422D-94A8-14778886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523F4C-8986-44C3-8385-24FA24CE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D18C-9C24-42A6-93AC-92BA99F9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E8510A-4B1F-4604-8C77-B8AADBAE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F0D9A-760A-464C-AD10-0E742C23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F51C3E-D1CA-4BF9-9FCC-BEDB7464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4B6090-8A29-4406-BAAC-F7451CAD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23C326-8A21-43FE-9E1B-876CD02C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FAD642-63D4-4D5E-944F-4C4F064B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5819DD-6936-4A9F-8DE3-14E9CDB6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7B8C75-A180-4E45-BC61-6E79C5B5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FEE566-B2C4-494A-82EE-19A911AC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956DAD-B013-451A-97F2-32CB5ACF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15B8-886F-40AB-96B7-A3347439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6F6E3F-615C-4F58-96C3-6C46996E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C7C8E6-D26D-4A62-827E-EE088E6F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33C34D-7344-4C56-88A0-D99FD8FE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58E755-9796-45AE-936C-604CE4CF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4EE3F0-682A-4E72-A099-A380D431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1EB84D-4906-4FCE-A4AE-F4BB9689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B4EF41-8124-463A-941A-07A2E45A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B9FBB0-912D-48E9-8E17-F34906DE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62041D-ECC6-4F8D-B8BF-6530E475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682A86-6B80-4FD3-962C-F72DBAB7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4243-5609-48D7-ABA0-895A5CEF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FA7DB1-66E4-4BEA-9C6A-C4E0B93E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67289D-06E2-4BEE-9ACC-4BCF01A3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12E1C2-A052-499D-8EEC-F5F3C615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6C5BD4-C25E-488B-B19C-0CDF3C9C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D7EDFF-D263-448F-A35C-79E32607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6A8C45-C2A5-46CA-B656-74640A1A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07F1FC-F10B-4E7A-9B86-3AC42D22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FEF278-3790-468A-91B3-FF635009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D0F188-162E-4DA5-9498-D655AB59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F0C57F-E1F3-4FAA-94AF-EEFA4C61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790E-391E-4DD9-80A3-6CDE5BE8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7E1613-1953-4738-899F-3BEB07B3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26E0DA-C982-4C2F-A44E-75E5E3F1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F77291-58F3-41CF-ACC7-A111C45C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F75A80-9E8B-4088-A7C0-EA20344C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42C12C-646A-486B-A09E-A8042B20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53FDCB-9FD5-4F2A-A940-EF696E7E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A23B3A-E1B2-4B28-A779-649B820F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0000E6-9435-4684-9C16-3195AFAD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7D3DCF-2708-4355-8BAD-3E564F24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2EEB9F-8AC3-4E64-8C1E-430FC748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56E0-CA85-406A-882A-8E7683F9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E4ADCE-B648-4333-8937-11283D14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3E9E48-82C3-44C3-B155-9C811345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856786-024B-4CD1-AC30-2663CB31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84B8B5-7931-48FB-90C0-C16B9222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A3E1B8-37A0-4ABC-8FD1-74B52B8E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A0C21F-114A-45C0-AC4D-6B33970A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004B01-A83C-4E75-91E3-F09FEA59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730101-CFC9-41B3-8DAD-35255DD1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6482E0-4601-40FA-9A5C-6B153AAB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4703B3-FD81-42D5-96A5-36B5DF13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1D04-5CC0-4415-967D-347BA61D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970D-12F6-476B-8DCF-3D6452A7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A7F7C9-5636-434A-B3D0-8394236F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E500E6-0C10-42F1-AF32-2A4C4414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73B2BD-ECE8-4055-8855-41B49202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5CA4B1-FB23-4F4E-B881-A53C45F9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50BC78-C554-43D9-B156-111921DB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EDF9-AF11-43FC-8264-18B16BAF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3FB9-8D7B-4EDE-BC01-B1FE586B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58E8-9A70-41B1-A9F4-F8B5F295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1E9F-4375-4D91-BCB8-7B7C33DA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22D5A-3564-4958-8470-CCA238A2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A0E1C-44DD-4A2C-966D-0BEF62BF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7BE24-E000-4E8C-AE36-27D4B62A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B4E2D-7243-4B3D-BC12-67047028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E818B-BFF3-441C-9C35-5A7D0665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8423-841F-461A-929A-876A5F27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9EFEB-7702-4C23-885F-3D218F80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9BE3D-DD51-472C-B25E-543D331C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CEDCD-6B6F-45B9-BE16-6DD6C320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4584F-DB63-42F5-8489-225CEE46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004DA-0660-4629-9237-B522D959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35880-E3B2-4FDA-A849-10FDD1D9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69240-7FC0-4840-9D3F-2DB5BA0A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7D914-7554-4A95-8964-5F2E21DB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4944D-37C3-4BA4-944C-197D0EC6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4A826-935A-4D2C-9580-CBAB037D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D4DC-282E-4455-B34E-155F962F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11881-9965-4D63-B9CC-995FADE6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6FAED-32C7-4430-AA8B-52AA5E5A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5A9D2-67EF-4424-BDC0-039ABA65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6176E-8D10-4C4F-969F-9C27C817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7531F-C771-4F33-9DF6-2C3CC1BC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D13F6-D965-4B35-9ACB-929B4F0D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C256E-74FC-4D2C-BEAD-DC6C1176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B4448-D9B0-408B-A826-893A5EFB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66F75-999C-42E5-960F-D3281011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EEE78-843F-45E0-AF77-A9CFF3D5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B13F-1629-41E9-B9D3-CE7A9D4F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55035-5CB8-4875-BE16-CE9DA1EE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F68C7-AB8D-4DBC-8B79-8E89BC2F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C1CCF-A302-4E4D-9D68-2D547828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D7433-C266-4D39-B9C1-FA00E191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021EC-C11E-43BE-BC42-0166E907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A1C41-7F53-48CF-AD72-5D18F8AD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49DA6-6F7D-4F49-84E7-ABF1647E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1D7CF-94BA-4D25-966E-B9B7CDF4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85C90-9518-4309-96E3-C7B38B3F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683CD-584F-4C7F-ABCC-390C2AB6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423-A91E-4D08-A648-4EC45EA6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569B7-CF71-426B-8807-EFDDD112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6A592-F88E-4362-8905-8555B0D1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49D44-008F-4B94-8850-1E847CCE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9AA37-CED0-4EF6-96F9-AF1EF4F5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57101-94E0-47C4-A358-82B6D21B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DE1B5-DD98-4380-B8A3-9E844FCD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5C2F9-BBD3-44CE-B76C-2CABB7C1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F75EA-FB6B-4B62-8787-F762E542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E3E6F-D713-473C-933D-27F22707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09D1C-1F62-47BD-A7F0-A05109E7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A7C5-ED41-466C-9032-7BE5C6F9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D4C7D-FAE7-4EE1-A792-BE9BB807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676F3-8BC2-4CFC-B7D3-5F47EE47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B6E39-82EC-4D6E-9027-11DCCB98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A6A61-A5F6-49B0-87F1-B755975F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5C404-F626-4117-A275-B051904E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94F16-2D74-4121-AE51-9389A200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13084-9C8F-409C-9E96-63C1762D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CBF86-8E2B-495B-80B6-1A67401C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2CD16-9BE0-4860-975D-07FE1F62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2D876-1D0D-4E80-8426-99EC502B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D2B6-B6E1-433F-A6D9-7BC33AE9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3752F-A736-4CB5-BF89-411AE4B9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409BA-60FB-48AB-86D8-CC938429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57CF2-2FC0-4128-9B76-AD0B4046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B9E68-149C-4358-8DA3-708B9B39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D321A-C817-4E4C-B373-325B4F9E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A69FE-D7A0-4C0C-87E1-A5CE547B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D2F84-2EA4-4963-B9C8-919B193C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DDD39-37EF-4812-8E7E-D0382844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1262D-DFDE-49DC-B38B-B10E86BC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07295-A48D-40F1-AA7A-03BCF76D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09D0-E62B-489B-A11F-F129003E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AD2F1-ED3E-46C0-B28F-6085506D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F3DA8-7CFE-4422-8142-26A65506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43436-5E6F-478E-8057-585F6815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46515-1C3B-4B73-8290-8F1802D8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7EF25-0C85-456D-9B77-4A6E91F7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BAF8B-041A-40A1-BF5D-B6E0016C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7E2AA-AD3F-4374-8BBE-8A6234BB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590D3-6A4A-44D3-B5C4-FDF7C4B1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B8316-3216-4A7F-AD11-E12F21B4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AC430-D27C-421E-8708-3DFEE0D6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D15B-455C-4B1E-AF62-AE9EFF412F16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F8C0-7A8C-463B-9956-BE01338588D9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B951-CC1E-47B3-B708-5E4B08DCE3F3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b59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b59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A994-E90B-46A1-A439-E6F642AA1BAB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61D6-3B36-48C6-82C1-93AB3A721FF6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b59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b59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B956-8BFF-4451-B9C2-5286CA17DC98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A834-3BAB-44C0-8F76-38B94734D88C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6216-9614-49C9-BBFE-0BB553E0685D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D457-C854-4EA0-A7F9-74F905081CF7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93F1-84C0-4CC5-BCD7-8F6F10F809CF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3EE7-E81D-4489-824A-D848E825DA04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F572-260A-4126-A05C-1E23D75FB419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6298-697E-4861-8915-B09AD09A42F6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288E-E1D6-465F-8CC0-F2D6952DE2DC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164C-A8A1-4B18-84C8-9A00BB4EBE74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F89E-A336-487F-965B-32E5621BDFDD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2A69-205B-4472-89A3-40344A04539D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upo 9"/>
          <p:cNvGrpSpPr/>
          <p:nvPr/>
        </p:nvGrpSpPr>
        <p:grpSpPr>
          <a:xfrm>
            <a:off x="539640" y="1844640"/>
            <a:ext cx="8064720" cy="2927880"/>
            <a:chOff x="539640" y="1844640"/>
            <a:chExt cx="8064720" cy="2927880"/>
          </a:xfrm>
        </p:grpSpPr>
        <p:sp>
          <p:nvSpPr>
            <p:cNvPr id="1177" name="Rectángulo 2"/>
            <p:cNvSpPr/>
            <p:nvPr/>
          </p:nvSpPr>
          <p:spPr>
            <a:xfrm>
              <a:off x="539640" y="1844640"/>
              <a:ext cx="8064720" cy="29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800" spc="-1" strike="noStrike">
                  <a:solidFill>
                    <a:srgbClr val="000000"/>
                  </a:solidFill>
                  <a:latin typeface="Century Gothic"/>
                </a:rPr>
                <a:t>LOS DOS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7200" spc="-1" strike="noStrike">
                  <a:solidFill>
                    <a:srgbClr val="000000"/>
                  </a:solidFill>
                  <a:latin typeface="Baskerville Old Face"/>
                  <a:ea typeface="Andalus"/>
                </a:rPr>
                <a:t>LENGUAJES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800" spc="-1" strike="noStrike">
                  <a:solidFill>
                    <a:srgbClr val="000000"/>
                  </a:solidFill>
                  <a:latin typeface="Century Gothic"/>
                </a:rPr>
                <a:t>DE LA </a:t>
              </a:r>
              <a:r>
                <a:rPr b="0" lang="es-ES" sz="6600" spc="-1" strike="noStrike">
                  <a:solidFill>
                    <a:srgbClr val="000000"/>
                  </a:solidFill>
                  <a:latin typeface="Century Gothic"/>
                </a:rPr>
                <a:t>PROVIDENCIA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Conector recto 6"/>
            <p:cNvSpPr/>
            <p:nvPr/>
          </p:nvSpPr>
          <p:spPr>
            <a:xfrm>
              <a:off x="2051640" y="3575160"/>
              <a:ext cx="3600360" cy="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Conector recto 10"/>
            <p:cNvSpPr/>
            <p:nvPr/>
          </p:nvSpPr>
          <p:spPr>
            <a:xfrm>
              <a:off x="6092640" y="3575160"/>
              <a:ext cx="927720" cy="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ángulo 1"/>
          <p:cNvSpPr/>
          <p:nvPr/>
        </p:nvSpPr>
        <p:spPr>
          <a:xfrm>
            <a:off x="701640" y="2133720"/>
            <a:ext cx="754236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Fueron todos ligados a las palabras de verdad, a fin de que sus lecciones fuesen así traídas a menudo a la memoria, aún en medio de los cuidados de la vida de trabajo del homb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ángulo 1"/>
          <p:cNvSpPr/>
          <p:nvPr/>
        </p:nvSpPr>
        <p:spPr>
          <a:xfrm>
            <a:off x="971640" y="212868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l Espíritu Santo exalta y glorifica al Salvador. Es su oficio presentar a Cristo, la pureza de su justicia y la gran salvación que tenemos por é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ángulo 1"/>
          <p:cNvSpPr/>
          <p:nvPr/>
        </p:nvSpPr>
        <p:spPr>
          <a:xfrm>
            <a:off x="1116000" y="2349360"/>
            <a:ext cx="676908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Jesús dice: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“El tomará de lo mío, y os lo anunciará”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San Juan 16: 14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ángulo 1"/>
          <p:cNvSpPr/>
          <p:nvPr/>
        </p:nvSpPr>
        <p:spPr>
          <a:xfrm>
            <a:off x="1835280" y="2276640"/>
            <a:ext cx="56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 Espíritu de verdad es el único maestro eficaz de la verdad div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ángulo 1"/>
          <p:cNvSpPr/>
          <p:nvPr/>
        </p:nvSpPr>
        <p:spPr>
          <a:xfrm>
            <a:off x="1349280" y="2160720"/>
            <a:ext cx="646272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¡Cuánto no estimará Dios a la raza humana, siendo que dio a su Hijo para que muriese por ella y manda su Espíritu para que sea el maestro y continuo guía del hombre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ángulo 1"/>
          <p:cNvSpPr/>
          <p:nvPr/>
        </p:nvSpPr>
        <p:spPr>
          <a:xfrm>
            <a:off x="900000" y="2276640"/>
            <a:ext cx="72723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Dios quiere que sus hijos aprecien sus obras y se deleiten en la sencilla y tranquila hermosura con que él ha adornado nuestra morada terren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ángulo 1"/>
          <p:cNvSpPr/>
          <p:nvPr/>
        </p:nvSpPr>
        <p:spPr>
          <a:xfrm>
            <a:off x="1494000" y="2276640"/>
            <a:ext cx="595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l es amante de lo bello y, sobre todo, ama la belleza del carácter, que es más atractiva que todo lo exte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ángulo 1"/>
          <p:cNvSpPr/>
          <p:nvPr/>
        </p:nvSpPr>
        <p:spPr>
          <a:xfrm>
            <a:off x="1098720" y="234936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y quiere que cultivemos la pureza y la sencillez, las gracias características de las fl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ángulo 1"/>
          <p:cNvSpPr/>
          <p:nvPr/>
        </p:nvSpPr>
        <p:spPr>
          <a:xfrm>
            <a:off x="1062000" y="2079720"/>
            <a:ext cx="696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i tan sólo queremos escuchar, las obras que Dios ha hecho nos enseñarán lecciones preciosas de obediencia  y confian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ángulo 1"/>
          <p:cNvSpPr/>
          <p:nvPr/>
        </p:nvSpPr>
        <p:spPr>
          <a:xfrm>
            <a:off x="684360" y="227664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sde las estrellas que en su carrera por el espacio sin huellas siguen de siglo en siglo sus sendas asign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ángulo 1"/>
          <p:cNvSpPr/>
          <p:nvPr/>
        </p:nvSpPr>
        <p:spPr>
          <a:xfrm>
            <a:off x="755640" y="2781360"/>
            <a:ext cx="74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asta el átomo más pequeño, las cosas de la naturaleza obedecen a la voluntad del Cre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ángulo 1"/>
          <p:cNvSpPr/>
          <p:nvPr/>
        </p:nvSpPr>
        <p:spPr>
          <a:xfrm>
            <a:off x="1152360" y="2565360"/>
            <a:ext cx="67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Y Dios cuida y sostiene todas las cosas que ha cre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ángulo 1"/>
          <p:cNvSpPr/>
          <p:nvPr/>
        </p:nvSpPr>
        <p:spPr>
          <a:xfrm>
            <a:off x="1187280" y="2060640"/>
            <a:ext cx="676944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El que sustenta los innumerables mundos diseminados por la inmensidad, también tiene cuidado del gorrioncillo que entona sin temor su humilde can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ángulo 1"/>
          <p:cNvSpPr/>
          <p:nvPr/>
        </p:nvSpPr>
        <p:spPr>
          <a:xfrm>
            <a:off x="900000" y="2322360"/>
            <a:ext cx="732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uando los hombres van a su trabajo o están orando; cuando descansan o se levantan por la mañ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24000" y="2133720"/>
            <a:ext cx="6804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000" spc="-1" strike="noStrike">
                <a:solidFill>
                  <a:srgbClr val="262626"/>
                </a:solidFill>
                <a:latin typeface="Calibri"/>
              </a:rPr>
              <a:t>Son muchas las formas en que Dios está procurando dársenos a conocer y ponernos en comunión con él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ángulo 1"/>
          <p:cNvSpPr/>
          <p:nvPr/>
        </p:nvSpPr>
        <p:spPr>
          <a:xfrm>
            <a:off x="1042920" y="2421000"/>
            <a:ext cx="705816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cuando el rico se sacia en el palacio, o cuando el pobre reúne a sus hijos alrededor de su escasa mesa, el Padre celestial vigila tiernamente a tod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ángulo 1"/>
          <p:cNvSpPr/>
          <p:nvPr/>
        </p:nvSpPr>
        <p:spPr>
          <a:xfrm>
            <a:off x="1619280" y="2027160"/>
            <a:ext cx="597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se derraman lágrimas sin que él lo n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hay sonrisa que para él pase inadver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ángulo 1"/>
          <p:cNvSpPr/>
          <p:nvPr/>
        </p:nvSpPr>
        <p:spPr>
          <a:xfrm>
            <a:off x="1547640" y="2205000"/>
            <a:ext cx="633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i creyéramos plenamente esto, toda ansiedad indebida desaparec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ángulo 1"/>
          <p:cNvSpPr/>
          <p:nvPr/>
        </p:nvSpPr>
        <p:spPr>
          <a:xfrm>
            <a:off x="1187280" y="2205000"/>
            <a:ext cx="669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Nuestras vidas no estarían tan llenas de desengaños como aho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ángulo 1"/>
          <p:cNvSpPr/>
          <p:nvPr/>
        </p:nvSpPr>
        <p:spPr>
          <a:xfrm>
            <a:off x="971640" y="2276640"/>
            <a:ext cx="712944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porque cada cosa, debe dejarse en las manos de Dios, quien no se confunde por la multiplicidad de los cuidados, ni se abruma por su pes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ángulo 1"/>
          <p:cNvSpPr/>
          <p:nvPr/>
        </p:nvSpPr>
        <p:spPr>
          <a:xfrm>
            <a:off x="1547640" y="1989000"/>
            <a:ext cx="617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Gozaríamos entonces del reposo del alma al cual muchos han sido por largo tiempo extra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ángulo 1"/>
          <p:cNvSpPr/>
          <p:nvPr/>
        </p:nvSpPr>
        <p:spPr>
          <a:xfrm>
            <a:off x="1332000" y="1989000"/>
            <a:ext cx="637200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Cuando vuestros sentidos se deleiten en la amena belleza de la tierra, pensad en el mundo venidero que nunca conocerá mancha de pecado  ni de muer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ángulo 1"/>
          <p:cNvSpPr/>
          <p:nvPr/>
        </p:nvSpPr>
        <p:spPr>
          <a:xfrm>
            <a:off x="1349280" y="2205000"/>
            <a:ext cx="631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onde la faz de la naturaleza no llevará más la sombra de la mald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ángulo 1"/>
          <p:cNvSpPr/>
          <p:nvPr/>
        </p:nvSpPr>
        <p:spPr>
          <a:xfrm>
            <a:off x="1027080" y="2006640"/>
            <a:ext cx="700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Que vuestra imaginación represente la morada de los justos y entonces recordad que será más gloriosa que cuanto pueda figurarse la más brillante imagin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ángulo 1"/>
          <p:cNvSpPr/>
          <p:nvPr/>
        </p:nvSpPr>
        <p:spPr>
          <a:xfrm>
            <a:off x="1187280" y="1916280"/>
            <a:ext cx="684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n los variados dones de Dios en la naturaleza no vemos sino el reflejo más pálido de su gl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ángulo 1"/>
          <p:cNvSpPr/>
          <p:nvPr/>
        </p:nvSpPr>
        <p:spPr>
          <a:xfrm>
            <a:off x="1854360" y="2413080"/>
            <a:ext cx="5597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a naturaleza habla sin cesar a nuestros sent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ángulo 1"/>
          <p:cNvSpPr/>
          <p:nvPr/>
        </p:nvSpPr>
        <p:spPr>
          <a:xfrm>
            <a:off x="971640" y="1946160"/>
            <a:ext cx="72007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á escrito: 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¡Cosas que ojo no vio, ni oído oyó, y que jamás entraron en pensamiento humano - las cosas grandes que ha preparado Dios para los que le aman!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1 Corintios 2: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ángulo 2"/>
          <p:cNvSpPr/>
          <p:nvPr/>
        </p:nvSpPr>
        <p:spPr>
          <a:xfrm>
            <a:off x="1258920" y="1844640"/>
            <a:ext cx="653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El poeta y el naturalista tienen muchas cosas que decir acerca de la naturalez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ángulo 1"/>
          <p:cNvSpPr/>
          <p:nvPr/>
        </p:nvSpPr>
        <p:spPr>
          <a:xfrm>
            <a:off x="1258920" y="2128680"/>
            <a:ext cx="655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ero es el cristiano el que más goza de la belleza de la tier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ángulo 1"/>
          <p:cNvSpPr/>
          <p:nvPr/>
        </p:nvSpPr>
        <p:spPr>
          <a:xfrm>
            <a:off x="1332000" y="1989000"/>
            <a:ext cx="667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orque reconoce la obra de la mano de su Padre y percibe su amor en la flor, el arbusto y el ár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ángulo 1"/>
          <p:cNvSpPr/>
          <p:nvPr/>
        </p:nvSpPr>
        <p:spPr>
          <a:xfrm>
            <a:off x="1042920" y="200664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Nadie que no los mire como una expresión del amor de Dios al hombre puede apreciar plenamente la significación de la colina ni del valle, del río ni del m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ángulo 2"/>
          <p:cNvSpPr/>
          <p:nvPr/>
        </p:nvSpPr>
        <p:spPr>
          <a:xfrm>
            <a:off x="1258920" y="1852560"/>
            <a:ext cx="67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ios nos habla mediante sus obras providenciales y por la influencia de su Espíritu Santo en el coraz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ángulo 1"/>
          <p:cNvSpPr/>
          <p:nvPr/>
        </p:nvSpPr>
        <p:spPr>
          <a:xfrm>
            <a:off x="1187280" y="1862280"/>
            <a:ext cx="66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n nuestras circunstancias y ambiente, en los cambios que suceden diariamente en torno nuestro, podemos encontrar preciosas lec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ángulo 1"/>
          <p:cNvSpPr/>
          <p:nvPr/>
        </p:nvSpPr>
        <p:spPr>
          <a:xfrm>
            <a:off x="1332000" y="2349360"/>
            <a:ext cx="66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i tan sólo nuestros corazones están abiertos para recibir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ángulo 1"/>
          <p:cNvSpPr/>
          <p:nvPr/>
        </p:nvSpPr>
        <p:spPr>
          <a:xfrm>
            <a:off x="1187280" y="1916280"/>
            <a:ext cx="67694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l salmista, trazando la obra de la Providencia divina, dice: 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La tierra está llena de la misericordia de Jehová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Salmo 33 :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ángulo 1"/>
          <p:cNvSpPr/>
          <p:nvPr/>
        </p:nvSpPr>
        <p:spPr>
          <a:xfrm>
            <a:off x="900000" y="2333520"/>
            <a:ext cx="7344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"¡Quien sea sabio, observe estas cosas; y consideren todos la misericordia de Jehová!"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Salmo 107:4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ángulo 1"/>
          <p:cNvSpPr/>
          <p:nvPr/>
        </p:nvSpPr>
        <p:spPr>
          <a:xfrm>
            <a:off x="1258920" y="2273400"/>
            <a:ext cx="68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l corazón que está preparado quedará impresionado por el amor y la gloria de Dios tal como se revelan en las obras de sus ma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ángulo 1"/>
          <p:cNvSpPr/>
          <p:nvPr/>
        </p:nvSpPr>
        <p:spPr>
          <a:xfrm>
            <a:off x="900000" y="2060640"/>
            <a:ext cx="73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baseline="30000">
                <a:solidFill>
                  <a:srgbClr val="000000"/>
                </a:solidFill>
                <a:latin typeface="Calibri"/>
              </a:rPr>
              <a:t>Dios nos habla también en su Palab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n ella tenemos en líneas más claras la revelación de su carácter, de su trato con los hombres y de la gran obra de la reden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ángulo 1"/>
          <p:cNvSpPr/>
          <p:nvPr/>
        </p:nvSpPr>
        <p:spPr>
          <a:xfrm>
            <a:off x="1116000" y="2098800"/>
            <a:ext cx="691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n ella se nos presenta la historia de los patriarcas y profetas y de otros hombres santos de la antigüe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ángulo 1"/>
          <p:cNvSpPr/>
          <p:nvPr/>
        </p:nvSpPr>
        <p:spPr>
          <a:xfrm>
            <a:off x="1332000" y="1986120"/>
            <a:ext cx="65530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los eran hombres sujetos "a las mismas debilidades que nosotros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Santiago 5: 1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ángulo 1"/>
          <p:cNvSpPr/>
          <p:nvPr/>
        </p:nvSpPr>
        <p:spPr>
          <a:xfrm>
            <a:off x="1692360" y="1862280"/>
            <a:ext cx="59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emos cómo lucharon entre descorazonamientos como los nuestros, cómo cayeron bajo tentaciones como hemos caído noso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ángulo 1"/>
          <p:cNvSpPr/>
          <p:nvPr/>
        </p:nvSpPr>
        <p:spPr>
          <a:xfrm>
            <a:off x="1116000" y="2200320"/>
            <a:ext cx="712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y sin embargo, cobraron nuevo valor y vencieron por la gracia de Dios; y recordándolos, nos animamos en nuestra lucha por la justi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ángulo 1"/>
          <p:cNvSpPr/>
          <p:nvPr/>
        </p:nvSpPr>
        <p:spPr>
          <a:xfrm>
            <a:off x="1258920" y="1844640"/>
            <a:ext cx="669780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Al leer el relato de los preciosos sucesos que se les permitió experimentar, la luz, el amor y la bendición que les tocó gozar y la obra que hicieron por la gracia a ellos dada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ángulo 1"/>
          <p:cNvSpPr/>
          <p:nvPr/>
        </p:nvSpPr>
        <p:spPr>
          <a:xfrm>
            <a:off x="1258920" y="2060640"/>
            <a:ext cx="684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l espíritu que los inspiró enciende en nosotros un fuego de santo celo y un deseo de ser como ellos en carácter y de andar con Dios como ell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ángulo 1"/>
          <p:cNvSpPr/>
          <p:nvPr/>
        </p:nvSpPr>
        <p:spPr>
          <a:xfrm>
            <a:off x="1332000" y="1628640"/>
            <a:ext cx="655308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Jesús dijo de las Escrituras del Antiguo Testamento -y ¡cuánto más cierto es esto acerca del Nuevo!: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  "Ellas son las que dan testimonio de mí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San Juan 5: 3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ángulo 1"/>
          <p:cNvSpPr/>
          <p:nvPr/>
        </p:nvSpPr>
        <p:spPr>
          <a:xfrm>
            <a:off x="1494000" y="2282760"/>
            <a:ext cx="617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Redentor, Aquel en quien vuestras esperanzas de vida eterna se concentr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ángulo 1"/>
          <p:cNvSpPr/>
          <p:nvPr/>
        </p:nvSpPr>
        <p:spPr>
          <a:xfrm>
            <a:off x="900000" y="2205000"/>
            <a:ext cx="720108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í, la Biblia entera nos habla de Cristo. Desde el primer relato de la creación, de la cual se dice: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  "Sin él nada de lo que es hecho, fue hecho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San Juan 1: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ángulo 1"/>
          <p:cNvSpPr/>
          <p:nvPr/>
        </p:nvSpPr>
        <p:spPr>
          <a:xfrm>
            <a:off x="1619280" y="2200320"/>
            <a:ext cx="581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l oído atento puede escuchar y entender las comunicaciones de Dios por las cosas de la naturale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ángulo 1"/>
          <p:cNvSpPr/>
          <p:nvPr/>
        </p:nvSpPr>
        <p:spPr>
          <a:xfrm>
            <a:off x="1116000" y="1989000"/>
            <a:ext cx="69850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hasta la última prom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¡He aquí, yo vengo presto!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Apocalipsis 22: 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leemos acerca de sus obras y escuchamos su voz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ángulo 1"/>
          <p:cNvSpPr/>
          <p:nvPr/>
        </p:nvSpPr>
        <p:spPr>
          <a:xfrm>
            <a:off x="1565280" y="2097000"/>
            <a:ext cx="588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i deseáis conocer al Salvador, estudiad las Santas Escri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ángulo 1"/>
          <p:cNvSpPr/>
          <p:nvPr/>
        </p:nvSpPr>
        <p:spPr>
          <a:xfrm>
            <a:off x="1619280" y="1844640"/>
            <a:ext cx="603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lenad vuestro corazón de las palabras de Dios. Son el agua viva que apaga vuestra 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ángulo 1"/>
          <p:cNvSpPr/>
          <p:nvPr/>
        </p:nvSpPr>
        <p:spPr>
          <a:xfrm>
            <a:off x="1258920" y="2133720"/>
            <a:ext cx="66261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on el pan vivo que descendió del cielo. Jesús declara: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  "A menos que comáis la carne del Hijo del hombre, y bebáis su sangre, no tendréis vida en vosotro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ángulo 1"/>
          <p:cNvSpPr/>
          <p:nvPr/>
        </p:nvSpPr>
        <p:spPr>
          <a:xfrm>
            <a:off x="1187280" y="1844640"/>
            <a:ext cx="684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Y al explicarse, dice: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 "Las palabras que yo os he hablado espíritu y vida son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San Juan 6: 53, 63)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ángulo 1"/>
          <p:cNvSpPr/>
          <p:nvPr/>
        </p:nvSpPr>
        <p:spPr>
          <a:xfrm>
            <a:off x="1925640" y="2313000"/>
            <a:ext cx="545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Nuestros cuerpos viven de lo que comemos y beb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ángulo 1"/>
          <p:cNvSpPr/>
          <p:nvPr/>
        </p:nvSpPr>
        <p:spPr>
          <a:xfrm>
            <a:off x="1116000" y="2333520"/>
            <a:ext cx="7056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y lo que sucede en la vida natural sucede en la espiritual: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lo que meditamos es lo que da tono y vigor a nuestra naturaleza espirit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ángulo 1"/>
          <p:cNvSpPr/>
          <p:nvPr/>
        </p:nvSpPr>
        <p:spPr>
          <a:xfrm>
            <a:off x="1422360" y="2276640"/>
            <a:ext cx="638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 tema de la redención es un tema que los ángeles desean escudriñ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ángulo 1"/>
          <p:cNvSpPr/>
          <p:nvPr/>
        </p:nvSpPr>
        <p:spPr>
          <a:xfrm>
            <a:off x="1403280" y="1844640"/>
            <a:ext cx="633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erá la ciencia y el canto de los redimidos durante las interminables edades de la etern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ángulo 1"/>
          <p:cNvSpPr/>
          <p:nvPr/>
        </p:nvSpPr>
        <p:spPr>
          <a:xfrm>
            <a:off x="1619280" y="2170080"/>
            <a:ext cx="588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¿No es un pensamiento digno de atención y estudio ahor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ángulo 1"/>
          <p:cNvSpPr/>
          <p:nvPr/>
        </p:nvSpPr>
        <p:spPr>
          <a:xfrm>
            <a:off x="900000" y="2089080"/>
            <a:ext cx="712800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Los verdes campos, los elevados árboles, los botones y las flores, la nubecilla que pasa, la lluvia que cae, el arroyo que murmura, las glorias de los cielos, hablan a nuestro coraz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ángulo 1"/>
          <p:cNvSpPr/>
          <p:nvPr/>
        </p:nvSpPr>
        <p:spPr>
          <a:xfrm>
            <a:off x="1042920" y="227340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La Infinita misericordia y el amor de Jesús, el sacrificio hecho en nuestro favor, demandan de nosotros la más seria y solemne reflex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ángulo 1"/>
          <p:cNvSpPr/>
          <p:nvPr/>
        </p:nvSpPr>
        <p:spPr>
          <a:xfrm>
            <a:off x="1258920" y="2241720"/>
            <a:ext cx="675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ebemos espaciarnos en el carácter de nuestro querido Redentor e Interce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ángulo 1"/>
          <p:cNvSpPr/>
          <p:nvPr/>
        </p:nvSpPr>
        <p:spPr>
          <a:xfrm>
            <a:off x="1619280" y="2060640"/>
            <a:ext cx="612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ebemos meditar sobre la misión de Aquel que vino a salvar a su pueblo de sus pe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ángulo 1"/>
          <p:cNvSpPr/>
          <p:nvPr/>
        </p:nvSpPr>
        <p:spPr>
          <a:xfrm>
            <a:off x="1042920" y="2130480"/>
            <a:ext cx="7129440" cy="27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uando contemplemos así los asuntos celestiales, </a:t>
            </a: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nuestra fe y amor serán más fuertes y nuestras oraciones más aceptables a Dios, porque se elevarán siempre con más fe y amo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ángulo 1"/>
          <p:cNvSpPr/>
          <p:nvPr/>
        </p:nvSpPr>
        <p:spPr>
          <a:xfrm>
            <a:off x="1547640" y="2276640"/>
            <a:ext cx="60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erán inteligentes y fervien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ángulo 1"/>
          <p:cNvSpPr/>
          <p:nvPr/>
        </p:nvSpPr>
        <p:spPr>
          <a:xfrm>
            <a:off x="1332000" y="2060640"/>
            <a:ext cx="660564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Habrá una confianza constante en Jesús y una experiencia viva y diaria en su poder de salvar completamente a todos los que van a Dios por medio de É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ángulo 1"/>
          <p:cNvSpPr/>
          <p:nvPr/>
        </p:nvSpPr>
        <p:spPr>
          <a:xfrm>
            <a:off x="1332000" y="1989000"/>
            <a:ext cx="669600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A medida que meditemos en la perfección del Salvador, desearemos ser enteramente  transformados y renovados conforme a la imagen de su purez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ángulo 1"/>
          <p:cNvSpPr/>
          <p:nvPr/>
        </p:nvSpPr>
        <p:spPr>
          <a:xfrm>
            <a:off x="1422360" y="2068560"/>
            <a:ext cx="631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Nuestra alma tendrá hambre y sed de ser hecha como Aquel a quien ador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ángulo 1"/>
          <p:cNvSpPr/>
          <p:nvPr/>
        </p:nvSpPr>
        <p:spPr>
          <a:xfrm>
            <a:off x="1258920" y="1916280"/>
            <a:ext cx="6626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Mientras más concentremos nuestros pensamientos en Cristo, más hablaremos de él a otros y lo representaremos ante el mu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ángulo 1"/>
          <p:cNvSpPr/>
          <p:nvPr/>
        </p:nvSpPr>
        <p:spPr>
          <a:xfrm>
            <a:off x="1619280" y="2098800"/>
            <a:ext cx="603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a Biblia no fue escrita solamente para el hombre erudito; al contrario, fue destinada a la gente comú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ángulo 1"/>
          <p:cNvSpPr/>
          <p:nvPr/>
        </p:nvSpPr>
        <p:spPr>
          <a:xfrm>
            <a:off x="1547640" y="2349360"/>
            <a:ext cx="595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y nos invitan a conocer a Aquel que lo hizo to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ángulo 1"/>
          <p:cNvSpPr/>
          <p:nvPr/>
        </p:nvSpPr>
        <p:spPr>
          <a:xfrm>
            <a:off x="971640" y="2205000"/>
            <a:ext cx="705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as grandes verdades necesarias para la salvación están presentadas con tanta claridad como la luz del mediod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ángulo 1"/>
          <p:cNvSpPr/>
          <p:nvPr/>
        </p:nvSpPr>
        <p:spPr>
          <a:xfrm>
            <a:off x="990720" y="2276640"/>
            <a:ext cx="696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y nadie equivocará o perderá el camino, salvo los que sigan su juicio privado en vez de la voluntad divina tan claramente revel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ángulo 1"/>
          <p:cNvSpPr/>
          <p:nvPr/>
        </p:nvSpPr>
        <p:spPr>
          <a:xfrm>
            <a:off x="1349280" y="2170080"/>
            <a:ext cx="639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debemos conformarnos con el testimonio de ningún hombre en cuanto a lo que enseñan las Santas Escritu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ángulo 1"/>
          <p:cNvSpPr/>
          <p:nvPr/>
        </p:nvSpPr>
        <p:spPr>
          <a:xfrm>
            <a:off x="1349280" y="2313000"/>
            <a:ext cx="639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ino que debemos estudiar las palabras de Dios por nosotros mis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ángulo 1"/>
          <p:cNvSpPr/>
          <p:nvPr/>
        </p:nvSpPr>
        <p:spPr>
          <a:xfrm>
            <a:off x="1206360" y="2098800"/>
            <a:ext cx="667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i dejamos que otros piensen por nosotros, nuestra energía quedará mutilada y limitadas nuestras aptitu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ángulo 1"/>
          <p:cNvSpPr/>
          <p:nvPr/>
        </p:nvSpPr>
        <p:spPr>
          <a:xfrm>
            <a:off x="1258920" y="2098800"/>
            <a:ext cx="646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as nobles facultades del alma pueden perder tanto por no ejercitarse en temas dignos de su concentració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ángulo 1"/>
          <p:cNvSpPr/>
          <p:nvPr/>
        </p:nvSpPr>
        <p:spPr>
          <a:xfrm>
            <a:off x="1547640" y="1996920"/>
            <a:ext cx="60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que lleguen a ser incapaces de penetrar la profunda significación de la Palabra de D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ángulo 1"/>
          <p:cNvSpPr/>
          <p:nvPr/>
        </p:nvSpPr>
        <p:spPr>
          <a:xfrm>
            <a:off x="1170000" y="206064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La inteligencia se desarrollará si se emplea en investigar la relación de los asuntos de la Biblia, comparando texto con texto y lo espiritual con lo espirit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ángulo 1"/>
          <p:cNvSpPr/>
          <p:nvPr/>
        </p:nvSpPr>
        <p:spPr>
          <a:xfrm>
            <a:off x="1349280" y="2027160"/>
            <a:ext cx="631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hay ninguna cosa mejor para fortalecer la inteligencia que el estudio de las Santas Escritu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ángulo 1"/>
          <p:cNvSpPr/>
          <p:nvPr/>
        </p:nvSpPr>
        <p:spPr>
          <a:xfrm>
            <a:off x="1116000" y="2133720"/>
            <a:ext cx="669600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Ningún libro es tan potente para elevar los pensamientos, para dar vigor a las facultades, como las grandes y ennoblecedoras verdades de la Bibli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ángulo 1"/>
          <p:cNvSpPr/>
          <p:nvPr/>
        </p:nvSpPr>
        <p:spPr>
          <a:xfrm>
            <a:off x="1258920" y="2276640"/>
            <a:ext cx="675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Nuestro Salvador entrelazó sus preciosas lecciones con las cosas de la naturale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ángulo 1"/>
          <p:cNvSpPr/>
          <p:nvPr/>
        </p:nvSpPr>
        <p:spPr>
          <a:xfrm>
            <a:off x="1243080" y="257976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Si se estudiara la Palabra de Dios como se deb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ángulo 1"/>
          <p:cNvSpPr/>
          <p:nvPr/>
        </p:nvSpPr>
        <p:spPr>
          <a:xfrm>
            <a:off x="1258920" y="2133720"/>
            <a:ext cx="655308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Los hombres tendrían una grandeza de espíritu, una nobleza de carácter y una firmeza de propósito, que raramente pueden verse en estos tiemp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ángulo 1"/>
          <p:cNvSpPr/>
          <p:nvPr/>
        </p:nvSpPr>
        <p:spPr>
          <a:xfrm>
            <a:off x="1565280" y="2098800"/>
            <a:ext cx="610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se saca sino un beneficio muy pequeño de una lectura precipitada de las Sagradas Escritu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ángulo 1"/>
          <p:cNvSpPr/>
          <p:nvPr/>
        </p:nvSpPr>
        <p:spPr>
          <a:xfrm>
            <a:off x="1476360" y="2273400"/>
            <a:ext cx="602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Uno puede leer toda la Biblia y quedarse, sin embargo, sin ver su belleza o comprender su sentido profundo y ocul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ángulo 1"/>
          <p:cNvSpPr/>
          <p:nvPr/>
        </p:nvSpPr>
        <p:spPr>
          <a:xfrm>
            <a:off x="1098720" y="220500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Un pasaje estudiado hasta que su significado nos parezca claro y evidentes sus relaciones con el plan de la salv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ángulo 1"/>
          <p:cNvSpPr/>
          <p:nvPr/>
        </p:nvSpPr>
        <p:spPr>
          <a:xfrm>
            <a:off x="900000" y="234936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s de mucho más valor que la lectura de muchos capítulos sin un propósito determinado y sin obtener ninguna instrucción pos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ángulo 1"/>
          <p:cNvSpPr/>
          <p:nvPr/>
        </p:nvSpPr>
        <p:spPr>
          <a:xfrm>
            <a:off x="1547640" y="2262240"/>
            <a:ext cx="61563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Tened vuestra Biblia a mano, para que cuando tengáis oportunidad la leáis; retened los textos en vuestra memori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ángulo 1"/>
          <p:cNvSpPr/>
          <p:nvPr/>
        </p:nvSpPr>
        <p:spPr>
          <a:xfrm>
            <a:off x="1619280" y="2136600"/>
            <a:ext cx="581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ún al ir por la calle, podéis leer un pasaje y meditar en él hasta que se grabe en la m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ángulo 1"/>
          <p:cNvSpPr/>
          <p:nvPr/>
        </p:nvSpPr>
        <p:spPr>
          <a:xfrm>
            <a:off x="1638360" y="2098800"/>
            <a:ext cx="581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podemos obtener sabiduría sin una atención verdadera y un estudio con o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ángulo 1"/>
          <p:cNvSpPr/>
          <p:nvPr/>
        </p:nvSpPr>
        <p:spPr>
          <a:xfrm>
            <a:off x="1349280" y="2027160"/>
            <a:ext cx="660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lgunas porciones de la Santa Escritura son en verdad demasiado claras para que se puedan entender 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ángulo 1"/>
          <p:cNvSpPr/>
          <p:nvPr/>
        </p:nvSpPr>
        <p:spPr>
          <a:xfrm>
            <a:off x="1547640" y="1935000"/>
            <a:ext cx="624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Los árboles, los pájaros, las flores, los valles, las colinas, los lagos y los hermosos cielos, así como los incidentes y las circunstancias de la vida di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ángulo 1"/>
          <p:cNvSpPr/>
          <p:nvPr/>
        </p:nvSpPr>
        <p:spPr>
          <a:xfrm>
            <a:off x="1422360" y="1844640"/>
            <a:ext cx="631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ero hay otras cuyo significado no es superficial, para que se vea a primera vis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ángulo 1"/>
          <p:cNvSpPr/>
          <p:nvPr/>
        </p:nvSpPr>
        <p:spPr>
          <a:xfrm>
            <a:off x="900000" y="2098800"/>
            <a:ext cx="73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e debe comparar pasaje con pasaje. De haber un escudriñamiento cuidadoso y una reflexión acompañada de o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ángulo 1"/>
          <p:cNvSpPr/>
          <p:nvPr/>
        </p:nvSpPr>
        <p:spPr>
          <a:xfrm>
            <a:off x="1332000" y="2097000"/>
            <a:ext cx="631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Y tal estudio será abundantemente recompens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ángulo 1"/>
          <p:cNvSpPr/>
          <p:nvPr/>
        </p:nvSpPr>
        <p:spPr>
          <a:xfrm>
            <a:off x="1709640" y="2170080"/>
            <a:ext cx="559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omo el minero descubre vetas de precioso metal ocultas debajo de la superficie de la tier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ángulo 1"/>
          <p:cNvSpPr/>
          <p:nvPr/>
        </p:nvSpPr>
        <p:spPr>
          <a:xfrm>
            <a:off x="990720" y="2243160"/>
            <a:ext cx="718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sí también el que perseverantemente escudriña la Palabra de Dios buscando sus tesoros ocultos, encontrará verdades del mayor valor, que se ocultan de la vista del investigador descuid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ángulo 1"/>
          <p:cNvSpPr/>
          <p:nvPr/>
        </p:nvSpPr>
        <p:spPr>
          <a:xfrm>
            <a:off x="1349280" y="2349360"/>
            <a:ext cx="624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Las palabras de la inspiración, examinadas en el alma, serán como ríos de agua que manan de la fuente de la v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ángulo 1"/>
          <p:cNvSpPr/>
          <p:nvPr/>
        </p:nvSpPr>
        <p:spPr>
          <a:xfrm>
            <a:off x="1584360" y="1868400"/>
            <a:ext cx="615636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Nunca se debe estudiar la Biblia sin oración. Antes de abrir sus páginas debemos pedir la iluminación del Espíritu Santo, y ésta nos será dad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ángulo 1"/>
          <p:cNvSpPr/>
          <p:nvPr/>
        </p:nvSpPr>
        <p:spPr>
          <a:xfrm>
            <a:off x="1278000" y="2027160"/>
            <a:ext cx="66787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uando Natanael vino a Jesús, el Salvador exclamó: 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"He aquí verdaderamente un israelita, en quien no hay engaño. Dícele Natanael: ¿De dónde me conoces? Jesús respondió y dijo: Antes que Felipe te llamara, cuando estabas debajo de la higuera, te vi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San Juan 1: 47, 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ángulo 1"/>
          <p:cNvSpPr/>
          <p:nvPr/>
        </p:nvSpPr>
        <p:spPr>
          <a:xfrm>
            <a:off x="1349280" y="2492280"/>
            <a:ext cx="646272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Así también nos verá Jesús en los lugares secretos de oración, si lo buscamos para que nos dé luz para saber lo que es la verda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ángulo 1"/>
          <p:cNvSpPr/>
          <p:nvPr/>
        </p:nvSpPr>
        <p:spPr>
          <a:xfrm>
            <a:off x="1565280" y="2136600"/>
            <a:ext cx="6175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os ángeles del mundo de luz estarán con los que busquen con humildad de corazón la dirección div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1T21:04:14Z</dcterms:created>
  <dc:creator>Orlando Rosales</dc:creator>
  <dc:description/>
  <dc:language>en-US</dc:language>
  <cp:lastModifiedBy>Karina de Martin</cp:lastModifiedBy>
  <dcterms:modified xsi:type="dcterms:W3CDTF">2017-03-13T19:25:51Z</dcterms:modified>
  <cp:revision>32</cp:revision>
  <dc:subject/>
  <dc:title>CAPÍTULO 10. Los Dos Lenguajes de la Providencia </dc:title>
</cp:coreProperties>
</file>